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8F9-E9BC-438C-8027-EEA8BC5F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FB4-19FC-467D-970F-AC7BE35C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3F0-673C-4F4C-864E-4A9A9B9B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C89-37E8-448A-8C66-659E8213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1B0C-263A-4304-90A0-0095FFED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97BB-43D6-417C-8AFD-9EFE32B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406F-CF68-4A28-A893-AE10EE40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D71-935C-455A-A75F-4F4B8B3B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91C7-8E30-457F-8FCE-4FBF698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80D-D1E6-48B1-95F5-3C54DBF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1018-12CF-4BB2-90E5-9DA841C3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763-2F6A-4448-98E5-CE2E28FD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4046-E34E-42AA-91D0-3070E897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1A3C-31AD-464D-B686-73DCC3A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D693-E8DB-45DB-9527-21D1261D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0D4E-DFA3-404E-B43E-9025AB93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1BEB-5386-464F-88F1-67BFD6AE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09A-1FC9-4B41-AD4C-9B21FDF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B00-A667-4CA1-9786-007BF6C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417-6E68-4738-9365-38E4D19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74E-BA35-4613-8454-06E2474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A2E-CE18-427C-BFCC-D01D89EE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30D-F6B8-4C18-823E-26D77D5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463-D0F7-400D-92F6-3C40840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6DFBF5A8-D298-412B-B668-7807CEBE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B338B71-6AD6-47E1-B789-352368AB2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e.gatech.edu/research/DSP/DSPFirstCD/visible/chapters/8feedbac/demos/recur/index.htm" TargetMode="External"/><Relationship Id="rId2" Type="http://schemas.openxmlformats.org/officeDocument/2006/relationships/hyperlink" Target="http://www.ece.gatech.edu/research/DSP/DSPFirstCD/visible/chapters/8feedbac/demos/z2freq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finite Impulse Response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177335C7-4C59-4994-9DF1-E87E31666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lter Structure As a Block Diagram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0"/>
              <p:cNvSpPr txBox="1"/>
              <p:nvPr/>
            </p:nvSpPr>
            <p:spPr>
              <a:xfrm>
                <a:off x="6908760" y="2004840"/>
                <a:ext cx="226548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4" name="Group 107"/>
          <p:cNvGrpSpPr/>
          <p:nvPr/>
        </p:nvGrpSpPr>
        <p:grpSpPr>
          <a:xfrm>
            <a:off x="152280" y="1295280"/>
            <a:ext cx="7543800" cy="5334120"/>
            <a:chOff x="152280" y="1295280"/>
            <a:chExt cx="7543800" cy="5334120"/>
          </a:xfrm>
        </p:grpSpPr>
        <p:sp>
          <p:nvSpPr>
            <p:cNvPr id="235" name="Oval 5"/>
            <p:cNvSpPr/>
            <p:nvPr/>
          </p:nvSpPr>
          <p:spPr>
            <a:xfrm>
              <a:off x="3581280" y="148104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152280" y="1295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33520" y="17524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693432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62"/>
            <p:cNvSpPr/>
            <p:nvPr/>
          </p:nvSpPr>
          <p:spPr>
            <a:xfrm>
              <a:off x="3048120" y="1752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63"/>
            <p:cNvSpPr/>
            <p:nvPr/>
          </p:nvSpPr>
          <p:spPr>
            <a:xfrm flipV="1">
              <a:off x="3048120" y="1828800"/>
              <a:ext cx="533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64"/>
            <p:cNvSpPr/>
            <p:nvPr/>
          </p:nvSpPr>
          <p:spPr>
            <a:xfrm flipV="1">
              <a:off x="3048120" y="1904760"/>
              <a:ext cx="60948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5"/>
            <p:cNvSpPr/>
            <p:nvPr/>
          </p:nvSpPr>
          <p:spPr>
            <a:xfrm flipV="1">
              <a:off x="3048120" y="1981080"/>
              <a:ext cx="76176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70"/>
            <p:cNvSpPr/>
            <p:nvPr/>
          </p:nvSpPr>
          <p:spPr>
            <a:xfrm>
              <a:off x="4114800" y="17524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80"/>
            <p:cNvSpPr/>
            <p:nvPr/>
          </p:nvSpPr>
          <p:spPr>
            <a:xfrm>
              <a:off x="6019920" y="6019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0"/>
            <p:cNvSpPr/>
            <p:nvPr/>
          </p:nvSpPr>
          <p:spPr>
            <a:xfrm flipH="1" flipV="1">
              <a:off x="4114800" y="182880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91"/>
            <p:cNvSpPr/>
            <p:nvPr/>
          </p:nvSpPr>
          <p:spPr>
            <a:xfrm flipH="1" flipV="1">
              <a:off x="4038480" y="1904760"/>
              <a:ext cx="45720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2"/>
            <p:cNvSpPr/>
            <p:nvPr/>
          </p:nvSpPr>
          <p:spPr>
            <a:xfrm flipH="1" flipV="1">
              <a:off x="3885840" y="1981080"/>
              <a:ext cx="60948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762120" y="29718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838080" y="4114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Group 46"/>
            <p:cNvGrpSpPr/>
            <p:nvPr/>
          </p:nvGrpSpPr>
          <p:grpSpPr>
            <a:xfrm>
              <a:off x="2362320" y="3962160"/>
              <a:ext cx="685440" cy="609480"/>
              <a:chOff x="2362320" y="3962160"/>
              <a:chExt cx="685440" cy="609480"/>
            </a:xfrm>
          </p:grpSpPr>
          <p:sp>
            <p:nvSpPr>
              <p:cNvPr id="251" name="AutoShape 23"/>
              <p:cNvSpPr/>
              <p:nvPr/>
            </p:nvSpPr>
            <p:spPr>
              <a:xfrm flipH="1" rot="5400000">
                <a:off x="2437920" y="39621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24"/>
              <p:cNvSpPr/>
              <p:nvPr/>
            </p:nvSpPr>
            <p:spPr>
              <a:xfrm>
                <a:off x="2362320" y="40384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47"/>
            <p:cNvGrpSpPr/>
            <p:nvPr/>
          </p:nvGrpSpPr>
          <p:grpSpPr>
            <a:xfrm>
              <a:off x="2362320" y="2819160"/>
              <a:ext cx="685440" cy="609480"/>
              <a:chOff x="2362320" y="2819160"/>
              <a:chExt cx="685440" cy="609480"/>
            </a:xfrm>
          </p:grpSpPr>
          <p:sp>
            <p:nvSpPr>
              <p:cNvPr id="254" name="AutoShape 27"/>
              <p:cNvSpPr/>
              <p:nvPr/>
            </p:nvSpPr>
            <p:spPr>
              <a:xfrm flipH="1" rot="5400000">
                <a:off x="2437920" y="28191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28"/>
              <p:cNvSpPr/>
              <p:nvPr/>
            </p:nvSpPr>
            <p:spPr>
              <a:xfrm>
                <a:off x="2362320" y="28954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48"/>
            <p:cNvGrpSpPr/>
            <p:nvPr/>
          </p:nvGrpSpPr>
          <p:grpSpPr>
            <a:xfrm>
              <a:off x="2362320" y="1447560"/>
              <a:ext cx="685440" cy="609480"/>
              <a:chOff x="2362320" y="1447560"/>
              <a:chExt cx="685440" cy="609480"/>
            </a:xfrm>
          </p:grpSpPr>
          <p:sp>
            <p:nvSpPr>
              <p:cNvPr id="257" name="AutoShape 34"/>
              <p:cNvSpPr/>
              <p:nvPr/>
            </p:nvSpPr>
            <p:spPr>
              <a:xfrm flipH="1" rot="5400000">
                <a:off x="2437920" y="14475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35"/>
              <p:cNvSpPr/>
              <p:nvPr/>
            </p:nvSpPr>
            <p:spPr>
              <a:xfrm>
                <a:off x="2362320" y="156204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38"/>
            <p:cNvSpPr/>
            <p:nvPr/>
          </p:nvSpPr>
          <p:spPr>
            <a:xfrm>
              <a:off x="1219320" y="2362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1219320" y="3505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0"/>
            <p:cNvSpPr/>
            <p:nvPr/>
          </p:nvSpPr>
          <p:spPr>
            <a:xfrm>
              <a:off x="1219320" y="541008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50"/>
            <p:cNvSpPr/>
            <p:nvPr/>
          </p:nvSpPr>
          <p:spPr>
            <a:xfrm>
              <a:off x="1600200" y="1752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1"/>
            <p:cNvSpPr/>
            <p:nvPr/>
          </p:nvSpPr>
          <p:spPr>
            <a:xfrm>
              <a:off x="16002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2"/>
            <p:cNvSpPr/>
            <p:nvPr/>
          </p:nvSpPr>
          <p:spPr>
            <a:xfrm>
              <a:off x="160020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3"/>
            <p:cNvSpPr/>
            <p:nvPr/>
          </p:nvSpPr>
          <p:spPr>
            <a:xfrm>
              <a:off x="1600200" y="4038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4"/>
            <p:cNvSpPr/>
            <p:nvPr/>
          </p:nvSpPr>
          <p:spPr>
            <a:xfrm>
              <a:off x="160020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55"/>
            <p:cNvSpPr/>
            <p:nvPr/>
          </p:nvSpPr>
          <p:spPr>
            <a:xfrm>
              <a:off x="838080" y="6019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56"/>
            <p:cNvGrpSpPr/>
            <p:nvPr/>
          </p:nvGrpSpPr>
          <p:grpSpPr>
            <a:xfrm>
              <a:off x="2362320" y="5866920"/>
              <a:ext cx="685440" cy="609480"/>
              <a:chOff x="2362320" y="5866920"/>
              <a:chExt cx="685440" cy="609480"/>
            </a:xfrm>
          </p:grpSpPr>
          <p:sp>
            <p:nvSpPr>
              <p:cNvPr id="269" name="AutoShape 57"/>
              <p:cNvSpPr/>
              <p:nvPr/>
            </p:nvSpPr>
            <p:spPr>
              <a:xfrm flipH="1" rot="5400000">
                <a:off x="2437920" y="586692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58"/>
              <p:cNvSpPr/>
              <p:nvPr/>
            </p:nvSpPr>
            <p:spPr>
              <a:xfrm>
                <a:off x="2362320" y="594324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Line 60"/>
            <p:cNvSpPr/>
            <p:nvPr/>
          </p:nvSpPr>
          <p:spPr>
            <a:xfrm>
              <a:off x="1600200" y="6172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 flipV="1">
              <a:off x="1600200" y="594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66"/>
            <p:cNvSpPr/>
            <p:nvPr/>
          </p:nvSpPr>
          <p:spPr>
            <a:xfrm>
              <a:off x="160020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67"/>
            <p:cNvSpPr/>
            <p:nvPr/>
          </p:nvSpPr>
          <p:spPr>
            <a:xfrm>
              <a:off x="1571760" y="472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68"/>
            <p:cNvSpPr/>
            <p:nvPr/>
          </p:nvSpPr>
          <p:spPr>
            <a:xfrm>
              <a:off x="1568520" y="487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>
              <a:off x="157176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95"/>
            <p:cNvSpPr/>
            <p:nvPr/>
          </p:nvSpPr>
          <p:spPr>
            <a:xfrm>
              <a:off x="762120" y="1295280"/>
              <a:ext cx="2514600" cy="5334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7"/>
            <p:cNvSpPr/>
            <p:nvPr/>
          </p:nvSpPr>
          <p:spPr>
            <a:xfrm>
              <a:off x="1600200" y="45306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101"/>
                  </a:solidFill>
                  <a:latin typeface="Times New Roman"/>
                </a:rPr>
                <a:t>Feed-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44"/>
            <p:cNvGrpSpPr/>
            <p:nvPr/>
          </p:nvGrpSpPr>
          <p:grpSpPr>
            <a:xfrm>
              <a:off x="4495680" y="2819160"/>
              <a:ext cx="685800" cy="609480"/>
              <a:chOff x="4495680" y="2819160"/>
              <a:chExt cx="685800" cy="609480"/>
            </a:xfrm>
          </p:grpSpPr>
          <p:sp>
            <p:nvSpPr>
              <p:cNvPr id="280" name="AutoShape 9"/>
              <p:cNvSpPr/>
              <p:nvPr/>
            </p:nvSpPr>
            <p:spPr>
              <a:xfrm rot="16200000">
                <a:off x="4495680" y="2819160"/>
                <a:ext cx="609480" cy="60948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25"/>
              <p:cNvSpPr/>
              <p:nvPr/>
            </p:nvSpPr>
            <p:spPr>
              <a:xfrm>
                <a:off x="4647960" y="2895480"/>
                <a:ext cx="533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45"/>
            <p:cNvGrpSpPr/>
            <p:nvPr/>
          </p:nvGrpSpPr>
          <p:grpSpPr>
            <a:xfrm>
              <a:off x="4495680" y="3962160"/>
              <a:ext cx="685800" cy="609480"/>
              <a:chOff x="4495680" y="3962160"/>
              <a:chExt cx="685800" cy="609480"/>
            </a:xfrm>
          </p:grpSpPr>
          <p:sp>
            <p:nvSpPr>
              <p:cNvPr id="283" name="AutoShape 10"/>
              <p:cNvSpPr/>
              <p:nvPr/>
            </p:nvSpPr>
            <p:spPr>
              <a:xfrm rot="16200000">
                <a:off x="4495680" y="3961800"/>
                <a:ext cx="609480" cy="6098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6"/>
              <p:cNvSpPr/>
              <p:nvPr/>
            </p:nvSpPr>
            <p:spPr>
              <a:xfrm>
                <a:off x="4648320" y="4038480"/>
                <a:ext cx="533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Text Box 71"/>
            <p:cNvSpPr/>
            <p:nvPr/>
          </p:nvSpPr>
          <p:spPr>
            <a:xfrm>
              <a:off x="6019920" y="29718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72"/>
            <p:cNvSpPr/>
            <p:nvPr/>
          </p:nvSpPr>
          <p:spPr>
            <a:xfrm>
              <a:off x="6095880" y="4114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3"/>
            <p:cNvSpPr/>
            <p:nvPr/>
          </p:nvSpPr>
          <p:spPr>
            <a:xfrm>
              <a:off x="5562720" y="2362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74"/>
            <p:cNvSpPr/>
            <p:nvPr/>
          </p:nvSpPr>
          <p:spPr>
            <a:xfrm>
              <a:off x="5562720" y="350532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75"/>
            <p:cNvSpPr/>
            <p:nvPr/>
          </p:nvSpPr>
          <p:spPr>
            <a:xfrm>
              <a:off x="5562720" y="541008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6"/>
            <p:cNvSpPr/>
            <p:nvPr/>
          </p:nvSpPr>
          <p:spPr>
            <a:xfrm>
              <a:off x="59436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7"/>
            <p:cNvSpPr/>
            <p:nvPr/>
          </p:nvSpPr>
          <p:spPr>
            <a:xfrm flipH="1">
              <a:off x="510552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78"/>
            <p:cNvSpPr/>
            <p:nvPr/>
          </p:nvSpPr>
          <p:spPr>
            <a:xfrm>
              <a:off x="5943600" y="4038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79"/>
            <p:cNvSpPr/>
            <p:nvPr/>
          </p:nvSpPr>
          <p:spPr>
            <a:xfrm flipH="1">
              <a:off x="5105520" y="4267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1"/>
            <p:cNvSpPr/>
            <p:nvPr/>
          </p:nvSpPr>
          <p:spPr>
            <a:xfrm flipH="1">
              <a:off x="5105520" y="6172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82"/>
            <p:cNvSpPr/>
            <p:nvPr/>
          </p:nvSpPr>
          <p:spPr>
            <a:xfrm flipV="1">
              <a:off x="5943600" y="594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83"/>
            <p:cNvSpPr/>
            <p:nvPr/>
          </p:nvSpPr>
          <p:spPr>
            <a:xfrm>
              <a:off x="594360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84"/>
            <p:cNvSpPr/>
            <p:nvPr/>
          </p:nvSpPr>
          <p:spPr>
            <a:xfrm>
              <a:off x="5915160" y="4724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85"/>
            <p:cNvSpPr/>
            <p:nvPr/>
          </p:nvSpPr>
          <p:spPr>
            <a:xfrm>
              <a:off x="5911920" y="487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86"/>
            <p:cNvSpPr/>
            <p:nvPr/>
          </p:nvSpPr>
          <p:spPr>
            <a:xfrm>
              <a:off x="591516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87"/>
            <p:cNvGrpSpPr/>
            <p:nvPr/>
          </p:nvGrpSpPr>
          <p:grpSpPr>
            <a:xfrm>
              <a:off x="4495680" y="5866920"/>
              <a:ext cx="685800" cy="609480"/>
              <a:chOff x="4495680" y="5866920"/>
              <a:chExt cx="685800" cy="609480"/>
            </a:xfrm>
          </p:grpSpPr>
          <p:sp>
            <p:nvSpPr>
              <p:cNvPr id="301" name="AutoShape 88"/>
              <p:cNvSpPr/>
              <p:nvPr/>
            </p:nvSpPr>
            <p:spPr>
              <a:xfrm rot="16200000">
                <a:off x="4495680" y="5866560"/>
                <a:ext cx="609480" cy="6098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89"/>
              <p:cNvSpPr/>
              <p:nvPr/>
            </p:nvSpPr>
            <p:spPr>
              <a:xfrm>
                <a:off x="4648320" y="5943240"/>
                <a:ext cx="533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Line 93"/>
            <p:cNvSpPr/>
            <p:nvPr/>
          </p:nvSpPr>
          <p:spPr>
            <a:xfrm>
              <a:off x="5943600" y="1752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96"/>
            <p:cNvSpPr/>
            <p:nvPr/>
          </p:nvSpPr>
          <p:spPr>
            <a:xfrm>
              <a:off x="4343400" y="1295280"/>
              <a:ext cx="2514600" cy="53341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98"/>
            <p:cNvSpPr/>
            <p:nvPr/>
          </p:nvSpPr>
          <p:spPr>
            <a:xfrm>
              <a:off x="4419720" y="4724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Text Box 103"/>
          <p:cNvSpPr/>
          <p:nvPr/>
        </p:nvSpPr>
        <p:spPr>
          <a:xfrm>
            <a:off x="7238880" y="5918040"/>
            <a:ext cx="1752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06"/>
          <p:cNvSpPr/>
          <p:nvPr/>
        </p:nvSpPr>
        <p:spPr>
          <a:xfrm>
            <a:off x="7010280" y="3708360"/>
            <a:ext cx="1981440" cy="1923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ll Preci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 is 2 words.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increase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96D99324-D001-445D-B096-FB30E37C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Yet Another Direct Form II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earrange transfer function to be cascade of an all-pole IIR filter followed by an F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the output of an all-pole filter appli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lementation complexity (assuming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M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 words for pas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an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words for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2163600" y="2362320"/>
                <a:ext cx="49784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wher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3160800" y="3413160"/>
                <a:ext cx="269532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E15A1787-0E66-446B-A6D0-2F52CFE6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lter Structure As Block Diagram 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315" name="Group 64"/>
          <p:cNvGrpSpPr/>
          <p:nvPr/>
        </p:nvGrpSpPr>
        <p:grpSpPr>
          <a:xfrm>
            <a:off x="609480" y="1295280"/>
            <a:ext cx="6705720" cy="5181840"/>
            <a:chOff x="609480" y="1295280"/>
            <a:chExt cx="6705720" cy="5181840"/>
          </a:xfrm>
        </p:grpSpPr>
        <p:sp>
          <p:nvSpPr>
            <p:cNvPr id="316" name="Oval 5"/>
            <p:cNvSpPr/>
            <p:nvPr/>
          </p:nvSpPr>
          <p:spPr>
            <a:xfrm>
              <a:off x="1523880" y="15238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609480" y="15238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3200400" y="198108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3200400" y="3048120"/>
              <a:ext cx="7621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 rot="16200000">
              <a:off x="2209680" y="236160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 rot="16200000">
              <a:off x="2133720" y="36572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" name="AutoShape 11"/>
            <p:cNvCxnSpPr>
              <a:stCxn id="316" idx="6"/>
              <a:endCxn id="318" idx="0"/>
            </p:cNvCxnSpPr>
            <p:nvPr/>
          </p:nvCxnSpPr>
          <p:spPr>
            <a:xfrm>
              <a:off x="2057040" y="1790280"/>
              <a:ext cx="1524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AutoShape 12"/>
            <p:cNvCxnSpPr>
              <a:stCxn id="318" idx="2"/>
              <a:endCxn id="319" idx="0"/>
            </p:cNvCxnSpPr>
            <p:nvPr/>
          </p:nvCxnSpPr>
          <p:spPr>
            <a:xfrm>
              <a:off x="3580920" y="25146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AutoShape 13"/>
            <p:cNvCxnSpPr>
              <a:stCxn id="318" idx="2"/>
              <a:endCxn id="320" idx="2"/>
            </p:cNvCxnSpPr>
            <p:nvPr/>
          </p:nvCxnSpPr>
          <p:spPr>
            <a:xfrm rot="5400000">
              <a:off x="3123360" y="2207880"/>
              <a:ext cx="151560" cy="76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5" name="AutoShape 14"/>
            <p:cNvCxnSpPr>
              <a:stCxn id="319" idx="2"/>
              <a:endCxn id="321" idx="2"/>
            </p:cNvCxnSpPr>
            <p:nvPr/>
          </p:nvCxnSpPr>
          <p:spPr>
            <a:xfrm rot="5400000">
              <a:off x="2971080" y="3351240"/>
              <a:ext cx="38016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AutoShape 15"/>
            <p:cNvCxnSpPr>
              <a:stCxn id="320" idx="0"/>
              <a:endCxn id="316" idx="5"/>
            </p:cNvCxnSpPr>
            <p:nvPr/>
          </p:nvCxnSpPr>
          <p:spPr>
            <a:xfrm flipH="1" flipV="1">
              <a:off x="1978920" y="1978920"/>
              <a:ext cx="22932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AutoShape 16"/>
            <p:cNvCxnSpPr>
              <a:stCxn id="321" idx="0"/>
              <a:endCxn id="316" idx="4"/>
            </p:cNvCxnSpPr>
            <p:nvPr/>
          </p:nvCxnSpPr>
          <p:spPr>
            <a:xfrm flipH="1" flipV="1">
              <a:off x="1790280" y="2057040"/>
              <a:ext cx="342000" cy="190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8" name="Text Box 17"/>
            <p:cNvSpPr/>
            <p:nvPr/>
          </p:nvSpPr>
          <p:spPr>
            <a:xfrm>
              <a:off x="2860560" y="2643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2860560" y="3581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>
              <a:off x="1143000" y="1828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0"/>
            <p:cNvSpPr/>
            <p:nvPr/>
          </p:nvSpPr>
          <p:spPr>
            <a:xfrm>
              <a:off x="3352680" y="1295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>
              <a:off x="358128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358128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 flipH="1" rot="5400000">
              <a:off x="4342680" y="36572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4"/>
            <p:cNvSpPr/>
            <p:nvPr/>
          </p:nvSpPr>
          <p:spPr>
            <a:xfrm>
              <a:off x="4267080" y="37339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25"/>
            <p:cNvSpPr/>
            <p:nvPr/>
          </p:nvSpPr>
          <p:spPr>
            <a:xfrm>
              <a:off x="2362320" y="24382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2286000" y="37339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AutoShape 27"/>
            <p:cNvSpPr/>
            <p:nvPr/>
          </p:nvSpPr>
          <p:spPr>
            <a:xfrm flipH="1" rot="5400000">
              <a:off x="4267080" y="236160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28"/>
            <p:cNvSpPr/>
            <p:nvPr/>
          </p:nvSpPr>
          <p:spPr>
            <a:xfrm>
              <a:off x="4191120" y="24382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29"/>
            <p:cNvSpPr/>
            <p:nvPr/>
          </p:nvSpPr>
          <p:spPr>
            <a:xfrm>
              <a:off x="5410080" y="15238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0"/>
            <p:cNvSpPr/>
            <p:nvPr/>
          </p:nvSpPr>
          <p:spPr>
            <a:xfrm flipV="1">
              <a:off x="4876920" y="190512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V="1">
              <a:off x="4952880" y="1981080"/>
              <a:ext cx="685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5943600" y="1790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3"/>
            <p:cNvSpPr/>
            <p:nvPr/>
          </p:nvSpPr>
          <p:spPr>
            <a:xfrm>
              <a:off x="6553080" y="1600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34"/>
            <p:cNvSpPr/>
            <p:nvPr/>
          </p:nvSpPr>
          <p:spPr>
            <a:xfrm flipH="1" rot="5400000">
              <a:off x="4267080" y="148536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4191120" y="16002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6"/>
            <p:cNvSpPr/>
            <p:nvPr/>
          </p:nvSpPr>
          <p:spPr>
            <a:xfrm>
              <a:off x="3505320" y="1790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4876920" y="17906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38"/>
            <p:cNvSpPr/>
            <p:nvPr/>
          </p:nvSpPr>
          <p:spPr>
            <a:xfrm>
              <a:off x="3200400" y="525780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39"/>
            <p:cNvSpPr/>
            <p:nvPr/>
          </p:nvSpPr>
          <p:spPr>
            <a:xfrm rot="16200000">
              <a:off x="2133360" y="5867280"/>
              <a:ext cx="60984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AutoShape 40"/>
            <p:cNvCxnSpPr>
              <a:stCxn id="349" idx="2"/>
              <a:endCxn id="350" idx="2"/>
            </p:cNvCxnSpPr>
            <p:nvPr/>
          </p:nvCxnSpPr>
          <p:spPr>
            <a:xfrm rot="5400000">
              <a:off x="2971080" y="5561280"/>
              <a:ext cx="38016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2" name="Text Box 41"/>
            <p:cNvSpPr/>
            <p:nvPr/>
          </p:nvSpPr>
          <p:spPr>
            <a:xfrm>
              <a:off x="2743200" y="5791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42"/>
            <p:cNvSpPr/>
            <p:nvPr/>
          </p:nvSpPr>
          <p:spPr>
            <a:xfrm>
              <a:off x="3581280" y="6172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43"/>
            <p:cNvSpPr/>
            <p:nvPr/>
          </p:nvSpPr>
          <p:spPr>
            <a:xfrm flipH="1" rot="5400000">
              <a:off x="4342320" y="5867280"/>
              <a:ext cx="60984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44"/>
            <p:cNvSpPr/>
            <p:nvPr/>
          </p:nvSpPr>
          <p:spPr>
            <a:xfrm>
              <a:off x="4267080" y="5943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5"/>
            <p:cNvSpPr/>
            <p:nvPr/>
          </p:nvSpPr>
          <p:spPr>
            <a:xfrm>
              <a:off x="2286000" y="5943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47"/>
            <p:cNvSpPr/>
            <p:nvPr/>
          </p:nvSpPr>
          <p:spPr>
            <a:xfrm>
              <a:off x="3546360" y="44197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48"/>
            <p:cNvSpPr/>
            <p:nvPr/>
          </p:nvSpPr>
          <p:spPr>
            <a:xfrm>
              <a:off x="3543480" y="457200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49"/>
            <p:cNvSpPr/>
            <p:nvPr/>
          </p:nvSpPr>
          <p:spPr>
            <a:xfrm>
              <a:off x="3546360" y="47242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0"/>
            <p:cNvSpPr/>
            <p:nvPr/>
          </p:nvSpPr>
          <p:spPr>
            <a:xfrm flipH="1" flipV="1">
              <a:off x="1676520" y="1981080"/>
              <a:ext cx="45720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51"/>
            <p:cNvSpPr/>
            <p:nvPr/>
          </p:nvSpPr>
          <p:spPr>
            <a:xfrm>
              <a:off x="3733920" y="43434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101"/>
                  </a:solidFill>
                  <a:latin typeface="Times New Roman"/>
                </a:rPr>
                <a:t>Feed-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52"/>
            <p:cNvSpPr/>
            <p:nvPr/>
          </p:nvSpPr>
          <p:spPr>
            <a:xfrm>
              <a:off x="19810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3"/>
            <p:cNvSpPr/>
            <p:nvPr/>
          </p:nvSpPr>
          <p:spPr>
            <a:xfrm>
              <a:off x="358128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4"/>
            <p:cNvSpPr/>
            <p:nvPr/>
          </p:nvSpPr>
          <p:spPr>
            <a:xfrm>
              <a:off x="358128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5"/>
            <p:cNvSpPr/>
            <p:nvPr/>
          </p:nvSpPr>
          <p:spPr>
            <a:xfrm flipV="1">
              <a:off x="4952880" y="1981080"/>
              <a:ext cx="91440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Text Box 59"/>
          <p:cNvSpPr/>
          <p:nvPr/>
        </p:nvSpPr>
        <p:spPr>
          <a:xfrm>
            <a:off x="5486400" y="5945040"/>
            <a:ext cx="144792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 yields a biqu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0"/>
              <p:cNvSpPr txBox="1"/>
              <p:nvPr/>
            </p:nvSpPr>
            <p:spPr>
              <a:xfrm>
                <a:off x="6132600" y="2092320"/>
                <a:ext cx="26953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8" name="Text Box 62"/>
          <p:cNvSpPr/>
          <p:nvPr/>
        </p:nvSpPr>
        <p:spPr>
          <a:xfrm>
            <a:off x="7238880" y="5918040"/>
            <a:ext cx="17528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3"/>
          <p:cNvSpPr/>
          <p:nvPr/>
        </p:nvSpPr>
        <p:spPr>
          <a:xfrm>
            <a:off x="5943600" y="3657600"/>
            <a:ext cx="2895480" cy="1984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ll Preci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 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words and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0] is 1 word. Wordlength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6DFCD2C8-A122-4CAD-9B6E-BD7733A21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emonstra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ignal Processing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PEZ Pole Zero Plotter (pezdemo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monstrations, Chapter 8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R Filtering Tutoria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Betweeen the Z and Frequency Domains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/Frequency/Z Domain Movies for IIR Filters (Lin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rname/password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28"/>
          <p:cNvSpPr/>
          <p:nvPr/>
        </p:nvSpPr>
        <p:spPr>
          <a:xfrm>
            <a:off x="6705720" y="26668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028"/>
          <p:cNvSpPr/>
          <p:nvPr/>
        </p:nvSpPr>
        <p:spPr>
          <a:xfrm>
            <a:off x="8229600" y="15238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4648320" y="4560840"/>
            <a:ext cx="380880" cy="268200"/>
          </a:xfrm>
          <a:prstGeom prst="rightArrow">
            <a:avLst>
              <a:gd name="adj1" fmla="val 50000"/>
              <a:gd name="adj2" fmla="val 35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4"/>
          <p:cNvSpPr/>
          <p:nvPr/>
        </p:nvSpPr>
        <p:spPr>
          <a:xfrm>
            <a:off x="4495680" y="48434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14"/>
          <p:cNvSpPr/>
          <p:nvPr/>
        </p:nvSpPr>
        <p:spPr>
          <a:xfrm>
            <a:off x="655308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8077320" y="1828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6CF7EA5-AA6B-42B6-AE0F-74F3A6C0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t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 discrete-time LTI system i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ounded-input bounded-output (BIBO) stable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f for any bounded in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then the filter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also bound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position: A discrete-time filter with an impulse respon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BIBO stable if and only if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finite impulse response LTI system (even after implementation) is BIBO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usal infinite impulse response LTI system is BIBO stable if and only if its poles lie inside the unit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0"/>
              <p:cNvSpPr txBox="1"/>
              <p:nvPr/>
            </p:nvSpPr>
            <p:spPr>
              <a:xfrm>
                <a:off x="3594240" y="3886200"/>
                <a:ext cx="1877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</m:e>
                    </m:nary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5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70C341FF-2C86-45FE-9DDA-CACBF693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26"/>
              <p:cNvSpPr txBox="1"/>
              <p:nvPr/>
            </p:nvSpPr>
            <p:spPr>
              <a:xfrm>
                <a:off x="2716200" y="4273560"/>
                <a:ext cx="3862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limUpp>
                      <m:e>
                        <m:r>
                          <m:t xml:space="preserve">↔</m:t>
                        </m:r>
                      </m:e>
                      <m:lim>
                        <m:r>
                          <m:t xml:space="preserve">Z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for 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BIBO Stabilit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101"/>
                </a:solidFill>
                <a:latin typeface="Times New Roman"/>
              </a:rPr>
              <a:t>Rule #1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a causal sequence, poles are inside the unit circle (applies to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 functions that are ratios of two polynomials)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O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101"/>
                </a:solidFill>
                <a:latin typeface="Times New Roman"/>
              </a:rPr>
              <a:t>Rule #2</a:t>
            </a:r>
            <a:r>
              <a:rPr b="1" lang="en-US" sz="2800" spc="-1" strike="noStrike">
                <a:solidFill>
                  <a:srgbClr val="ff0101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Unit circle is in the region of convergence. (In continuous-time, imaginary axis would be in region of convergence of Laplace transform.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if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lt; 1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le #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equi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if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lt; 1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le #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z|&gt;|a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a|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WordArt 1029"/>
          <p:cNvSpPr txBox="1"/>
          <p:nvPr/>
        </p:nvSpPr>
        <p:spPr>
          <a:xfrm>
            <a:off x="6972480" y="4456080"/>
            <a:ext cx="1333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le at z=a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Text Box 1030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7892A1C0-EDBD-4861-9418-08CF35C8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and Laplace Transfor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orm difference/differential equations into algebraic equations that are easier to solv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re complex-valued functions of a complex frequency variab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pla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orm kernels are complex exponentials: eigenfunctions of linear time-invariant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pla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s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f 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=    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f 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–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4952880" y="5029200"/>
            <a:ext cx="838440" cy="1143000"/>
          </a:xfrm>
          <a:prstGeom prst="ellipse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"/>
          <p:cNvSpPr/>
          <p:nvPr/>
        </p:nvSpPr>
        <p:spPr>
          <a:xfrm>
            <a:off x="5867280" y="5029200"/>
            <a:ext cx="1371600" cy="1143000"/>
          </a:xfrm>
          <a:prstGeom prst="ellipse">
            <a:avLst/>
          </a:prstGeom>
          <a:noFill/>
          <a:ln w="1908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3048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ampen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71500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01"/>
                </a:solidFill>
                <a:latin typeface="Times New Roman"/>
              </a:rPr>
              <a:t>oscillation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210134A2-CC8A-49E7-9279-2B5A7890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and Laplace Transfor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 unique mapping from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o Laplace domain or from Laplace to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domai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one complex domain to another is no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ne possible mapping is impulse invariance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impulse response of a discrete-time linear time-invariant (LTI) system be a sampled version of the impulse response for the continuous-time LT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1193760" y="4491000"/>
            <a:ext cx="2590560" cy="971280"/>
            <a:chOff x="1193760" y="4491000"/>
            <a:chExt cx="2590560" cy="971280"/>
          </a:xfrm>
        </p:grpSpPr>
        <p:grpSp>
          <p:nvGrpSpPr>
            <p:cNvPr id="401" name="Group 5"/>
            <p:cNvGrpSpPr/>
            <p:nvPr/>
          </p:nvGrpSpPr>
          <p:grpSpPr>
            <a:xfrm>
              <a:off x="1193760" y="5005080"/>
              <a:ext cx="2590560" cy="457200"/>
              <a:chOff x="1193760" y="5005080"/>
              <a:chExt cx="2590560" cy="457200"/>
            </a:xfrm>
          </p:grpSpPr>
          <p:sp>
            <p:nvSpPr>
              <p:cNvPr id="402" name="Rectangle 6"/>
              <p:cNvSpPr/>
              <p:nvPr/>
            </p:nvSpPr>
            <p:spPr>
              <a:xfrm>
                <a:off x="2031840" y="5005080"/>
                <a:ext cx="9144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7"/>
              <p:cNvSpPr/>
              <p:nvPr/>
            </p:nvSpPr>
            <p:spPr>
              <a:xfrm>
                <a:off x="3251160" y="500508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8"/>
              <p:cNvSpPr/>
              <p:nvPr/>
            </p:nvSpPr>
            <p:spPr>
              <a:xfrm>
                <a:off x="1193760" y="500508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5" name="AutoShape 9"/>
              <p:cNvCxnSpPr>
                <a:stCxn id="404" idx="3"/>
                <a:endCxn id="402" idx="1"/>
              </p:cNvCxnSpPr>
              <p:nvPr/>
            </p:nvCxnSpPr>
            <p:spPr>
              <a:xfrm>
                <a:off x="1726560" y="523332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06" name="AutoShape 10"/>
              <p:cNvCxnSpPr>
                <a:stCxn id="402" idx="3"/>
                <a:endCxn id="403" idx="1"/>
              </p:cNvCxnSpPr>
              <p:nvPr/>
            </p:nvCxnSpPr>
            <p:spPr>
              <a:xfrm>
                <a:off x="2945880" y="523332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07" name="Text Box 11"/>
            <p:cNvSpPr/>
            <p:nvPr/>
          </p:nvSpPr>
          <p:spPr>
            <a:xfrm>
              <a:off x="1917720" y="4491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4981680" y="4491000"/>
            <a:ext cx="2968200" cy="1008000"/>
            <a:chOff x="4981680" y="4491000"/>
            <a:chExt cx="2968200" cy="1008000"/>
          </a:xfrm>
        </p:grpSpPr>
        <p:grpSp>
          <p:nvGrpSpPr>
            <p:cNvPr id="409" name="Group 13"/>
            <p:cNvGrpSpPr/>
            <p:nvPr/>
          </p:nvGrpSpPr>
          <p:grpSpPr>
            <a:xfrm>
              <a:off x="4981680" y="4970160"/>
              <a:ext cx="2968200" cy="528840"/>
              <a:chOff x="4981680" y="4970160"/>
              <a:chExt cx="2968200" cy="52884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5972040" y="5006880"/>
                <a:ext cx="9140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AutoShape 15"/>
              <p:cNvCxnSpPr>
                <a:endCxn id="410" idx="1"/>
              </p:cNvCxnSpPr>
              <p:nvPr/>
            </p:nvCxnSpPr>
            <p:spPr>
              <a:xfrm>
                <a:off x="5603760" y="5235120"/>
                <a:ext cx="368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2" name="AutoShape 16"/>
              <p:cNvCxnSpPr>
                <a:stCxn id="410" idx="3"/>
              </p:cNvCxnSpPr>
              <p:nvPr/>
            </p:nvCxnSpPr>
            <p:spPr>
              <a:xfrm>
                <a:off x="6886080" y="5235120"/>
                <a:ext cx="473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413" name="Object 17"/>
                  <p:cNvSpPr txBox="1"/>
                  <p:nvPr/>
                </p:nvSpPr>
                <p:spPr>
                  <a:xfrm>
                    <a:off x="4981680" y="4970160"/>
                    <a:ext cx="622080" cy="52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4" name="Object 18"/>
                  <p:cNvSpPr txBox="1"/>
                  <p:nvPr/>
                </p:nvSpPr>
                <p:spPr>
                  <a:xfrm>
                    <a:off x="7359480" y="5000400"/>
                    <a:ext cx="59040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15" name="Text Box 19"/>
            <p:cNvSpPr/>
            <p:nvPr/>
          </p:nvSpPr>
          <p:spPr>
            <a:xfrm>
              <a:off x="5818320" y="4491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6" name="Object 20"/>
              <p:cNvSpPr txBox="1"/>
              <p:nvPr/>
            </p:nvSpPr>
            <p:spPr>
              <a:xfrm>
                <a:off x="5486400" y="5710320"/>
                <a:ext cx="20988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7365ECB4-DABF-4A48-A6CB-21E37085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mpulse Invariance Mapping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pp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s T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sampling ti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aphicFrame>
        <p:nvGraphicFramePr>
          <p:cNvPr id="420" name="Object 0"/>
          <p:cNvGraphicFramePr/>
          <p:nvPr/>
        </p:nvGraphicFramePr>
        <p:xfrm>
          <a:off x="2135160" y="5099040"/>
          <a:ext cx="4336920" cy="16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5160" y="5099040"/>
                    <a:ext cx="43369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Group 51"/>
          <p:cNvGrpSpPr/>
          <p:nvPr/>
        </p:nvGrpSpPr>
        <p:grpSpPr>
          <a:xfrm>
            <a:off x="5867280" y="2057400"/>
            <a:ext cx="2819520" cy="2286000"/>
            <a:chOff x="5867280" y="2057400"/>
            <a:chExt cx="2819520" cy="2286000"/>
          </a:xfrm>
        </p:grpSpPr>
        <p:sp>
          <p:nvSpPr>
            <p:cNvPr id="423" name="Text Box 28"/>
            <p:cNvSpPr/>
            <p:nvPr/>
          </p:nvSpPr>
          <p:spPr>
            <a:xfrm>
              <a:off x="7391160" y="335304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Group 29"/>
            <p:cNvGrpSpPr/>
            <p:nvPr/>
          </p:nvGrpSpPr>
          <p:grpSpPr>
            <a:xfrm>
              <a:off x="5867280" y="2057400"/>
              <a:ext cx="2819520" cy="2286000"/>
              <a:chOff x="5867280" y="2057400"/>
              <a:chExt cx="2819520" cy="2286000"/>
            </a:xfrm>
          </p:grpSpPr>
          <p:sp>
            <p:nvSpPr>
              <p:cNvPr id="425" name="Line 30"/>
              <p:cNvSpPr/>
              <p:nvPr/>
            </p:nvSpPr>
            <p:spPr>
              <a:xfrm>
                <a:off x="6858000" y="243864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31"/>
              <p:cNvSpPr/>
              <p:nvPr/>
            </p:nvSpPr>
            <p:spPr>
              <a:xfrm>
                <a:off x="5867280" y="335304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2"/>
              <p:cNvSpPr/>
              <p:nvPr/>
            </p:nvSpPr>
            <p:spPr>
              <a:xfrm>
                <a:off x="6476760" y="20574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m{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Text Box 33"/>
              <p:cNvSpPr/>
              <p:nvPr/>
            </p:nvSpPr>
            <p:spPr>
              <a:xfrm>
                <a:off x="7924680" y="31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{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Oval 34"/>
            <p:cNvSpPr/>
            <p:nvPr/>
          </p:nvSpPr>
          <p:spPr>
            <a:xfrm>
              <a:off x="6324480" y="2819520"/>
              <a:ext cx="1066680" cy="106668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35"/>
            <p:cNvGrpSpPr/>
            <p:nvPr/>
          </p:nvGrpSpPr>
          <p:grpSpPr>
            <a:xfrm>
              <a:off x="7010280" y="3428640"/>
              <a:ext cx="152280" cy="152640"/>
              <a:chOff x="7010280" y="3428640"/>
              <a:chExt cx="152280" cy="152640"/>
            </a:xfrm>
          </p:grpSpPr>
          <p:sp>
            <p:nvSpPr>
              <p:cNvPr id="431" name="Line 36"/>
              <p:cNvSpPr/>
              <p:nvPr/>
            </p:nvSpPr>
            <p:spPr>
              <a:xfrm flipV="1">
                <a:off x="7010280" y="342864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37"/>
              <p:cNvSpPr/>
              <p:nvPr/>
            </p:nvSpPr>
            <p:spPr>
              <a:xfrm>
                <a:off x="7010280" y="342900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38"/>
            <p:cNvGrpSpPr/>
            <p:nvPr/>
          </p:nvGrpSpPr>
          <p:grpSpPr>
            <a:xfrm>
              <a:off x="7010280" y="3124080"/>
              <a:ext cx="152280" cy="152640"/>
              <a:chOff x="7010280" y="3124080"/>
              <a:chExt cx="152280" cy="152640"/>
            </a:xfrm>
          </p:grpSpPr>
          <p:sp>
            <p:nvSpPr>
              <p:cNvPr id="434" name="Line 39"/>
              <p:cNvSpPr/>
              <p:nvPr/>
            </p:nvSpPr>
            <p:spPr>
              <a:xfrm flipV="1">
                <a:off x="7010280" y="312408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40"/>
              <p:cNvSpPr/>
              <p:nvPr/>
            </p:nvSpPr>
            <p:spPr>
              <a:xfrm>
                <a:off x="7010280" y="3124440"/>
                <a:ext cx="152280" cy="152280"/>
              </a:xfrm>
              <a:prstGeom prst="line">
                <a:avLst/>
              </a:prstGeom>
              <a:ln w="1908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Oval 41"/>
            <p:cNvSpPr/>
            <p:nvPr/>
          </p:nvSpPr>
          <p:spPr>
            <a:xfrm>
              <a:off x="7772400" y="251460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42"/>
            <p:cNvSpPr/>
            <p:nvPr/>
          </p:nvSpPr>
          <p:spPr>
            <a:xfrm>
              <a:off x="7772400" y="411480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Text Box 43"/>
          <p:cNvSpPr/>
          <p:nvPr/>
        </p:nvSpPr>
        <p:spPr>
          <a:xfrm>
            <a:off x="2133720" y="4311720"/>
            <a:ext cx="47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es: 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-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.198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.31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 s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ero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.46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87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"/>
              <p:cNvSpPr txBox="1"/>
              <p:nvPr/>
            </p:nvSpPr>
            <p:spPr>
              <a:xfrm>
                <a:off x="2666880" y="1905120"/>
                <a:ext cx="3156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Line 7"/>
          <p:cNvSpPr/>
          <p:nvPr/>
        </p:nvSpPr>
        <p:spPr>
          <a:xfrm>
            <a:off x="2158920" y="2438280"/>
            <a:ext cx="0" cy="1905120"/>
          </a:xfrm>
          <a:prstGeom prst="line">
            <a:avLst/>
          </a:prstGeom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116856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208296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208296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1"/>
          <p:cNvSpPr/>
          <p:nvPr/>
        </p:nvSpPr>
        <p:spPr>
          <a:xfrm flipV="1">
            <a:off x="269244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V="1">
            <a:off x="162576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2158920" y="259092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2692440" y="3352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2082960" y="3809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132084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177804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3225960" y="3138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19"/>
          <p:cNvSpPr/>
          <p:nvPr/>
        </p:nvSpPr>
        <p:spPr>
          <a:xfrm>
            <a:off x="2616120" y="2743200"/>
            <a:ext cx="152640" cy="152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20"/>
          <p:cNvSpPr/>
          <p:nvPr/>
        </p:nvSpPr>
        <p:spPr>
          <a:xfrm>
            <a:off x="2616120" y="3809880"/>
            <a:ext cx="15264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1549440" y="3809520"/>
            <a:ext cx="152280" cy="152640"/>
            <a:chOff x="1549440" y="3809520"/>
            <a:chExt cx="152280" cy="152640"/>
          </a:xfrm>
        </p:grpSpPr>
        <p:sp>
          <p:nvSpPr>
            <p:cNvPr id="455" name="Line 22"/>
            <p:cNvSpPr/>
            <p:nvPr/>
          </p:nvSpPr>
          <p:spPr>
            <a:xfrm flipV="1">
              <a:off x="1549440" y="380952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3"/>
            <p:cNvSpPr/>
            <p:nvPr/>
          </p:nvSpPr>
          <p:spPr>
            <a:xfrm>
              <a:off x="1549440" y="380988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1549440" y="2742840"/>
            <a:ext cx="152280" cy="152640"/>
            <a:chOff x="1549440" y="2742840"/>
            <a:chExt cx="152280" cy="152640"/>
          </a:xfrm>
        </p:grpSpPr>
        <p:sp>
          <p:nvSpPr>
            <p:cNvPr id="458" name="Line 25"/>
            <p:cNvSpPr/>
            <p:nvPr/>
          </p:nvSpPr>
          <p:spPr>
            <a:xfrm flipV="1">
              <a:off x="1549440" y="274284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1549440" y="2743200"/>
              <a:ext cx="152280" cy="152280"/>
            </a:xfrm>
            <a:prstGeom prst="line">
              <a:avLst/>
            </a:prstGeom>
            <a:ln w="190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Object 2"/>
              <p:cNvSpPr txBox="1"/>
              <p:nvPr/>
            </p:nvSpPr>
            <p:spPr>
              <a:xfrm>
                <a:off x="612720" y="5029200"/>
                <a:ext cx="1139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Line 45"/>
          <p:cNvSpPr/>
          <p:nvPr/>
        </p:nvSpPr>
        <p:spPr>
          <a:xfrm flipH="1">
            <a:off x="1752120" y="4419720"/>
            <a:ext cx="381240" cy="609480"/>
          </a:xfrm>
          <a:prstGeom prst="line">
            <a:avLst/>
          </a:prstGeom>
          <a:ln w="28440">
            <a:solidFill>
              <a:srgbClr val="66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7"/>
          <p:cNvSpPr/>
          <p:nvPr/>
        </p:nvSpPr>
        <p:spPr>
          <a:xfrm>
            <a:off x="838080" y="2438280"/>
            <a:ext cx="1295640" cy="1905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9"/>
          <p:cNvSpPr/>
          <p:nvPr/>
        </p:nvSpPr>
        <p:spPr>
          <a:xfrm flipH="1">
            <a:off x="2362320" y="2362320"/>
            <a:ext cx="30456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2"/>
          <p:cNvSpPr/>
          <p:nvPr/>
        </p:nvSpPr>
        <p:spPr>
          <a:xfrm>
            <a:off x="6591240" y="5105520"/>
            <a:ext cx="236232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pass, highpass bandpass, bandstop allpass or not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3"/>
          <p:cNvSpPr/>
          <p:nvPr/>
        </p:nvSpPr>
        <p:spPr>
          <a:xfrm>
            <a:off x="4038480" y="259092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4F23558D-E606-4C7C-924B-D96832401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-order filter section with 2 poles &amp; 0-2 zero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is a ratio of two real-valued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and zeros occur in conjugate symmetric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Quality facto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 technology independent measure of sensitivity of pole locations to perturb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analog biquad with pole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½ (exponential decay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scillatory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0"/>
              <p:cNvSpPr txBox="1"/>
              <p:nvPr/>
            </p:nvSpPr>
            <p:spPr>
              <a:xfrm>
                <a:off x="2971800" y="4191120"/>
                <a:ext cx="36576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where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A81C593-D143-42AC-AA8C-DFF9E6F0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roles for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IIR filter structur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qua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orm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bility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Z and Laplace transfor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scade of biqua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and digital II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EE7124AF-0029-4677-B41C-F483F1312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tinuous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with biquad with pole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wi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&lt; 0 but no zeroes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inusoid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nd pure decay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readboard implem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ngle pole at –1/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With 1% tolerance on breadboa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, tolerance of pole location is 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any decimal digits correspond to 2% toler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any bits correspond to 2% toler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quality factor is about 25 for implementation of analog filters using breadboard resistors and capac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capacitor filte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  (toler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circuit implementations can achie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0"/>
              <p:cNvSpPr txBox="1"/>
              <p:nvPr/>
            </p:nvSpPr>
            <p:spPr>
              <a:xfrm>
                <a:off x="4908600" y="1863720"/>
                <a:ext cx="3092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51E9FD79-4208-4AF7-8679-417C4D61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poles at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b = r e 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  <a:ea typeface="Times New Roman"/>
              </a:rPr>
              <a:t>± 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</a:rPr>
              <a:t>j 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where                    is the pole radiu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&lt; 1 for stability), wi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½ (impulse respons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on unit circ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scillatory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ol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so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fixed-point digital signal processors with 40-bit accumul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0"/>
              <p:cNvSpPr txBox="1"/>
              <p:nvPr/>
            </p:nvSpPr>
            <p:spPr>
              <a:xfrm>
                <a:off x="2314440" y="2382840"/>
                <a:ext cx="4249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where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"/>
              <p:cNvSpPr txBox="1"/>
              <p:nvPr/>
            </p:nvSpPr>
            <p:spPr>
              <a:xfrm>
                <a:off x="6210360" y="1409760"/>
                <a:ext cx="1752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4545000" y="4457880"/>
                <a:ext cx="28893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Text Box 7"/>
          <p:cNvSpPr/>
          <p:nvPr/>
        </p:nvSpPr>
        <p:spPr>
          <a:xfrm>
            <a:off x="762120" y="6172200"/>
            <a:ext cx="76960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design programs often u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pproximation of quality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8D06CFF9-2AC4-40FF-9AF2-C12FBC39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IR Filter Implement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e approach in discrete and 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IIR filter desig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f or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conjugate roots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en or one real root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/2 conjugate roots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d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is very sensitive to perturbations in pole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Rule-of-thumb for implementing I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IIR filter into second-order sections (biqu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e biquads from input to output in order of ascen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air of conjugate symmetric poles in a biquad, conjugate zeroes should be chosen as those closest in Euclidean distance to the conjugate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5EFFA13D-F896-4B33-9F38-FBA8A171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assical IIR Filt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IIR filter designs differ in the shape of their magnitude responses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worth: monotonically decreases in passband and stopband (no ripp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byshev type I: monotonically decreases in passband but has ripples in the stop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byshev type II: has ripples in passband but monotonically decreases in the stop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ic: has ripples in passband and stopb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IIR filters have poles and zeros, excep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-time lowpass Butterworth filters only have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assical filters have biquads with high Q facto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6B16A2A8-CCA1-4017-8B3F-3E7E9562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IIR Filter Optim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tart with an existing (e.g. classical) filter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optimization packages from UT Austin (in Matlab) simultaneously optimiz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hase in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overshoot in ste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nalog IIR Filter Optim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og lowpass IIR filter design specific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21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0 rad/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31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rad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deviation from linear phase in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peak overshoot in ste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quality factor per second-order section is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5" descr="phasepz_"/>
          <p:cNvPicPr/>
          <p:nvPr/>
        </p:nvPicPr>
        <p:blipFill>
          <a:blip r:embed="rId1"/>
          <a:stretch/>
        </p:blipFill>
        <p:spPr>
          <a:xfrm>
            <a:off x="1676520" y="3809880"/>
            <a:ext cx="2743200" cy="15242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6"/>
          <p:cNvSpPr/>
          <p:nvPr/>
        </p:nvSpPr>
        <p:spPr>
          <a:xfrm>
            <a:off x="304920" y="3886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Times-Bold"/>
              </a:rPr>
              <a:t>Linearized phase in pass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7620120" y="38988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Times-Bold"/>
              </a:rPr>
              <a:t>Minimized peak oversh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9" descr="steppz_4"/>
          <p:cNvPicPr/>
          <p:nvPr/>
        </p:nvPicPr>
        <p:blipFill>
          <a:blip r:embed="rId2"/>
          <a:stretch/>
        </p:blipFill>
        <p:spPr>
          <a:xfrm>
            <a:off x="4800600" y="3809880"/>
            <a:ext cx="274320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10"/>
          <p:cNvGrpSpPr/>
          <p:nvPr/>
        </p:nvGrpSpPr>
        <p:grpSpPr>
          <a:xfrm>
            <a:off x="5943600" y="4648320"/>
            <a:ext cx="1523880" cy="565920"/>
            <a:chOff x="5943600" y="4648320"/>
            <a:chExt cx="1523880" cy="565920"/>
          </a:xfrm>
        </p:grpSpPr>
        <p:grpSp>
          <p:nvGrpSpPr>
            <p:cNvPr id="497" name="Group 11"/>
            <p:cNvGrpSpPr/>
            <p:nvPr/>
          </p:nvGrpSpPr>
          <p:grpSpPr>
            <a:xfrm>
              <a:off x="5943600" y="4648320"/>
              <a:ext cx="1523880" cy="337320"/>
              <a:chOff x="5943600" y="4648320"/>
              <a:chExt cx="1523880" cy="337320"/>
            </a:xfrm>
          </p:grpSpPr>
          <p:sp>
            <p:nvSpPr>
              <p:cNvPr id="498" name="Line 12"/>
              <p:cNvSpPr/>
              <p:nvPr/>
            </p:nvSpPr>
            <p:spPr>
              <a:xfrm>
                <a:off x="5943600" y="4816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6324480" y="46483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llipt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14"/>
            <p:cNvGrpSpPr/>
            <p:nvPr/>
          </p:nvGrpSpPr>
          <p:grpSpPr>
            <a:xfrm>
              <a:off x="5943600" y="4876920"/>
              <a:ext cx="1523880" cy="337320"/>
              <a:chOff x="5943600" y="4876920"/>
              <a:chExt cx="1523880" cy="337320"/>
            </a:xfrm>
          </p:grpSpPr>
          <p:sp>
            <p:nvSpPr>
              <p:cNvPr id="501" name="Line 15"/>
              <p:cNvSpPr/>
              <p:nvPr/>
            </p:nvSpPr>
            <p:spPr>
              <a:xfrm>
                <a:off x="5943600" y="50454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6"/>
              <p:cNvSpPr/>
              <p:nvPr/>
            </p:nvSpPr>
            <p:spPr>
              <a:xfrm>
                <a:off x="6324480" y="48769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3" name=""/>
          <p:cNvGraphicFramePr/>
          <p:nvPr/>
        </p:nvGraphicFramePr>
        <p:xfrm>
          <a:off x="685800" y="5410080"/>
          <a:ext cx="3581280" cy="1140120"/>
        </p:xfrm>
        <a:graphic>
          <a:graphicData uri="http://schemas.openxmlformats.org/drawingml/2006/table">
            <a:tbl>
              <a:tblPr/>
              <a:tblGrid>
                <a:gridCol w="609480"/>
                <a:gridCol w="1676520"/>
                <a:gridCol w="129528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5.3533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6.9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0.2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6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0.1636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9.9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0.0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8.0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 Box 63"/>
          <p:cNvSpPr/>
          <p:nvPr/>
        </p:nvSpPr>
        <p:spPr>
          <a:xfrm rot="16200000">
            <a:off x="-228600" y="578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419720" y="5410080"/>
          <a:ext cx="4190760" cy="1140120"/>
        </p:xfrm>
        <a:graphic>
          <a:graphicData uri="http://schemas.openxmlformats.org/drawingml/2006/table">
            <a:tbl>
              <a:tblPr/>
              <a:tblGrid>
                <a:gridCol w="685800"/>
                <a:gridCol w="1828800"/>
                <a:gridCol w="167616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11.4343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0.5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3.4232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8.6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1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1.0926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21.8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-1.2725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1" i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35.54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97"/>
          <p:cNvSpPr/>
          <p:nvPr/>
        </p:nvSpPr>
        <p:spPr>
          <a:xfrm rot="16200000">
            <a:off x="8002080" y="57135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116"/>
          <p:cNvGrpSpPr/>
          <p:nvPr/>
        </p:nvGrpSpPr>
        <p:grpSpPr>
          <a:xfrm>
            <a:off x="2133720" y="4648320"/>
            <a:ext cx="1523880" cy="565920"/>
            <a:chOff x="2133720" y="4648320"/>
            <a:chExt cx="1523880" cy="565920"/>
          </a:xfrm>
        </p:grpSpPr>
        <p:grpSp>
          <p:nvGrpSpPr>
            <p:cNvPr id="508" name="Group 117"/>
            <p:cNvGrpSpPr/>
            <p:nvPr/>
          </p:nvGrpSpPr>
          <p:grpSpPr>
            <a:xfrm>
              <a:off x="2133720" y="4648320"/>
              <a:ext cx="1523880" cy="337320"/>
              <a:chOff x="2133720" y="4648320"/>
              <a:chExt cx="1523880" cy="337320"/>
            </a:xfrm>
          </p:grpSpPr>
          <p:sp>
            <p:nvSpPr>
              <p:cNvPr id="509" name="Line 118"/>
              <p:cNvSpPr/>
              <p:nvPr/>
            </p:nvSpPr>
            <p:spPr>
              <a:xfrm>
                <a:off x="2133720" y="4816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Text Box 119"/>
              <p:cNvSpPr/>
              <p:nvPr/>
            </p:nvSpPr>
            <p:spPr>
              <a:xfrm>
                <a:off x="2514600" y="46483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llipt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120"/>
            <p:cNvGrpSpPr/>
            <p:nvPr/>
          </p:nvGrpSpPr>
          <p:grpSpPr>
            <a:xfrm>
              <a:off x="2133720" y="4876920"/>
              <a:ext cx="1523880" cy="337320"/>
              <a:chOff x="2133720" y="4876920"/>
              <a:chExt cx="1523880" cy="337320"/>
            </a:xfrm>
          </p:grpSpPr>
          <p:sp>
            <p:nvSpPr>
              <p:cNvPr id="512" name="Line 121"/>
              <p:cNvSpPr/>
              <p:nvPr/>
            </p:nvSpPr>
            <p:spPr>
              <a:xfrm>
                <a:off x="2133720" y="50454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122"/>
              <p:cNvSpPr/>
              <p:nvPr/>
            </p:nvSpPr>
            <p:spPr>
              <a:xfrm>
                <a:off x="2514600" y="48769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1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65240" y="1447560"/>
            <a:ext cx="425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lter design/analysi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 design specification (all demo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ass = 96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top = 120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ampling = 480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ss = 1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op = 80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Under analysis menu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343400" y="14479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– equirip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Remez Exchange or Parks-McClella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rder is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Wstop to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100 gives Astop 10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200 gives Astop 17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300 does not converge –how to get higher order fil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 filter – Kaiser window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rder 101 meets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2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560" y="1447560"/>
            <a:ext cx="4343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– ellip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rder of 8 meets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 Astop of ~80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/zeros separated in 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s on or near unit circle indicate stop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near unit circle indicate pass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504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les very close to unit cir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864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– ellip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filter order to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ht complex symmetric poles and one real po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observations on l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636D467A-0A42-4B2D-AF8C-979FB06AA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5" descr="PoleZeroPlot5.tif"/>
          <p:cNvPicPr/>
          <p:nvPr/>
        </p:nvPicPr>
        <p:blipFill>
          <a:blip r:embed="rId1"/>
          <a:srcRect l="9446" t="36367" r="9446" b="36367"/>
          <a:stretch/>
        </p:blipFill>
        <p:spPr>
          <a:xfrm>
            <a:off x="4708440" y="3692520"/>
            <a:ext cx="428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3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560" y="1447920"/>
            <a:ext cx="422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– elliptic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filter order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les very close to unit circle but BIBO 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419720" y="1447920"/>
            <a:ext cx="44193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ingle section (Edit men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lation frequency ~9 kHz appears in pass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O unstable: two pairs of poles outside unit cir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5" descr="PoleZeroPlot6.tif"/>
          <p:cNvPicPr/>
          <p:nvPr/>
        </p:nvPicPr>
        <p:blipFill>
          <a:blip r:embed="rId1"/>
          <a:srcRect l="9446" t="36367" r="9446" b="36367"/>
          <a:stretch/>
        </p:blipFill>
        <p:spPr>
          <a:xfrm>
            <a:off x="228600" y="3581280"/>
            <a:ext cx="4282920" cy="1870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304920" y="5543640"/>
            <a:ext cx="84582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R filter design algorithms return poles-zeroes-gain (PZK format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n response when expanding polynomials in transfer function from factored to un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9" descr="PoleZeroPlot8.tif"/>
          <p:cNvPicPr/>
          <p:nvPr/>
        </p:nvPicPr>
        <p:blipFill>
          <a:blip r:embed="rId2"/>
          <a:srcRect l="9446" t="36367" r="9446" b="36367"/>
          <a:stretch/>
        </p:blipFill>
        <p:spPr>
          <a:xfrm>
            <a:off x="4556160" y="3581280"/>
            <a:ext cx="428292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TLAB Demos Using fdatool #4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 - constrained least pth-norm desig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cond-ord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pole radii ≤ 0.9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weighting in stopband (Wstop) to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rder 8 do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et stopb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rder 10 does meet stopb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203040" y="5921280"/>
            <a:ext cx="449604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order might increase but worth it for more robust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PoleZeroPlot9.tif"/>
          <p:cNvPicPr/>
          <p:nvPr/>
        </p:nvPicPr>
        <p:blipFill>
          <a:blip r:embed="rId1"/>
          <a:srcRect l="8268" t="25458" r="8268" b="25458"/>
          <a:stretch/>
        </p:blipFill>
        <p:spPr>
          <a:xfrm>
            <a:off x="5334120" y="3938760"/>
            <a:ext cx="3124080" cy="2385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PoleZeroPlot10.tif"/>
          <p:cNvPicPr/>
          <p:nvPr/>
        </p:nvPicPr>
        <p:blipFill>
          <a:blip r:embed="rId2"/>
          <a:srcRect l="8263" t="25460" r="8263" b="25460"/>
          <a:stretch/>
        </p:blipFill>
        <p:spPr>
          <a:xfrm>
            <a:off x="5346720" y="1517760"/>
            <a:ext cx="3092400" cy="2361960"/>
          </a:xfrm>
          <a:prstGeom prst="rect">
            <a:avLst/>
          </a:prstGeom>
          <a:ln w="0">
            <a:noFill/>
          </a:ln>
        </p:spPr>
      </p:pic>
      <p:sp>
        <p:nvSpPr>
          <p:cNvPr id="5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86C08D4A-635C-483A-9AE7-1D8401422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Straight Arrow Connector 13"/>
          <p:cNvCxnSpPr/>
          <p:nvPr/>
        </p:nvCxnSpPr>
        <p:spPr>
          <a:xfrm flipV="1">
            <a:off x="4343400" y="4876200"/>
            <a:ext cx="838800" cy="22932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535" name="Straight Arrow Connector 14"/>
          <p:cNvCxnSpPr/>
          <p:nvPr/>
        </p:nvCxnSpPr>
        <p:spPr>
          <a:xfrm flipV="1">
            <a:off x="4571640" y="3123720"/>
            <a:ext cx="76284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6" name="Straight Connector 18"/>
          <p:cNvSpPr/>
          <p:nvPr/>
        </p:nvSpPr>
        <p:spPr>
          <a:xfrm>
            <a:off x="5638680" y="3492360"/>
            <a:ext cx="26672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20"/>
          <p:cNvSpPr/>
          <p:nvPr/>
        </p:nvSpPr>
        <p:spPr>
          <a:xfrm>
            <a:off x="5613480" y="5715000"/>
            <a:ext cx="266688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ny Roles for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remov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and noise spectrally sepa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bandpass filtering to suppress out-of-ban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ysis, synthesis, and compres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calculating power spectra (slides 14-10 and 14-11) and polyphase filter banks for pulse shaping (lecture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al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 (lectures 10 and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equalization (slides 16-8 to 16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iming recovery (slides 13-17 to 13-20 and slide 16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frequency and phas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8C6F8793-366E-45A3-BEC1-BF599D82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8D7D73AB-21BD-4B88-9F60-A30E29325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04920" y="1523880"/>
          <a:ext cx="8534160" cy="3687840"/>
        </p:xfrm>
        <a:graphic>
          <a:graphicData uri="http://schemas.openxmlformats.org/drawingml/2006/table">
            <a:tbl>
              <a:tblPr/>
              <a:tblGrid>
                <a:gridCol w="1904760"/>
                <a:gridCol w="3124440"/>
                <a:gridCol w="350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R Fil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R Fil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Implementation complexity </a:t>
                      </a:r>
                      <a:r>
                        <a:rPr b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(sometimes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 of fou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Minimum order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ks-McClellan (Remez exchange) algorithm 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iptic design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St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become unstabl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implemented 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101"/>
                          </a:solidFill>
                          <a:latin typeface="Times New Roman"/>
                        </a:rPr>
                        <a:t>Linear p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mpulse response is symmetric or anti-symmetric about mid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but phase may made approximately linear over passband (or other ba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71"/>
          <p:cNvSpPr/>
          <p:nvPr/>
        </p:nvSpPr>
        <p:spPr>
          <a:xfrm>
            <a:off x="228600" y="52578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For same piecewise constant magnitude specif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Algorithm to estimate minimum order for Parks-McClellan algorithm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Kaiser may be off by 10%.  Search for minimum order is often need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Algorithms can tune design to implementation target to minimiz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C6910BA-3D41-4279-BD1D-25C12E09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hoice of IIR filter structure matters for both analysis and implem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Keep roots computed by filter design algorith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deflation (rooting) reliable in floating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inflation (expansion) may degrad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ore than 20 IIR filter structures in u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forms and cascade of biquads are very common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form IIR structures expand zeros and po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come unstable for large order filters (order &gt; 12) due to degradation in pole locations from polynomial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DB87300-3DCB-4F8B-9200-14DDEE191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ascade of biquads (second-order sections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es and zeros of second-order sections expa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quads placed in order of ascending qualit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ordering of biquads requires exhaus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filter order is fixed, there exists no solution, one solution or an infinite number of solu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inimum order design not always most efficien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depends on target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power-of-two coefficien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designs may require search of infinite desig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EBD20DD4-AAEF-43A2-A0F8-98B2E4461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gital IIR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finite Impulse Response (IIR) filter has impulse response of infinite duration, e.g.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ow to implement the IIR filter by computer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be the input signal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the output sign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37960" y="2438280"/>
                <a:ext cx="15908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2835360" y="2438280"/>
                <a:ext cx="6080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Line 6"/>
          <p:cNvSpPr/>
          <p:nvPr/>
        </p:nvSpPr>
        <p:spPr>
          <a:xfrm>
            <a:off x="19810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0968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74560" y="4579920"/>
                <a:ext cx="17748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6257880" y="4486320"/>
                <a:ext cx="23670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Oval 11"/>
          <p:cNvSpPr/>
          <p:nvPr/>
        </p:nvSpPr>
        <p:spPr>
          <a:xfrm>
            <a:off x="6019920" y="5105520"/>
            <a:ext cx="2666880" cy="9144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7543800" y="601992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6320" y="6172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ecursively compute output 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, n ≥ 0, given 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-1]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5"/>
              <p:cNvSpPr txBox="1"/>
              <p:nvPr/>
            </p:nvSpPr>
            <p:spPr>
              <a:xfrm>
                <a:off x="3048120" y="4495680"/>
                <a:ext cx="246852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7756B1F7-3DEB-4E3F-9AAE-2A1493735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fferent Filter Representation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fference equ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 computation nee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1]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ilter to be LTI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1] =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2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er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LT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648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lock diagram represent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filter section (a.k.a. biquad) with 2 poles and 0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7"/>
              <p:cNvSpPr txBox="1"/>
              <p:nvPr/>
            </p:nvSpPr>
            <p:spPr>
              <a:xfrm>
                <a:off x="952560" y="1870200"/>
                <a:ext cx="33843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Group 41"/>
          <p:cNvGrpSpPr/>
          <p:nvPr/>
        </p:nvGrpSpPr>
        <p:grpSpPr>
          <a:xfrm>
            <a:off x="4724280" y="2438280"/>
            <a:ext cx="4038840" cy="2438640"/>
            <a:chOff x="4724280" y="2438280"/>
            <a:chExt cx="4038840" cy="2438640"/>
          </a:xfrm>
        </p:grpSpPr>
        <p:sp>
          <p:nvSpPr>
            <p:cNvPr id="111" name="Oval 5"/>
            <p:cNvSpPr/>
            <p:nvPr/>
          </p:nvSpPr>
          <p:spPr>
            <a:xfrm>
              <a:off x="5638680" y="2438280"/>
              <a:ext cx="5335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24280" y="2438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8229600" y="243828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7315200" y="289548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7315200" y="380988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10"/>
            <p:cNvSpPr/>
            <p:nvPr/>
          </p:nvSpPr>
          <p:spPr>
            <a:xfrm rot="16200000">
              <a:off x="6324480" y="3276000"/>
              <a:ext cx="609480" cy="60984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1"/>
            <p:cNvSpPr/>
            <p:nvPr/>
          </p:nvSpPr>
          <p:spPr>
            <a:xfrm rot="16200000">
              <a:off x="6248160" y="4267080"/>
              <a:ext cx="60984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AutoShape 13"/>
            <p:cNvCxnSpPr>
              <a:stCxn id="111" idx="6"/>
              <a:endCxn id="113" idx="1"/>
            </p:cNvCxnSpPr>
            <p:nvPr/>
          </p:nvCxnSpPr>
          <p:spPr>
            <a:xfrm>
              <a:off x="6171840" y="2704680"/>
              <a:ext cx="2057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AutoShape 14"/>
            <p:cNvCxnSpPr>
              <a:stCxn id="111" idx="6"/>
              <a:endCxn id="114" idx="0"/>
            </p:cNvCxnSpPr>
            <p:nvPr/>
          </p:nvCxnSpPr>
          <p:spPr>
            <a:xfrm>
              <a:off x="6171840" y="2704680"/>
              <a:ext cx="1524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AutoShape 15"/>
            <p:cNvCxnSpPr>
              <a:stCxn id="114" idx="2"/>
              <a:endCxn id="115" idx="0"/>
            </p:cNvCxnSpPr>
            <p:nvPr/>
          </p:nvCxnSpPr>
          <p:spPr>
            <a:xfrm>
              <a:off x="7695720" y="342900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16"/>
            <p:cNvCxnSpPr>
              <a:stCxn id="114" idx="2"/>
              <a:endCxn id="116" idx="2"/>
            </p:cNvCxnSpPr>
            <p:nvPr/>
          </p:nvCxnSpPr>
          <p:spPr>
            <a:xfrm rot="5400000">
              <a:off x="7238160" y="3122280"/>
              <a:ext cx="151560" cy="76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17"/>
            <p:cNvCxnSpPr>
              <a:stCxn id="115" idx="2"/>
              <a:endCxn id="117" idx="2"/>
            </p:cNvCxnSpPr>
            <p:nvPr/>
          </p:nvCxnSpPr>
          <p:spPr>
            <a:xfrm rot="5400000">
              <a:off x="7162200" y="4037040"/>
              <a:ext cx="22788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18"/>
            <p:cNvCxnSpPr>
              <a:stCxn id="116" idx="0"/>
              <a:endCxn id="111" idx="5"/>
            </p:cNvCxnSpPr>
            <p:nvPr/>
          </p:nvCxnSpPr>
          <p:spPr>
            <a:xfrm flipH="1" flipV="1">
              <a:off x="6093720" y="2893320"/>
              <a:ext cx="22932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9"/>
            <p:cNvCxnSpPr>
              <a:stCxn id="117" idx="0"/>
              <a:endCxn id="111" idx="4"/>
            </p:cNvCxnSpPr>
            <p:nvPr/>
          </p:nvCxnSpPr>
          <p:spPr>
            <a:xfrm flipH="1" flipV="1">
              <a:off x="5905080" y="2971080"/>
              <a:ext cx="342000" cy="160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Text Box 23"/>
            <p:cNvSpPr/>
            <p:nvPr/>
          </p:nvSpPr>
          <p:spPr>
            <a:xfrm>
              <a:off x="8001000" y="3429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4"/>
            <p:cNvSpPr/>
            <p:nvPr/>
          </p:nvSpPr>
          <p:spPr>
            <a:xfrm>
              <a:off x="8001000" y="4357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>
              <a:off x="5257800" y="2743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" name="Object 34"/>
              <p:cNvSpPr txBox="1"/>
              <p:nvPr/>
            </p:nvSpPr>
            <p:spPr>
              <a:xfrm>
                <a:off x="892080" y="5041800"/>
                <a:ext cx="35276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39"/>
          <p:cNvSpPr/>
          <p:nvPr/>
        </p:nvSpPr>
        <p:spPr>
          <a:xfrm>
            <a:off x="4572000" y="6172200"/>
            <a:ext cx="32767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es at –0.183 and +0.68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0"/>
          <p:cNvSpPr/>
          <p:nvPr/>
        </p:nvSpPr>
        <p:spPr>
          <a:xfrm flipH="1" flipV="1">
            <a:off x="4114800" y="63244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FE3E268C-AC7A-4CA8-927D-5661DDE49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Biquad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wo poles, and zero, one, or two zero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8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verall transfer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oles are conjugate symmetric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zeros are conjugate symmetric 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2"/>
              <p:cNvSpPr txBox="1"/>
              <p:nvPr/>
            </p:nvSpPr>
            <p:spPr>
              <a:xfrm>
                <a:off x="985680" y="5094360"/>
                <a:ext cx="541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5" name="Group 40"/>
          <p:cNvGrpSpPr/>
          <p:nvPr/>
        </p:nvGrpSpPr>
        <p:grpSpPr>
          <a:xfrm>
            <a:off x="838080" y="1752480"/>
            <a:ext cx="6705720" cy="2971440"/>
            <a:chOff x="838080" y="1752480"/>
            <a:chExt cx="6705720" cy="2971440"/>
          </a:xfrm>
        </p:grpSpPr>
        <p:sp>
          <p:nvSpPr>
            <p:cNvPr id="136" name="Oval 5"/>
            <p:cNvSpPr/>
            <p:nvPr/>
          </p:nvSpPr>
          <p:spPr>
            <a:xfrm>
              <a:off x="1752480" y="198108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838080" y="198108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3429000" y="243828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3429000" y="350496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 rot="16200000">
              <a:off x="2438280" y="281880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1"/>
            <p:cNvSpPr/>
            <p:nvPr/>
          </p:nvSpPr>
          <p:spPr>
            <a:xfrm rot="16200000">
              <a:off x="2361960" y="41144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AutoShape 13"/>
            <p:cNvCxnSpPr>
              <a:stCxn id="136" idx="6"/>
              <a:endCxn id="138" idx="0"/>
            </p:cNvCxnSpPr>
            <p:nvPr/>
          </p:nvCxnSpPr>
          <p:spPr>
            <a:xfrm>
              <a:off x="2285280" y="2247480"/>
              <a:ext cx="152460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AutoShape 14"/>
            <p:cNvCxnSpPr>
              <a:stCxn id="138" idx="2"/>
              <a:endCxn id="139" idx="0"/>
            </p:cNvCxnSpPr>
            <p:nvPr/>
          </p:nvCxnSpPr>
          <p:spPr>
            <a:xfrm>
              <a:off x="3809520" y="2971440"/>
              <a:ext cx="10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AutoShape 15"/>
            <p:cNvCxnSpPr>
              <a:stCxn id="138" idx="2"/>
              <a:endCxn id="140" idx="2"/>
            </p:cNvCxnSpPr>
            <p:nvPr/>
          </p:nvCxnSpPr>
          <p:spPr>
            <a:xfrm rot="5400000">
              <a:off x="3351960" y="2665080"/>
              <a:ext cx="151200" cy="764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16"/>
            <p:cNvCxnSpPr>
              <a:stCxn id="139" idx="2"/>
              <a:endCxn id="141" idx="2"/>
            </p:cNvCxnSpPr>
            <p:nvPr/>
          </p:nvCxnSpPr>
          <p:spPr>
            <a:xfrm rot="5400000">
              <a:off x="3199320" y="3808440"/>
              <a:ext cx="380160" cy="84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AutoShape 17"/>
            <p:cNvCxnSpPr>
              <a:stCxn id="140" idx="0"/>
              <a:endCxn id="136" idx="5"/>
            </p:cNvCxnSpPr>
            <p:nvPr/>
          </p:nvCxnSpPr>
          <p:spPr>
            <a:xfrm flipH="1" flipV="1">
              <a:off x="2207160" y="2435760"/>
              <a:ext cx="22932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18"/>
            <p:cNvCxnSpPr>
              <a:stCxn id="141" idx="0"/>
              <a:endCxn id="136" idx="4"/>
            </p:cNvCxnSpPr>
            <p:nvPr/>
          </p:nvCxnSpPr>
          <p:spPr>
            <a:xfrm flipH="1" flipV="1">
              <a:off x="2018880" y="2513880"/>
              <a:ext cx="342000" cy="190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 Box 19"/>
            <p:cNvSpPr/>
            <p:nvPr/>
          </p:nvSpPr>
          <p:spPr>
            <a:xfrm>
              <a:off x="3100680" y="31003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3088800" y="4038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1"/>
            <p:cNvSpPr/>
            <p:nvPr/>
          </p:nvSpPr>
          <p:spPr>
            <a:xfrm>
              <a:off x="1371240" y="228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3581280" y="175248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3809880" y="312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380988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25"/>
            <p:cNvSpPr/>
            <p:nvPr/>
          </p:nvSpPr>
          <p:spPr>
            <a:xfrm flipH="1" rot="5400000">
              <a:off x="4571280" y="411444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6"/>
            <p:cNvSpPr/>
            <p:nvPr/>
          </p:nvSpPr>
          <p:spPr>
            <a:xfrm>
              <a:off x="4495680" y="41911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2590560" y="28954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9"/>
            <p:cNvSpPr/>
            <p:nvPr/>
          </p:nvSpPr>
          <p:spPr>
            <a:xfrm>
              <a:off x="2514600" y="41911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 flipH="1" rot="5400000">
              <a:off x="4494960" y="281880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7"/>
            <p:cNvSpPr/>
            <p:nvPr/>
          </p:nvSpPr>
          <p:spPr>
            <a:xfrm>
              <a:off x="4419720" y="289548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31"/>
            <p:cNvSpPr/>
            <p:nvPr/>
          </p:nvSpPr>
          <p:spPr>
            <a:xfrm>
              <a:off x="5638680" y="198108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2"/>
            <p:cNvSpPr/>
            <p:nvPr/>
          </p:nvSpPr>
          <p:spPr>
            <a:xfrm flipV="1">
              <a:off x="5105520" y="236196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 flipV="1">
              <a:off x="5181480" y="2514240"/>
              <a:ext cx="6858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>
              <a:off x="6172200" y="2247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40"/>
            <p:cNvSpPr/>
            <p:nvPr/>
          </p:nvSpPr>
          <p:spPr>
            <a:xfrm>
              <a:off x="6782040" y="2057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 flipH="1" rot="5400000">
              <a:off x="4494960" y="1942560"/>
              <a:ext cx="609480" cy="60948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44"/>
            <p:cNvSpPr/>
            <p:nvPr/>
          </p:nvSpPr>
          <p:spPr>
            <a:xfrm>
              <a:off x="4419720" y="205704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45"/>
            <p:cNvSpPr/>
            <p:nvPr/>
          </p:nvSpPr>
          <p:spPr>
            <a:xfrm>
              <a:off x="3733560" y="2247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6"/>
            <p:cNvSpPr/>
            <p:nvPr/>
          </p:nvSpPr>
          <p:spPr>
            <a:xfrm>
              <a:off x="5105520" y="22478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 Box 49"/>
          <p:cNvSpPr/>
          <p:nvPr/>
        </p:nvSpPr>
        <p:spPr>
          <a:xfrm>
            <a:off x="6172200" y="3174840"/>
            <a:ext cx="266688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quad is short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iquadrat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ransfer function is ratio of two quadratic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9DB2BA8C-9E29-49D9-B94D-D77C14D40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Filt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Biquad w/ zero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d pole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distance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istance from poi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unit circ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le loc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225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poles and zeros are separated in ang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05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near unit circle indicate filter’s passban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s on/near unit circle indicate stopban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072"/>
              <p:cNvSpPr txBox="1"/>
              <p:nvPr/>
            </p:nvSpPr>
            <p:spPr>
              <a:xfrm>
                <a:off x="5187960" y="1522440"/>
                <a:ext cx="2571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073"/>
              <p:cNvSpPr txBox="1"/>
              <p:nvPr/>
            </p:nvSpPr>
            <p:spPr>
              <a:xfrm>
                <a:off x="5167440" y="2284560"/>
                <a:ext cx="3367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074"/>
              <p:cNvSpPr txBox="1"/>
              <p:nvPr/>
            </p:nvSpPr>
            <p:spPr>
              <a:xfrm>
                <a:off x="5187960" y="3083040"/>
                <a:ext cx="32432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6" name="Group 2113"/>
          <p:cNvGrpSpPr/>
          <p:nvPr/>
        </p:nvGrpSpPr>
        <p:grpSpPr>
          <a:xfrm>
            <a:off x="6041880" y="3930480"/>
            <a:ext cx="990720" cy="370080"/>
            <a:chOff x="6041880" y="3930480"/>
            <a:chExt cx="990720" cy="370080"/>
          </a:xfrm>
        </p:grpSpPr>
        <p:sp>
          <p:nvSpPr>
            <p:cNvPr id="177" name="Line 2107"/>
            <p:cNvSpPr/>
            <p:nvPr/>
          </p:nvSpPr>
          <p:spPr>
            <a:xfrm flipV="1">
              <a:off x="7032600" y="3930480"/>
              <a:ext cx="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110"/>
            <p:cNvSpPr/>
            <p:nvPr/>
          </p:nvSpPr>
          <p:spPr>
            <a:xfrm>
              <a:off x="6041880" y="4287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BCCB39FD-1CB3-4BC1-8928-1A9D3AB6A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IIR Biquad Example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ransfer func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When transfer function coefficients are real-valued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(X) are conjugate symmetric or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s (O) are conjugate symmetric or real-val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lters below have what magnitude responses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533520" y="3870360"/>
            <a:ext cx="2428920" cy="1905120"/>
            <a:chOff x="533520" y="3870360"/>
            <a:chExt cx="2428920" cy="1905120"/>
          </a:xfrm>
        </p:grpSpPr>
        <p:sp>
          <p:nvSpPr>
            <p:cNvPr id="183" name="Line 5"/>
            <p:cNvSpPr/>
            <p:nvPr/>
          </p:nvSpPr>
          <p:spPr>
            <a:xfrm>
              <a:off x="1362240" y="4175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>
              <a:off x="600120" y="4975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2200320" y="479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057320" y="3870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790560" y="44038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552680" y="4699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533520" y="4708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533520" y="4908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1552680" y="491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14"/>
          <p:cNvGrpSpPr/>
          <p:nvPr/>
        </p:nvGrpSpPr>
        <p:grpSpPr>
          <a:xfrm>
            <a:off x="3076560" y="3870360"/>
            <a:ext cx="2362320" cy="2018880"/>
            <a:chOff x="3076560" y="3870360"/>
            <a:chExt cx="2362320" cy="2018880"/>
          </a:xfrm>
        </p:grpSpPr>
        <p:sp>
          <p:nvSpPr>
            <p:cNvPr id="193" name="Line 15"/>
            <p:cNvSpPr/>
            <p:nvPr/>
          </p:nvSpPr>
          <p:spPr>
            <a:xfrm>
              <a:off x="3838680" y="4174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3076560" y="497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4676760" y="4798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3533760" y="3870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19"/>
            <p:cNvSpPr/>
            <p:nvPr/>
          </p:nvSpPr>
          <p:spPr>
            <a:xfrm>
              <a:off x="3267360" y="4403520"/>
              <a:ext cx="1143000" cy="1142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3943440" y="43718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1"/>
            <p:cNvSpPr/>
            <p:nvPr/>
          </p:nvSpPr>
          <p:spPr>
            <a:xfrm>
              <a:off x="3915000" y="52513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3800520" y="5105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3819600" y="4518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3838680" y="49752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3819600" y="4174920"/>
              <a:ext cx="704880" cy="81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26"/>
          <p:cNvGrpSpPr/>
          <p:nvPr/>
        </p:nvGrpSpPr>
        <p:grpSpPr>
          <a:xfrm>
            <a:off x="5486400" y="3870360"/>
            <a:ext cx="2361960" cy="2134440"/>
            <a:chOff x="5486400" y="3870360"/>
            <a:chExt cx="2361960" cy="2134440"/>
          </a:xfrm>
        </p:grpSpPr>
        <p:sp>
          <p:nvSpPr>
            <p:cNvPr id="205" name="Line 27"/>
            <p:cNvSpPr/>
            <p:nvPr/>
          </p:nvSpPr>
          <p:spPr>
            <a:xfrm>
              <a:off x="6248160" y="4175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5486400" y="4975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>
              <a:off x="7086600" y="47991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>
              <a:off x="5943600" y="38703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31"/>
            <p:cNvSpPr/>
            <p:nvPr/>
          </p:nvSpPr>
          <p:spPr>
            <a:xfrm>
              <a:off x="5676840" y="44038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629400" y="4042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>
              <a:off x="6629400" y="5667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6210360" y="51055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229080" y="45183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6248160" y="497556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 flipV="1">
              <a:off x="6229080" y="4174920"/>
              <a:ext cx="704880" cy="819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0"/>
              <p:cNvSpPr txBox="1"/>
              <p:nvPr/>
            </p:nvSpPr>
            <p:spPr>
              <a:xfrm>
                <a:off x="3784680" y="1371600"/>
                <a:ext cx="4978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39"/>
          <p:cNvSpPr/>
          <p:nvPr/>
        </p:nvSpPr>
        <p:spPr>
          <a:xfrm>
            <a:off x="7772400" y="3989520"/>
            <a:ext cx="1219320" cy="1923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pass bandpass bandstop allpass not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0"/>
          <p:cNvSpPr/>
          <p:nvPr/>
        </p:nvSpPr>
        <p:spPr>
          <a:xfrm>
            <a:off x="5181480" y="6004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have radi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eros have radius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1092240" y="60008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are on the unit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D2CF1C09-589D-4684-960B-ACEB9ECD3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 Direct Form IIR Realiz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IR filters having rational transfer func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rect form realiz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product of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s and vector of 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and previo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s (FIR 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product of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efficients and vector of previo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puts (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” filtering of previous output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multiply-accumulates (M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ds for previous inputs/outputs an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words for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23920" y="2081160"/>
                <a:ext cx="4402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5181480" y="2038320"/>
                <a:ext cx="3929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5083200" y="3346560"/>
                <a:ext cx="3941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Oval 7"/>
          <p:cNvSpPr/>
          <p:nvPr/>
        </p:nvSpPr>
        <p:spPr>
          <a:xfrm>
            <a:off x="5767560" y="3200400"/>
            <a:ext cx="1523880" cy="10666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 flipV="1">
            <a:off x="6477120" y="4190760"/>
            <a:ext cx="121896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7086600" y="4114800"/>
            <a:ext cx="0" cy="5335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7391520" y="3200400"/>
            <a:ext cx="1523880" cy="10666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4765680" y="2314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2-24T03:18:08Z</dcterms:modified>
  <cp:revision>391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