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EAE-FA5F-4054-A109-2A3D86EB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451-6CEC-4109-A3CC-B70CF1EE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6D3-802A-4ED7-BF28-2F2575BA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E33-0848-4457-9E10-D2E450C4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F1D8-410E-4166-B3A5-1233E0A6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33EE-97C6-4918-A35C-AA186C97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42EB-6830-4A79-9A44-F3BEAA26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3B2-DC0C-4535-9CC8-7EB8996A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DACB-CF14-40E5-8353-979534FC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AB55-ACCC-434B-9931-2FE08B37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401C-531A-4F88-BB2E-77CFD040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41A-DE94-4F29-A91D-72F552D3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45FC-4BA7-416B-9335-66C2A35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235B-DEC6-40A0-B529-74C0C79A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67BC-29A8-4D5E-B32E-57C689B0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CF68-3B15-4FEB-99C1-44E42BD6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2C07-3B76-45CD-A722-CA38593D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7C9-6E0B-4A2B-AA04-131330DB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764-D70F-437B-A24C-1179480C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8E4-CCF0-46F6-9B86-9198ACC0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C1D-7353-4620-B495-1A6544B7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827-7833-4374-B1F8-8BB9BD5A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580-864C-4061-BA84-380A8140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75C-A4CC-4F78-A99C-3A2C5E32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EFF01FCC-A4F6-4CC3-865F-97A92CC28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7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04D7014-7B42-4A2A-8284-11190CCC2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i.com/lit/ds/symlink/tlv320aic23b.pdf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D07949DC-B619-43D1-88EE-5539B1AB8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ation outpu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ignal plus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is difference of output and inpu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-to-noise ratio (SNR) deriv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e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ssump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midrise quan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oes not overload quan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 error (noise) is uniformly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quantization leve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arge enoug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1143000" y="4784760"/>
            <a:ext cx="2895480" cy="551160"/>
            <a:chOff x="1143000" y="4784760"/>
            <a:chExt cx="2895480" cy="551160"/>
          </a:xfrm>
        </p:grpSpPr>
        <p:sp>
          <p:nvSpPr>
            <p:cNvPr id="223" name="Line 5"/>
            <p:cNvSpPr/>
            <p:nvPr/>
          </p:nvSpPr>
          <p:spPr>
            <a:xfrm>
              <a:off x="1219320" y="5013360"/>
              <a:ext cx="83808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6"/>
            <p:cNvSpPr/>
            <p:nvPr/>
          </p:nvSpPr>
          <p:spPr>
            <a:xfrm>
              <a:off x="2057400" y="4784760"/>
              <a:ext cx="1143000" cy="510120"/>
            </a:xfrm>
            <a:prstGeom prst="rect">
              <a:avLst/>
            </a:prstGeom>
            <a:noFill/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ff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6600ff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6600ff"/>
                  </a:solidFill>
                  <a:latin typeface="Times New Roman"/>
                </a:rPr>
                <a:t>[ </a:t>
              </a:r>
              <a:r>
                <a:rPr b="0" lang="en-US" sz="24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· </a:t>
              </a:r>
              <a:r>
                <a:rPr b="0" lang="en-US" sz="2400" spc="-1" strike="noStrike">
                  <a:solidFill>
                    <a:srgbClr val="6600ff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7"/>
            <p:cNvSpPr/>
            <p:nvPr/>
          </p:nvSpPr>
          <p:spPr>
            <a:xfrm>
              <a:off x="3200400" y="5013360"/>
              <a:ext cx="838080" cy="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8"/>
            <p:cNvSpPr/>
            <p:nvPr/>
          </p:nvSpPr>
          <p:spPr>
            <a:xfrm>
              <a:off x="1143000" y="4937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9"/>
            <p:cNvSpPr/>
            <p:nvPr/>
          </p:nvSpPr>
          <p:spPr>
            <a:xfrm>
              <a:off x="3276720" y="4937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Object 0"/>
              <p:cNvSpPr txBox="1"/>
              <p:nvPr/>
            </p:nvSpPr>
            <p:spPr>
              <a:xfrm>
                <a:off x="1295280" y="5987880"/>
                <a:ext cx="26672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"/>
              <p:cNvSpPr txBox="1"/>
              <p:nvPr/>
            </p:nvSpPr>
            <p:spPr>
              <a:xfrm>
                <a:off x="6934320" y="5267160"/>
                <a:ext cx="10666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90C1C4DC-171F-4CE2-8FE1-4DAB38C99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terministic sig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ier trans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pectrum is square of absolute value of magnitude response (phase is ign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 in Fourier domain is convolution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ion in Fourier domain is reversal &amp; conjugation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9104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tocorrelation of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value (when it exists) i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ven symmetric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024"/>
              <p:cNvSpPr txBox="1"/>
              <p:nvPr/>
            </p:nvSpPr>
            <p:spPr>
              <a:xfrm>
                <a:off x="1066680" y="3524400"/>
                <a:ext cx="3581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25"/>
              <p:cNvSpPr txBox="1"/>
              <p:nvPr/>
            </p:nvSpPr>
            <p:spPr>
              <a:xfrm>
                <a:off x="1066680" y="5638680"/>
                <a:ext cx="4038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26"/>
              <p:cNvSpPr txBox="1"/>
              <p:nvPr/>
            </p:nvSpPr>
            <p:spPr>
              <a:xfrm>
                <a:off x="5638680" y="1905120"/>
                <a:ext cx="2743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7" name="Group 1032"/>
          <p:cNvGrpSpPr/>
          <p:nvPr/>
        </p:nvGrpSpPr>
        <p:grpSpPr>
          <a:xfrm>
            <a:off x="6172200" y="3860640"/>
            <a:ext cx="2286000" cy="1316880"/>
            <a:chOff x="6172200" y="3860640"/>
            <a:chExt cx="2286000" cy="1316880"/>
          </a:xfrm>
        </p:grpSpPr>
        <p:sp>
          <p:nvSpPr>
            <p:cNvPr id="238" name="Line 1033"/>
            <p:cNvSpPr/>
            <p:nvPr/>
          </p:nvSpPr>
          <p:spPr>
            <a:xfrm>
              <a:off x="6858000" y="419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034"/>
            <p:cNvSpPr/>
            <p:nvPr/>
          </p:nvSpPr>
          <p:spPr>
            <a:xfrm>
              <a:off x="6172200" y="4806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35"/>
            <p:cNvSpPr/>
            <p:nvPr/>
          </p:nvSpPr>
          <p:spPr>
            <a:xfrm>
              <a:off x="6858000" y="4349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036"/>
            <p:cNvSpPr/>
            <p:nvPr/>
          </p:nvSpPr>
          <p:spPr>
            <a:xfrm>
              <a:off x="6858000" y="4349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037"/>
            <p:cNvSpPr/>
            <p:nvPr/>
          </p:nvSpPr>
          <p:spPr>
            <a:xfrm>
              <a:off x="6248520" y="4806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38"/>
            <p:cNvSpPr/>
            <p:nvPr/>
          </p:nvSpPr>
          <p:spPr>
            <a:xfrm>
              <a:off x="7772400" y="48067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039"/>
            <p:cNvSpPr/>
            <p:nvPr/>
          </p:nvSpPr>
          <p:spPr>
            <a:xfrm>
              <a:off x="7772400" y="4349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1040"/>
            <p:cNvSpPr/>
            <p:nvPr/>
          </p:nvSpPr>
          <p:spPr>
            <a:xfrm>
              <a:off x="8153640" y="48067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1041"/>
            <p:cNvSpPr/>
            <p:nvPr/>
          </p:nvSpPr>
          <p:spPr>
            <a:xfrm>
              <a:off x="7696440" y="412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1042"/>
            <p:cNvSpPr/>
            <p:nvPr/>
          </p:nvSpPr>
          <p:spPr>
            <a:xfrm>
              <a:off x="6324840" y="38606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1043"/>
            <p:cNvSpPr/>
            <p:nvPr/>
          </p:nvSpPr>
          <p:spPr>
            <a:xfrm>
              <a:off x="6477120" y="48067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1044"/>
            <p:cNvSpPr/>
            <p:nvPr/>
          </p:nvSpPr>
          <p:spPr>
            <a:xfrm>
              <a:off x="7467840" y="4806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045"/>
          <p:cNvGrpSpPr/>
          <p:nvPr/>
        </p:nvGrpSpPr>
        <p:grpSpPr>
          <a:xfrm>
            <a:off x="5334120" y="5060880"/>
            <a:ext cx="3200400" cy="1316880"/>
            <a:chOff x="5334120" y="5060880"/>
            <a:chExt cx="3200400" cy="1316880"/>
          </a:xfrm>
        </p:grpSpPr>
        <p:sp>
          <p:nvSpPr>
            <p:cNvPr id="251" name="Line 1046"/>
            <p:cNvSpPr/>
            <p:nvPr/>
          </p:nvSpPr>
          <p:spPr>
            <a:xfrm>
              <a:off x="6858000" y="53974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047"/>
            <p:cNvSpPr/>
            <p:nvPr/>
          </p:nvSpPr>
          <p:spPr>
            <a:xfrm>
              <a:off x="5334120" y="600696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048"/>
            <p:cNvSpPr/>
            <p:nvPr/>
          </p:nvSpPr>
          <p:spPr>
            <a:xfrm flipH="1">
              <a:off x="5943600" y="5537160"/>
              <a:ext cx="9144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049"/>
            <p:cNvSpPr/>
            <p:nvPr/>
          </p:nvSpPr>
          <p:spPr>
            <a:xfrm>
              <a:off x="5334120" y="60069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50"/>
            <p:cNvSpPr/>
            <p:nvPr/>
          </p:nvSpPr>
          <p:spPr>
            <a:xfrm>
              <a:off x="7772400" y="6006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051"/>
            <p:cNvSpPr/>
            <p:nvPr/>
          </p:nvSpPr>
          <p:spPr>
            <a:xfrm>
              <a:off x="8229600" y="6006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052"/>
            <p:cNvSpPr/>
            <p:nvPr/>
          </p:nvSpPr>
          <p:spPr>
            <a:xfrm>
              <a:off x="6324840" y="5060880"/>
              <a:ext cx="1066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053"/>
            <p:cNvSpPr/>
            <p:nvPr/>
          </p:nvSpPr>
          <p:spPr>
            <a:xfrm>
              <a:off x="5562720" y="600696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54"/>
            <p:cNvSpPr/>
            <p:nvPr/>
          </p:nvSpPr>
          <p:spPr>
            <a:xfrm>
              <a:off x="7543800" y="600696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55"/>
            <p:cNvSpPr/>
            <p:nvPr/>
          </p:nvSpPr>
          <p:spPr>
            <a:xfrm>
              <a:off x="6782040" y="5537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56"/>
            <p:cNvSpPr/>
            <p:nvPr/>
          </p:nvSpPr>
          <p:spPr>
            <a:xfrm>
              <a:off x="6858000" y="5537160"/>
              <a:ext cx="91440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057"/>
            <p:cNvSpPr/>
            <p:nvPr/>
          </p:nvSpPr>
          <p:spPr>
            <a:xfrm>
              <a:off x="6858000" y="528948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D2D9E825-6039-4D89-8C95-76CCC71FE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-sided random sig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 may not exist, but power spectrum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zero-mean Gaussian random proc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vari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36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stimate noise power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um in Matla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028"/>
              <p:cNvSpPr txBox="1"/>
              <p:nvPr/>
            </p:nvSpPr>
            <p:spPr>
              <a:xfrm>
                <a:off x="533520" y="4259160"/>
                <a:ext cx="4233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6400800" y="1554120"/>
                <a:ext cx="22860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Text Box 1030"/>
          <p:cNvSpPr/>
          <p:nvPr/>
        </p:nvSpPr>
        <p:spPr>
          <a:xfrm>
            <a:off x="804960" y="5637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= 16384;    % finite no. of samp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Noise = randn(N,1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ot( abs(fft(gaussianNoise)) .^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031" descr="noise"/>
          <p:cNvPicPr/>
          <p:nvPr/>
        </p:nvPicPr>
        <p:blipFill>
          <a:blip r:embed="rId1"/>
          <a:stretch/>
        </p:blipFill>
        <p:spPr>
          <a:xfrm>
            <a:off x="4419720" y="4664160"/>
            <a:ext cx="2819160" cy="2117520"/>
          </a:xfrm>
          <a:prstGeom prst="rect">
            <a:avLst/>
          </a:prstGeom>
          <a:ln w="0">
            <a:noFill/>
          </a:ln>
        </p:spPr>
      </p:pic>
      <p:sp>
        <p:nvSpPr>
          <p:cNvPr id="270" name="Line 1032"/>
          <p:cNvSpPr/>
          <p:nvPr/>
        </p:nvSpPr>
        <p:spPr>
          <a:xfrm>
            <a:off x="4495680" y="5737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33"/>
          <p:cNvSpPr/>
          <p:nvPr/>
        </p:nvSpPr>
        <p:spPr>
          <a:xfrm>
            <a:off x="7216920" y="51814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roximate noise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19120" y="2293920"/>
                <a:ext cx="550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035"/>
              <p:cNvSpPr txBox="1"/>
              <p:nvPr/>
            </p:nvSpPr>
            <p:spPr>
              <a:xfrm>
                <a:off x="525600" y="2878200"/>
                <a:ext cx="71704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n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028"/>
              <p:cNvSpPr txBox="1"/>
              <p:nvPr/>
            </p:nvSpPr>
            <p:spPr>
              <a:xfrm>
                <a:off x="533520" y="3772080"/>
                <a:ext cx="4941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τ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028"/>
              <p:cNvSpPr txBox="1"/>
              <p:nvPr/>
            </p:nvSpPr>
            <p:spPr>
              <a:xfrm>
                <a:off x="6477120" y="4191120"/>
                <a:ext cx="1371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" name="Left-Right Arrow 14"/>
          <p:cNvSpPr/>
          <p:nvPr/>
        </p:nvSpPr>
        <p:spPr>
          <a:xfrm>
            <a:off x="5194440" y="4394160"/>
            <a:ext cx="914400" cy="15228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1BE58696-A413-4D2E-93AE-086A2BB5E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76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er step siz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ation err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mple of zero-mean random proc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niformly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6480" y="144792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put power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average,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exponential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1 bit increases SNR by factor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rivation of SNR in deciBels on next slid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024"/>
              <p:cNvSpPr txBox="1"/>
              <p:nvPr/>
            </p:nvSpPr>
            <p:spPr>
              <a:xfrm>
                <a:off x="1219320" y="190512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025"/>
              <p:cNvSpPr txBox="1"/>
              <p:nvPr/>
            </p:nvSpPr>
            <p:spPr>
              <a:xfrm>
                <a:off x="1828800" y="2905200"/>
                <a:ext cx="13716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q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026"/>
              <p:cNvSpPr txBox="1"/>
              <p:nvPr/>
            </p:nvSpPr>
            <p:spPr>
              <a:xfrm>
                <a:off x="1219320" y="4876920"/>
                <a:ext cx="2489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ero</m:t>
                            </m:r>
                          </m:lim>
                        </m:limLow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027"/>
              <p:cNvSpPr txBox="1"/>
              <p:nvPr/>
            </p:nvSpPr>
            <p:spPr>
              <a:xfrm>
                <a:off x="5105520" y="2133720"/>
                <a:ext cx="35272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gnal Pow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oise Powe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rage,m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erage,m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4FC8D313-4DCF-4EF8-AEC6-898E81279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Quantization Error (Noise) Analysi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NR in dB = constant + 6.02 dB/bit *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at is maximum number of bits of resolution f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 CD signal with SNR of 9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 TLV320AIC23B stereo codec used on TI DSP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C 90 dB SNR (14.6 bits) and 80 dB THD (13 bits) page 2-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C has 100 dB SNR (16 bits) and 88 dB THD (14.3 bits) page 2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5120"/>
              <p:cNvSpPr txBox="1"/>
              <p:nvPr/>
            </p:nvSpPr>
            <p:spPr>
              <a:xfrm>
                <a:off x="457200" y="1949400"/>
                <a:ext cx="723888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10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SNR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verage,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ax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den>
                                  </m:f>
                                </m:e>
                              </m:d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verage,m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rPr>
                              <m:lit/>
                              <m:nor/>
                            </m:rPr>
                            <m:t xml:space="preserve"> B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7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verage,m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  <m:r>
                            <m:t xml:space="preserve">B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89" name="AutoShape 3077"/>
          <p:cNvSpPr/>
          <p:nvPr/>
        </p:nvSpPr>
        <p:spPr>
          <a:xfrm rot="16200000">
            <a:off x="4381200" y="1752120"/>
            <a:ext cx="127080" cy="4038480"/>
          </a:xfrm>
          <a:custGeom>
            <a:avLst/>
            <a:gdLst>
              <a:gd name="textAreaLeft" fmla="*/ 81360 w 127080"/>
              <a:gd name="textAreaRight" fmla="*/ 127440 w 127080"/>
              <a:gd name="textAreaTop" fmla="*/ 80280 h 4038480"/>
              <a:gd name="textAreaBottom" fmla="*/ 395820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8"/>
                  <a:pt x="10800" y="1376"/>
                </a:cubicBezTo>
                <a:lnTo>
                  <a:pt x="10800" y="9424"/>
                </a:lnTo>
                <a:cubicBezTo>
                  <a:pt x="10800" y="10112"/>
                  <a:pt x="5400" y="10800"/>
                  <a:pt x="0" y="10800"/>
                </a:cubicBezTo>
                <a:cubicBezTo>
                  <a:pt x="5400" y="10800"/>
                  <a:pt x="10800" y="11488"/>
                  <a:pt x="10800" y="12176"/>
                </a:cubicBezTo>
                <a:lnTo>
                  <a:pt x="10800" y="20224"/>
                </a:lnTo>
                <a:cubicBezTo>
                  <a:pt x="10800" y="209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078"/>
          <p:cNvSpPr/>
          <p:nvPr/>
        </p:nvSpPr>
        <p:spPr>
          <a:xfrm>
            <a:off x="1066680" y="37846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1.76 and 1.17 are common constants used in 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079"/>
          <p:cNvSpPr/>
          <p:nvPr/>
        </p:nvSpPr>
        <p:spPr>
          <a:xfrm>
            <a:off x="7696080" y="1447920"/>
            <a:ext cx="99072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se upper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ight Arrow 9">
            <a:hlinkClick r:id="rId1"/>
          </p:cNvPr>
          <p:cNvSpPr/>
          <p:nvPr/>
        </p:nvSpPr>
        <p:spPr>
          <a:xfrm>
            <a:off x="8001000" y="523224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otal Harmonic Distortion (THD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measure of nonlinear distortion in a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is a sinusoidal signal of a single fixed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output of system, the input sinusoid signal is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measure is then 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audio, sinusoidal signal is often at 1 kHz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t spot” for human hearing – stronge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” is 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brated 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”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3"/>
          <p:cNvGrpSpPr/>
          <p:nvPr/>
        </p:nvGrpSpPr>
        <p:grpSpPr>
          <a:xfrm>
            <a:off x="3352680" y="4354560"/>
            <a:ext cx="5486400" cy="2197440"/>
            <a:chOff x="3352680" y="4354560"/>
            <a:chExt cx="5486400" cy="2197440"/>
          </a:xfrm>
        </p:grpSpPr>
        <p:sp>
          <p:nvSpPr>
            <p:cNvPr id="296" name="Line 16"/>
            <p:cNvSpPr/>
            <p:nvPr/>
          </p:nvSpPr>
          <p:spPr>
            <a:xfrm>
              <a:off x="3962160" y="48380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4571640" y="4532040"/>
              <a:ext cx="10666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/D 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0"/>
            <p:cNvSpPr/>
            <p:nvPr/>
          </p:nvSpPr>
          <p:spPr>
            <a:xfrm>
              <a:off x="5638680" y="4762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7391520" y="4821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Group 21"/>
            <p:cNvGrpSpPr/>
            <p:nvPr/>
          </p:nvGrpSpPr>
          <p:grpSpPr>
            <a:xfrm>
              <a:off x="3352680" y="4592520"/>
              <a:ext cx="761760" cy="845280"/>
              <a:chOff x="3352680" y="4592520"/>
              <a:chExt cx="761760" cy="845280"/>
            </a:xfrm>
          </p:grpSpPr>
          <p:sp>
            <p:nvSpPr>
              <p:cNvPr id="301" name="Oval 17"/>
              <p:cNvSpPr/>
              <p:nvPr/>
            </p:nvSpPr>
            <p:spPr>
              <a:xfrm>
                <a:off x="3581280" y="464328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Box 18"/>
              <p:cNvSpPr/>
              <p:nvPr/>
            </p:nvSpPr>
            <p:spPr>
              <a:xfrm>
                <a:off x="3517560" y="4592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Box 19"/>
              <p:cNvSpPr/>
              <p:nvPr/>
            </p:nvSpPr>
            <p:spPr>
              <a:xfrm>
                <a:off x="3352680" y="51004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kHz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17"/>
            <p:cNvSpPr/>
            <p:nvPr/>
          </p:nvSpPr>
          <p:spPr>
            <a:xfrm>
              <a:off x="6324480" y="4515480"/>
              <a:ext cx="10666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/A 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Group 22"/>
            <p:cNvGrpSpPr/>
            <p:nvPr/>
          </p:nvGrpSpPr>
          <p:grpSpPr>
            <a:xfrm>
              <a:off x="5549760" y="5176800"/>
              <a:ext cx="761760" cy="878760"/>
              <a:chOff x="5549760" y="5176800"/>
              <a:chExt cx="761760" cy="878760"/>
            </a:xfrm>
          </p:grpSpPr>
          <p:sp>
            <p:nvSpPr>
              <p:cNvPr id="306" name="Oval 23"/>
              <p:cNvSpPr/>
              <p:nvPr/>
            </p:nvSpPr>
            <p:spPr>
              <a:xfrm>
                <a:off x="5778360" y="522756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TextBox 24"/>
              <p:cNvSpPr/>
              <p:nvPr/>
            </p:nvSpPr>
            <p:spPr>
              <a:xfrm>
                <a:off x="5714640" y="5176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Box 25"/>
              <p:cNvSpPr/>
              <p:nvPr/>
            </p:nvSpPr>
            <p:spPr>
              <a:xfrm>
                <a:off x="5549760" y="5684760"/>
                <a:ext cx="761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Straight Connector 27"/>
            <p:cNvSpPr/>
            <p:nvPr/>
          </p:nvSpPr>
          <p:spPr>
            <a:xfrm>
              <a:off x="6172200" y="540540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Straight Connector 28"/>
            <p:cNvSpPr/>
            <p:nvPr/>
          </p:nvSpPr>
          <p:spPr>
            <a:xfrm>
              <a:off x="5092560" y="540540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1" name="Straight Arrow Connector 30"/>
            <p:cNvCxnSpPr/>
            <p:nvPr/>
          </p:nvCxnSpPr>
          <p:spPr>
            <a:xfrm flipV="1">
              <a:off x="6845040" y="51001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2" name="Straight Arrow Connector 31"/>
            <p:cNvCxnSpPr/>
            <p:nvPr/>
          </p:nvCxnSpPr>
          <p:spPr>
            <a:xfrm flipV="1">
              <a:off x="5092200" y="51001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13" name="Oval 34"/>
            <p:cNvSpPr/>
            <p:nvPr/>
          </p:nvSpPr>
          <p:spPr>
            <a:xfrm>
              <a:off x="7772400" y="4643280"/>
              <a:ext cx="423360" cy="423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Box 37"/>
            <p:cNvSpPr/>
            <p:nvPr/>
          </p:nvSpPr>
          <p:spPr>
            <a:xfrm>
              <a:off x="7429320" y="44571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Box 38"/>
            <p:cNvSpPr/>
            <p:nvPr/>
          </p:nvSpPr>
          <p:spPr>
            <a:xfrm>
              <a:off x="7543800" y="4990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−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Straight Connector 40"/>
            <p:cNvSpPr/>
            <p:nvPr/>
          </p:nvSpPr>
          <p:spPr>
            <a:xfrm>
              <a:off x="4267080" y="48337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Straight Arrow Connector 44"/>
            <p:cNvCxnSpPr/>
            <p:nvPr/>
          </p:nvCxnSpPr>
          <p:spPr>
            <a:xfrm flipH="1" flipV="1">
              <a:off x="7987680" y="5066280"/>
              <a:ext cx="13320" cy="133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18" name="Text Box 17"/>
            <p:cNvSpPr/>
            <p:nvPr/>
          </p:nvSpPr>
          <p:spPr>
            <a:xfrm>
              <a:off x="5499000" y="6214680"/>
              <a:ext cx="10666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Straight Arrow Connector 51"/>
            <p:cNvCxnSpPr>
              <a:endCxn id="318" idx="1"/>
            </p:cNvCxnSpPr>
            <p:nvPr/>
          </p:nvCxnSpPr>
          <p:spPr>
            <a:xfrm>
              <a:off x="4267080" y="6383520"/>
              <a:ext cx="1232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0" name="Straight Connector 63"/>
            <p:cNvSpPr/>
            <p:nvPr/>
          </p:nvSpPr>
          <p:spPr>
            <a:xfrm>
              <a:off x="6565680" y="6384600"/>
              <a:ext cx="14349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1" name="Straight Arrow Connector 70"/>
            <p:cNvCxnSpPr/>
            <p:nvPr/>
          </p:nvCxnSpPr>
          <p:spPr>
            <a:xfrm flipV="1">
              <a:off x="8195400" y="4837320"/>
              <a:ext cx="644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2" name="TextBox 74"/>
            <p:cNvSpPr/>
            <p:nvPr/>
          </p:nvSpPr>
          <p:spPr>
            <a:xfrm>
              <a:off x="3962160" y="43545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Box 75"/>
            <p:cNvSpPr/>
            <p:nvPr/>
          </p:nvSpPr>
          <p:spPr>
            <a:xfrm>
              <a:off x="8229600" y="43545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Box 77"/>
            <p:cNvSpPr/>
            <p:nvPr/>
          </p:nvSpPr>
          <p:spPr>
            <a:xfrm>
              <a:off x="7759800" y="4651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3CBCD598-9B05-42A7-AEC2-85E6606FF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Noise Immunity at Receiver Outpu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ends on modulation, average transmit power, transmission bandwidth and channel noi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communication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eceiver output SN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arrier to noise ratio is high, an increase in the transmission bandwid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a corresponding quadratic increase in the output signal-to-noise ratio or figure of merit of the [wideband] FM system.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on Hayki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., p. 14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communication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eceiver symbol error rat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de division multiple access (CDMA) spread spectrum communications, probability of symbol error decreases exponentially with transmission bandwid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Viterbi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MA: Principles of Sprea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995, pp. 34-3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2C4953C4-8BC8-47FF-8F9A-3D7F4F190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mplitude quantization approximates its input by a discrete amplitude taken from finite set of valu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ose upper bound in signal-to-noise ratio of a uniform amplitude quantizer with output of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case: 6 dB of SNR gained for each bit added to quan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limitation: assumes large number of leve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est case improvement in noise immunity for communication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mprovement quadratic in transmission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mprovement exponential in transmission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B3E60E19-C4E0-4636-A266-03DCB857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vs. Analog Au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 audio engineer claims to notice differences between analog vinyl master recording and the remixed CD version.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Is this possible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digitizing an analog recording, the maximum voltage level for the quantizer is the maximum volume in the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s are uniformly quantized (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vels in this case although early CDs circa 1982 were recorded at 14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on a track with both loud and quiet portions, which occurs often in classical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rack is quiet, relative error in quantizing samples g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st this with analog media such as vinyl which responds linearly to quiet por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0" y="120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9EA21EAE-3D19-4808-B559-D708C3574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vs. Analog Au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and digital media response to voltag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v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a large dynamic rang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media: records voltages abo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media: clips voltages abo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 CDs use delta-sigma modul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dynamic range of 19 bits for lower frequencies but lower than 16 bits for high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hearing is more sensitive at lower frequ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0"/>
              <p:cNvSpPr txBox="1"/>
              <p:nvPr/>
            </p:nvSpPr>
            <p:spPr>
              <a:xfrm>
                <a:off x="762120" y="2003400"/>
                <a:ext cx="43434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v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v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v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v</m:t>
                                      </m:r>
                                    </m:e>
                                  </m:d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v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"/>
              <p:cNvSpPr txBox="1"/>
              <p:nvPr/>
            </p:nvSpPr>
            <p:spPr>
              <a:xfrm>
                <a:off x="5465880" y="2001960"/>
                <a:ext cx="3220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v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v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 </m:t>
                              </m:r>
                              <m:r>
                                <m:t xml:space="preserve">v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0" name="Text Box 8"/>
          <p:cNvSpPr/>
          <p:nvPr/>
        </p:nvSpPr>
        <p:spPr>
          <a:xfrm>
            <a:off x="0" y="120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937BED6A-D9ED-4AA6-BA1F-8D1F5E728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rodu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niform amplitude quantiz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udio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ation error (noise) 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immunity in communication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gital vs. analog audi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CA03C906-290A-4B62-87C9-18741F7B1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solu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uman ey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received light on 2-D gr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receptor density in retin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s off exponentially aw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fovea (point of foc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logarithmically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 (amplitude)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uman ea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frequencies in 20 Hz to 20 kHz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logarithmically in both intensity (amplitude) of sound (pressure waves) and frequency (octa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-log plot for hearing response vs. frequ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81"/>
          <p:cNvGrpSpPr/>
          <p:nvPr/>
        </p:nvGrpSpPr>
        <p:grpSpPr>
          <a:xfrm>
            <a:off x="5791320" y="1523880"/>
            <a:ext cx="2438280" cy="2438640"/>
            <a:chOff x="5791320" y="1523880"/>
            <a:chExt cx="2438280" cy="2438640"/>
          </a:xfrm>
        </p:grpSpPr>
        <p:sp>
          <p:nvSpPr>
            <p:cNvPr id="93" name="Line 63"/>
            <p:cNvSpPr/>
            <p:nvPr/>
          </p:nvSpPr>
          <p:spPr>
            <a:xfrm>
              <a:off x="640080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64"/>
            <p:cNvSpPr/>
            <p:nvPr/>
          </p:nvSpPr>
          <p:spPr>
            <a:xfrm>
              <a:off x="701064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65"/>
            <p:cNvSpPr/>
            <p:nvPr/>
          </p:nvSpPr>
          <p:spPr>
            <a:xfrm>
              <a:off x="762012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66"/>
            <p:cNvSpPr/>
            <p:nvPr/>
          </p:nvSpPr>
          <p:spPr>
            <a:xfrm>
              <a:off x="822960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7"/>
            <p:cNvSpPr/>
            <p:nvPr/>
          </p:nvSpPr>
          <p:spPr>
            <a:xfrm>
              <a:off x="5791320" y="15238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68"/>
            <p:cNvSpPr/>
            <p:nvPr/>
          </p:nvSpPr>
          <p:spPr>
            <a:xfrm>
              <a:off x="5791320" y="15238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69"/>
            <p:cNvSpPr/>
            <p:nvPr/>
          </p:nvSpPr>
          <p:spPr>
            <a:xfrm>
              <a:off x="5791320" y="21337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70"/>
            <p:cNvSpPr/>
            <p:nvPr/>
          </p:nvSpPr>
          <p:spPr>
            <a:xfrm>
              <a:off x="5791320" y="2743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71"/>
            <p:cNvSpPr/>
            <p:nvPr/>
          </p:nvSpPr>
          <p:spPr>
            <a:xfrm>
              <a:off x="5791320" y="33526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72"/>
            <p:cNvSpPr/>
            <p:nvPr/>
          </p:nvSpPr>
          <p:spPr>
            <a:xfrm>
              <a:off x="5791320" y="3962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3"/>
            <p:cNvSpPr/>
            <p:nvPr/>
          </p:nvSpPr>
          <p:spPr>
            <a:xfrm>
              <a:off x="6400800" y="2438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74"/>
            <p:cNvSpPr/>
            <p:nvPr/>
          </p:nvSpPr>
          <p:spPr>
            <a:xfrm>
              <a:off x="640080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75"/>
            <p:cNvSpPr/>
            <p:nvPr/>
          </p:nvSpPr>
          <p:spPr>
            <a:xfrm>
              <a:off x="6705720" y="21337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76"/>
            <p:cNvSpPr/>
            <p:nvPr/>
          </p:nvSpPr>
          <p:spPr>
            <a:xfrm>
              <a:off x="7315200" y="21337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77"/>
            <p:cNvSpPr/>
            <p:nvPr/>
          </p:nvSpPr>
          <p:spPr>
            <a:xfrm>
              <a:off x="6705720" y="2590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78"/>
            <p:cNvSpPr/>
            <p:nvPr/>
          </p:nvSpPr>
          <p:spPr>
            <a:xfrm>
              <a:off x="6705720" y="2895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9"/>
            <p:cNvSpPr/>
            <p:nvPr/>
          </p:nvSpPr>
          <p:spPr>
            <a:xfrm>
              <a:off x="6858000" y="2438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0"/>
            <p:cNvSpPr/>
            <p:nvPr/>
          </p:nvSpPr>
          <p:spPr>
            <a:xfrm>
              <a:off x="7162920" y="2438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82"/>
          <p:cNvSpPr/>
          <p:nvPr/>
        </p:nvSpPr>
        <p:spPr>
          <a:xfrm>
            <a:off x="5257800" y="39625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Foveated grid:</a:t>
            </a:r>
            <a:br>
              <a:rPr sz="2400"/>
            </a:b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point of focus in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ata Conver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-to-Digital Conver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h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band frequ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an 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du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asing due to samp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force sampling theore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properti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-In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us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uantization i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n interpretation of a continuous quantity by a finite set of discrete valu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14" name="Group 14"/>
          <p:cNvGrpSpPr/>
          <p:nvPr/>
        </p:nvGrpSpPr>
        <p:grpSpPr>
          <a:xfrm>
            <a:off x="4191120" y="1523880"/>
            <a:ext cx="4724280" cy="2089440"/>
            <a:chOff x="4191120" y="1523880"/>
            <a:chExt cx="4724280" cy="2089440"/>
          </a:xfrm>
        </p:grpSpPr>
        <p:grpSp>
          <p:nvGrpSpPr>
            <p:cNvPr id="115" name="Group 15"/>
            <p:cNvGrpSpPr/>
            <p:nvPr/>
          </p:nvGrpSpPr>
          <p:grpSpPr>
            <a:xfrm>
              <a:off x="4191120" y="2069640"/>
              <a:ext cx="4724280" cy="1543680"/>
              <a:chOff x="4191120" y="2069640"/>
              <a:chExt cx="4724280" cy="1543680"/>
            </a:xfrm>
          </p:grpSpPr>
          <p:sp>
            <p:nvSpPr>
              <p:cNvPr id="116" name="Line 16"/>
              <p:cNvSpPr/>
              <p:nvPr/>
            </p:nvSpPr>
            <p:spPr>
              <a:xfrm>
                <a:off x="4191120" y="245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7"/>
              <p:cNvSpPr/>
              <p:nvPr/>
            </p:nvSpPr>
            <p:spPr>
              <a:xfrm>
                <a:off x="4648320" y="2073240"/>
                <a:ext cx="9907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nalog Lowpass Fil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18"/>
              <p:cNvSpPr/>
              <p:nvPr/>
            </p:nvSpPr>
            <p:spPr>
              <a:xfrm>
                <a:off x="5639040" y="24512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 flipV="1">
                <a:off x="6324840" y="2069640"/>
                <a:ext cx="38088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20"/>
              <p:cNvSpPr/>
              <p:nvPr/>
            </p:nvSpPr>
            <p:spPr>
              <a:xfrm>
                <a:off x="6705720" y="24512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21"/>
              <p:cNvSpPr/>
              <p:nvPr/>
            </p:nvSpPr>
            <p:spPr>
              <a:xfrm>
                <a:off x="7391520" y="2073240"/>
                <a:ext cx="106668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Quantizer</a:t>
                </a:r>
                <a:br>
                  <a:rPr sz="1600"/>
                </a:b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22"/>
              <p:cNvSpPr/>
              <p:nvPr/>
            </p:nvSpPr>
            <p:spPr>
              <a:xfrm>
                <a:off x="8458200" y="245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23"/>
              <p:cNvSpPr/>
              <p:nvPr/>
            </p:nvSpPr>
            <p:spPr>
              <a:xfrm>
                <a:off x="6400800" y="2070000"/>
                <a:ext cx="152640" cy="685800"/>
              </a:xfrm>
              <a:custGeom>
                <a:avLst/>
                <a:gdLst>
                  <a:gd name="textAreaLeft" fmla="*/ 20160 w 152640"/>
                  <a:gd name="textAreaRight" fmla="*/ 132480 w 15264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24"/>
              <p:cNvSpPr/>
              <p:nvPr/>
            </p:nvSpPr>
            <p:spPr>
              <a:xfrm>
                <a:off x="6019920" y="2755800"/>
                <a:ext cx="1219320" cy="85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ampler at sampling rate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Text Box 25"/>
            <p:cNvSpPr/>
            <p:nvPr/>
          </p:nvSpPr>
          <p:spPr>
            <a:xfrm>
              <a:off x="7302600" y="1523880"/>
              <a:ext cx="129528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6"/>
            <p:cNvSpPr/>
            <p:nvPr/>
          </p:nvSpPr>
          <p:spPr>
            <a:xfrm>
              <a:off x="5715000" y="1523880"/>
              <a:ext cx="129564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cture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663A4298-7376-47CA-8A72-F4BD98BA4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724280" y="3733920"/>
          <a:ext cx="3733920" cy="1477800"/>
        </p:xfrm>
        <a:graphic>
          <a:graphicData uri="http://schemas.openxmlformats.org/drawingml/2006/table">
            <a:tbl>
              <a:tblPr/>
              <a:tblGrid>
                <a:gridCol w="1244880"/>
                <a:gridCol w="1244520"/>
                <a:gridCol w="124452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130A920F-6CCC-4273-BB53-47CBD8C53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Uniform Amplitude Quant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und to nearest integer (midtread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e amplitude to levels {-2, -1, 0,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s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linear region 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levels by {00, 01, 10, 11}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10, 11, 00, 01}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ter is two's complement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ounding with offset (midrise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e to levels {-3/2, -1/2, 1/2, 3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levels by {11, 10, 00, 01}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133720" y="5486400"/>
                <a:ext cx="23637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3" name="Group 31"/>
          <p:cNvGrpSpPr/>
          <p:nvPr/>
        </p:nvGrpSpPr>
        <p:grpSpPr>
          <a:xfrm>
            <a:off x="6477120" y="1371600"/>
            <a:ext cx="2438280" cy="2971800"/>
            <a:chOff x="6477120" y="1371600"/>
            <a:chExt cx="2438280" cy="2971800"/>
          </a:xfrm>
        </p:grpSpPr>
        <mc:AlternateContent>
          <mc:Choice xmlns:a14="http://schemas.microsoft.com/office/drawing/2010/main" Requires="a14">
            <p:sp>
              <p:nvSpPr>
                <p:cNvPr id="134" name="Object 5"/>
                <p:cNvSpPr txBox="1"/>
                <p:nvPr/>
              </p:nvSpPr>
              <p:spPr>
                <a:xfrm>
                  <a:off x="6705720" y="3581280"/>
                  <a:ext cx="212544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Line 6"/>
            <p:cNvSpPr/>
            <p:nvPr/>
          </p:nvSpPr>
          <p:spPr>
            <a:xfrm>
              <a:off x="6629400" y="25146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 flipV="1">
              <a:off x="7924680" y="19936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8534520" y="2081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7848720" y="3276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>
              <a:off x="7848720" y="2146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7848720" y="2895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7543800" y="1460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28"/>
            <p:cNvGrpSpPr/>
            <p:nvPr/>
          </p:nvGrpSpPr>
          <p:grpSpPr>
            <a:xfrm>
              <a:off x="6781680" y="2146320"/>
              <a:ext cx="1828800" cy="1143000"/>
              <a:chOff x="6781680" y="2146320"/>
              <a:chExt cx="1828800" cy="1143000"/>
            </a:xfrm>
          </p:grpSpPr>
          <p:sp>
            <p:nvSpPr>
              <p:cNvPr id="143" name="Line 12"/>
              <p:cNvSpPr/>
              <p:nvPr/>
            </p:nvSpPr>
            <p:spPr>
              <a:xfrm>
                <a:off x="7238880" y="2908440"/>
                <a:ext cx="457200" cy="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3"/>
              <p:cNvSpPr/>
              <p:nvPr/>
            </p:nvSpPr>
            <p:spPr>
              <a:xfrm>
                <a:off x="7696080" y="2527200"/>
                <a:ext cx="457200" cy="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4"/>
              <p:cNvSpPr/>
              <p:nvPr/>
            </p:nvSpPr>
            <p:spPr>
              <a:xfrm>
                <a:off x="8153280" y="2146320"/>
                <a:ext cx="457200" cy="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5"/>
              <p:cNvSpPr/>
              <p:nvPr/>
            </p:nvSpPr>
            <p:spPr>
              <a:xfrm>
                <a:off x="6781680" y="3289320"/>
                <a:ext cx="457200" cy="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 flipV="1">
                <a:off x="8153280" y="2146320"/>
                <a:ext cx="0" cy="38088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 flipV="1">
                <a:off x="7696080" y="2526840"/>
                <a:ext cx="0" cy="38124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 flipV="1">
                <a:off x="7238880" y="2908440"/>
                <a:ext cx="0" cy="380880"/>
              </a:xfrm>
              <a:prstGeom prst="line">
                <a:avLst/>
              </a:prstGeom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Line 20"/>
            <p:cNvSpPr/>
            <p:nvPr/>
          </p:nvSpPr>
          <p:spPr>
            <a:xfrm flipV="1">
              <a:off x="8381880" y="2438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7010280" y="2438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8229600" y="2666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23"/>
            <p:cNvSpPr/>
            <p:nvPr/>
          </p:nvSpPr>
          <p:spPr>
            <a:xfrm>
              <a:off x="6781680" y="2666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4"/>
            <p:cNvSpPr/>
            <p:nvPr/>
          </p:nvSpPr>
          <p:spPr>
            <a:xfrm>
              <a:off x="8001000" y="3124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5"/>
            <p:cNvSpPr/>
            <p:nvPr/>
          </p:nvSpPr>
          <p:spPr>
            <a:xfrm>
              <a:off x="7467480" y="19940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6"/>
            <p:cNvSpPr/>
            <p:nvPr/>
          </p:nvSpPr>
          <p:spPr>
            <a:xfrm>
              <a:off x="6477120" y="1371600"/>
              <a:ext cx="2438280" cy="29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 flipV="1">
              <a:off x="7467480" y="2438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Line 34"/>
          <p:cNvSpPr/>
          <p:nvPr/>
        </p:nvSpPr>
        <p:spPr>
          <a:xfrm>
            <a:off x="6629400" y="5759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5"/>
          <p:cNvSpPr/>
          <p:nvPr/>
        </p:nvSpPr>
        <p:spPr>
          <a:xfrm flipV="1">
            <a:off x="7696080" y="504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8534520" y="532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7"/>
          <p:cNvSpPr/>
          <p:nvPr/>
        </p:nvSpPr>
        <p:spPr>
          <a:xfrm>
            <a:off x="7620120" y="6324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8"/>
          <p:cNvSpPr/>
          <p:nvPr/>
        </p:nvSpPr>
        <p:spPr>
          <a:xfrm>
            <a:off x="7620120" y="5386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9"/>
          <p:cNvSpPr/>
          <p:nvPr/>
        </p:nvSpPr>
        <p:spPr>
          <a:xfrm>
            <a:off x="7620120" y="6140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7315200" y="4508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41"/>
          <p:cNvGrpSpPr/>
          <p:nvPr/>
        </p:nvGrpSpPr>
        <p:grpSpPr>
          <a:xfrm>
            <a:off x="6781680" y="5194440"/>
            <a:ext cx="1828800" cy="1143000"/>
            <a:chOff x="6781680" y="5194440"/>
            <a:chExt cx="1828800" cy="1143000"/>
          </a:xfrm>
        </p:grpSpPr>
        <p:sp>
          <p:nvSpPr>
            <p:cNvPr id="166" name="Line 42"/>
            <p:cNvSpPr/>
            <p:nvPr/>
          </p:nvSpPr>
          <p:spPr>
            <a:xfrm>
              <a:off x="7238880" y="5956560"/>
              <a:ext cx="457200" cy="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7696080" y="5575320"/>
              <a:ext cx="457200" cy="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8153280" y="5194440"/>
              <a:ext cx="457200" cy="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6781680" y="6337440"/>
              <a:ext cx="457200" cy="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 flipV="1">
              <a:off x="8153280" y="5194440"/>
              <a:ext cx="0" cy="38088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47"/>
            <p:cNvSpPr/>
            <p:nvPr/>
          </p:nvSpPr>
          <p:spPr>
            <a:xfrm flipV="1">
              <a:off x="7696080" y="5574960"/>
              <a:ext cx="0" cy="38124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48"/>
            <p:cNvSpPr/>
            <p:nvPr/>
          </p:nvSpPr>
          <p:spPr>
            <a:xfrm flipV="1">
              <a:off x="7238880" y="5956560"/>
              <a:ext cx="0" cy="380880"/>
            </a:xfrm>
            <a:prstGeom prst="line">
              <a:avLst/>
            </a:prstGeom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Line 49"/>
          <p:cNvSpPr/>
          <p:nvPr/>
        </p:nvSpPr>
        <p:spPr>
          <a:xfrm flipV="1">
            <a:off x="8153280" y="568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0"/>
          <p:cNvSpPr/>
          <p:nvPr/>
        </p:nvSpPr>
        <p:spPr>
          <a:xfrm flipV="1">
            <a:off x="6781680" y="568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8035920" y="585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2"/>
          <p:cNvSpPr/>
          <p:nvPr/>
        </p:nvSpPr>
        <p:spPr>
          <a:xfrm>
            <a:off x="6553080" y="585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3"/>
          <p:cNvSpPr/>
          <p:nvPr/>
        </p:nvSpPr>
        <p:spPr>
          <a:xfrm>
            <a:off x="7696080" y="5943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4"/>
          <p:cNvSpPr/>
          <p:nvPr/>
        </p:nvSpPr>
        <p:spPr>
          <a:xfrm>
            <a:off x="7238880" y="5226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5"/>
          <p:cNvSpPr/>
          <p:nvPr/>
        </p:nvSpPr>
        <p:spPr>
          <a:xfrm>
            <a:off x="6477120" y="4419720"/>
            <a:ext cx="24382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6"/>
          <p:cNvSpPr/>
          <p:nvPr/>
        </p:nvSpPr>
        <p:spPr>
          <a:xfrm flipV="1">
            <a:off x="7238880" y="568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57"/>
          <p:cNvSpPr/>
          <p:nvPr/>
        </p:nvSpPr>
        <p:spPr>
          <a:xfrm>
            <a:off x="762012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58"/>
          <p:cNvSpPr/>
          <p:nvPr/>
        </p:nvSpPr>
        <p:spPr>
          <a:xfrm>
            <a:off x="76201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59"/>
          <p:cNvSpPr/>
          <p:nvPr/>
        </p:nvSpPr>
        <p:spPr>
          <a:xfrm>
            <a:off x="762012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7924680" y="6248520"/>
            <a:ext cx="76212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1"/>
          <p:cNvSpPr/>
          <p:nvPr/>
        </p:nvSpPr>
        <p:spPr>
          <a:xfrm flipV="1">
            <a:off x="8610480" y="567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2"/>
          <p:cNvSpPr/>
          <p:nvPr/>
        </p:nvSpPr>
        <p:spPr>
          <a:xfrm>
            <a:off x="8458200" y="5870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3"/>
          <p:cNvSpPr/>
          <p:nvPr/>
        </p:nvSpPr>
        <p:spPr>
          <a:xfrm>
            <a:off x="4724280" y="5638680"/>
            <a:ext cx="144792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in slide 8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EBE98C57-0D9A-4005-AD7A-BA299E64C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Handling Overflow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 Consider set of integers {-2, -1, 0, 1}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in two's complement system {10, 11, 00, 01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–1) + (–1) + (–1) + 1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computations are – 2, 1, –2, –1 for wraparound arithmetic and –2, –2, –1, 0 for saturation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turation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hen to use i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put value greater than maximu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it to maximum; if less than minimum, set it to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quantizers, filtering, other signal process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raparound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hen to use it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performed modulo set of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address calculations, array 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324480" y="3505320"/>
            <a:ext cx="25146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ve support in MMX and 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6559560" y="5356080"/>
            <a:ext cx="22860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two’s co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CF79EFF8-D70E-4DE2-9857-11A8E853D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udio Compact Discs (CDs)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lowpass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band 0–2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band 20–22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band frequency at 22 kHz (i.e. 10% rollo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control amount of aliasing that occu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hence called an anti-aliasing 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-to-noise ratio when quantizing to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bit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6 dB + 6.02 dB/bit 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98.08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per b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rived later in slides 8-10 to 8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audio CDs have dynamic range of about 9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5"/>
          <p:cNvGrpSpPr/>
          <p:nvPr/>
        </p:nvGrpSpPr>
        <p:grpSpPr>
          <a:xfrm>
            <a:off x="4191120" y="1523520"/>
            <a:ext cx="4724280" cy="1266840"/>
            <a:chOff x="4191120" y="1523520"/>
            <a:chExt cx="4724280" cy="1266840"/>
          </a:xfrm>
        </p:grpSpPr>
        <p:sp>
          <p:nvSpPr>
            <p:cNvPr id="197" name="Line 16"/>
            <p:cNvSpPr/>
            <p:nvPr/>
          </p:nvSpPr>
          <p:spPr>
            <a:xfrm>
              <a:off x="419112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7"/>
            <p:cNvSpPr/>
            <p:nvPr/>
          </p:nvSpPr>
          <p:spPr>
            <a:xfrm>
              <a:off x="4648320" y="1527120"/>
              <a:ext cx="9907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alog Low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>
              <a:off x="5639040" y="1905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 flipV="1">
              <a:off x="6324840" y="15235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>
              <a:off x="6705720" y="1905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1"/>
            <p:cNvSpPr/>
            <p:nvPr/>
          </p:nvSpPr>
          <p:spPr>
            <a:xfrm>
              <a:off x="7391520" y="1527120"/>
              <a:ext cx="10666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uantizer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2"/>
            <p:cNvSpPr/>
            <p:nvPr/>
          </p:nvSpPr>
          <p:spPr>
            <a:xfrm>
              <a:off x="845820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6400800" y="1523880"/>
              <a:ext cx="152640" cy="68580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24"/>
            <p:cNvSpPr/>
            <p:nvPr/>
          </p:nvSpPr>
          <p:spPr>
            <a:xfrm>
              <a:off x="6019920" y="220968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mple at 44.1 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Straight Connector 18"/>
          <p:cNvSpPr/>
          <p:nvPr/>
        </p:nvSpPr>
        <p:spPr>
          <a:xfrm flipV="1">
            <a:off x="8610480" y="17521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8381880" y="2133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FCBC169F-6A9A-4537-A558-FEAD425A2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ynamic Rang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gnal-to-noise ratio in dB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linear systems,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ynamic range equals SN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anti-aliasing filter for audio CD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magnitude response of 0 dB over pass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top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d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ise Power in dB = -98.08 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914400" y="1974960"/>
                <a:ext cx="37339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gnal Pow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oise Powe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gnal Power  </m:t>
                        </m:r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oise Pow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8"/>
          <p:cNvSpPr/>
          <p:nvPr/>
        </p:nvSpPr>
        <p:spPr>
          <a:xfrm>
            <a:off x="5562720" y="1600200"/>
            <a:ext cx="3200400" cy="2871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10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mplitu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w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|A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BA7AF53F-DBCF-4278-9A86-F3EEE0BC7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ynamic Range in Audi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ound Pressure Level (SPL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in dB SPL is 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reshold of hea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dB SPL noise in typical living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dB SPL threshold of 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dB SPL resulting dynam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stimating dynamic rang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aximum RMS output of the linear system with some specified amount of distortion, typically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RMS output of system with small input signal (e.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0 dB of full scale) with input signal removed from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(b) into (a) to find the dynam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53"/>
          <p:cNvSpPr/>
          <p:nvPr/>
        </p:nvSpPr>
        <p:spPr>
          <a:xfrm>
            <a:off x="6324480" y="1374840"/>
            <a:ext cx="2514600" cy="2228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echoic room  1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sper  3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nfall  5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hwasher  6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ty Traffic  8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Blower  11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ren 120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054"/>
          <p:cNvSpPr/>
          <p:nvPr/>
        </p:nvSpPr>
        <p:spPr>
          <a:xfrm>
            <a:off x="6248520" y="364176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lide by Dr. Thomas D. Kite, Audio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1-05T10:08:46Z</dcterms:modified>
  <cp:revision>435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