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DDE-02F8-4A00-8628-363CAAE7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34F4-CE01-4D27-ABBB-90363493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1FA-0AE8-4D47-9869-C04DEC51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D9A6-5C92-427F-BD02-8849D407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650A-F4CE-445D-BFF5-74863470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4D1B-3F71-4B22-85B2-98A6B419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9495-BF0B-4C28-9C5D-8B9E713C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BA5A-A90F-47AC-BD60-30B87209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2216-DD94-4046-B05D-8E598911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932C-B35E-40D1-9D8F-004E0158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CCB6-4938-4315-A747-3CED9B17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35A-A536-4749-B3A5-48D41ED4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3238-95C3-4A5F-B568-CA2DE63B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B76F-9FFD-4EC7-A23B-3BA632BC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8A93-60CA-46C0-8703-B3A38FA3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3B93-8040-4BB3-B948-1B072BEA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019F-EBDE-49A9-9277-D3E341E2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CEB0-0D0B-484B-B84A-43F20F54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F86-AFD5-462B-8454-5CD3999D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0BEF-41A6-4461-9925-5CBB3E90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AF38-7EF5-4E79-9A1B-996530DF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D84-247A-4E94-AA76-30E8F6D2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802-8FBA-45CB-AD1A-29FDA6DB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2B6-B549-4CF2-A645-C3FE5BFB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- </a:t>
            </a:r>
            <a:fld id="{63E3264A-6E56-45F7-A0A8-2EBBC09D4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8"/>
          <p:cNvSpPr/>
          <p:nvPr/>
        </p:nvSpPr>
        <p:spPr>
          <a:xfrm>
            <a:off x="533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445S Real-Time Digital Signal Processing Lab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0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E61330F-4733-4445-9B86-0D5E9AC0C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ast Fourier Transfor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- </a:t>
            </a:r>
            <a:fld id="{4DDC80B8-4410-422F-B505-3AEA31E2F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-Time Fourier Transfor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ward transform of discrete-time signal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s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is two-sided and infinite in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at is periodic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 units of rad/sample) with period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e to exponential ter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verse discrete-time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ier transfor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asic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form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ai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028"/>
              <p:cNvSpPr txBox="1"/>
              <p:nvPr/>
            </p:nvSpPr>
            <p:spPr>
              <a:xfrm>
                <a:off x="3159000" y="1871640"/>
                <a:ext cx="29797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29"/>
              <p:cNvSpPr txBox="1"/>
              <p:nvPr/>
            </p:nvSpPr>
            <p:spPr>
              <a:xfrm>
                <a:off x="4927680" y="3886200"/>
                <a:ext cx="3454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n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031"/>
              <p:cNvSpPr txBox="1"/>
              <p:nvPr/>
            </p:nvSpPr>
            <p:spPr>
              <a:xfrm>
                <a:off x="4952880" y="4952880"/>
                <a:ext cx="34290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034"/>
              <p:cNvSpPr txBox="1"/>
              <p:nvPr/>
            </p:nvSpPr>
            <p:spPr>
              <a:xfrm>
                <a:off x="3505320" y="5410080"/>
                <a:ext cx="49528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- </a:t>
            </a:r>
            <a:fld id="{8B537EB0-CAAF-4CDE-A191-4837C2B7D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 Fourier Transform (DFT)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screte Fourier transform (DFT) of a discrete-time signal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 with finite extent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[0,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1]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periodic with peri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e to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assum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periodic with peri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verse discrete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ier transfor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widdle facto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914400" y="2362320"/>
                <a:ext cx="48006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Text Box 5"/>
          <p:cNvSpPr/>
          <p:nvPr/>
        </p:nvSpPr>
        <p:spPr>
          <a:xfrm>
            <a:off x="6020280" y="2603520"/>
            <a:ext cx="25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, 1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4146480" y="4572000"/>
                <a:ext cx="31687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7"/>
              <p:cNvSpPr txBox="1"/>
              <p:nvPr/>
            </p:nvSpPr>
            <p:spPr>
              <a:xfrm>
                <a:off x="3352680" y="5443560"/>
                <a:ext cx="495324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00" name="Group 10"/>
          <p:cNvGrpSpPr/>
          <p:nvPr/>
        </p:nvGrpSpPr>
        <p:grpSpPr>
          <a:xfrm>
            <a:off x="6781680" y="3124080"/>
            <a:ext cx="2286000" cy="1326240"/>
            <a:chOff x="6781680" y="3124080"/>
            <a:chExt cx="2286000" cy="1326240"/>
          </a:xfrm>
        </p:grpSpPr>
        <p:sp>
          <p:nvSpPr>
            <p:cNvPr id="101" name="Text Box 11"/>
            <p:cNvSpPr/>
            <p:nvPr/>
          </p:nvSpPr>
          <p:spPr>
            <a:xfrm>
              <a:off x="6781680" y="3124080"/>
              <a:ext cx="2286000" cy="1326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wo-Point D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12"/>
                <p:cNvSpPr txBox="1"/>
                <p:nvPr/>
              </p:nvSpPr>
              <p:spPr>
                <a:xfrm>
                  <a:off x="6781680" y="3504960"/>
                  <a:ext cx="228600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]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Object 13"/>
                <p:cNvSpPr txBox="1"/>
                <p:nvPr/>
              </p:nvSpPr>
              <p:spPr>
                <a:xfrm>
                  <a:off x="6781680" y="3962160"/>
                  <a:ext cx="223380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]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- </a:t>
            </a:r>
            <a:fld id="{5D98D5A0-C583-4E93-81BC-1CAA23BD0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 Fourier Transform (con’t)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76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Forward transform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, 1, …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 of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perio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Memory usage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lex words of 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lex words of 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lex words of 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Halve memory usage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output arra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 to write over input arra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oit twiddle factors 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648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Computation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82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lex multi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1) complex ad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ger multi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ulo indexes into lookup table of twiddle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Inverse transform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82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, 1, …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usa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complexi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9"/>
              <p:cNvSpPr txBox="1"/>
              <p:nvPr/>
            </p:nvSpPr>
            <p:spPr>
              <a:xfrm>
                <a:off x="914400" y="1776240"/>
                <a:ext cx="25146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2"/>
              <p:cNvSpPr txBox="1"/>
              <p:nvPr/>
            </p:nvSpPr>
            <p:spPr>
              <a:xfrm>
                <a:off x="5346720" y="4113360"/>
                <a:ext cx="2413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- </a:t>
            </a:r>
            <a:fld id="{04BC6A16-6374-4A01-B567-3DDD23484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ast Fourier Transform Algorithm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mmunication system application: multicarrier modulation using harmonically related carri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 multitone modulation in ADSL &amp; VDSL mod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 in IEEE 802.11a/g Wi-Fi and cellular 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fficient divide-and-conquer algorith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discrete Fourier transform of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½ 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multiplications and 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real complex multiplications and addi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rivation: Assum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s even and power of two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1600200" y="5562720"/>
                <a:ext cx="59436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ven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dd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- </a:t>
            </a:r>
            <a:fld id="{DD2450AC-2868-4379-A42B-4759E10E4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ast Fourier Transform (cont’d)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ubstitute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 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2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even and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2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+1 for od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Using the propert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FFT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&gt; two FFTs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process until two-point FFTs re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complexity of two-point F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3886200" y="3451320"/>
                <a:ext cx="3441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l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l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8" name="Group 11"/>
          <p:cNvGrpSpPr/>
          <p:nvPr/>
        </p:nvGrpSpPr>
        <p:grpSpPr>
          <a:xfrm>
            <a:off x="984240" y="4119480"/>
            <a:ext cx="7016760" cy="757440"/>
            <a:chOff x="984240" y="4119480"/>
            <a:chExt cx="7016760" cy="757440"/>
          </a:xfrm>
        </p:grpSpPr>
        <mc:AlternateContent>
          <mc:Choice xmlns:a14="http://schemas.microsoft.com/office/drawing/2010/main" Requires="a14">
            <p:sp>
              <p:nvSpPr>
                <p:cNvPr id="119" name="Object 5"/>
                <p:cNvSpPr txBox="1"/>
                <p:nvPr/>
              </p:nvSpPr>
              <p:spPr>
                <a:xfrm>
                  <a:off x="984240" y="4119480"/>
                  <a:ext cx="4867200" cy="75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N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2</m:t>
                          </m:r>
                          <m:r>
                            <m:t xml:space="preserve">r</m:t>
                          </m:r>
                          <m:r>
                            <m:t xml:space="preserve">]</m:t>
                          </m:r>
                          <m:sSubSup>
                            <m:e>
                              <m:r>
                                <m:t xml:space="preserve">W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rk</m:t>
                              </m:r>
                            </m:sup>
                          </m:sSubSup>
                        </m:e>
                      </m:nary>
                      <m:r>
                        <m:t xml:space="preserve">+</m:t>
                      </m:r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</m:sSubSup>
                      <m:nary>
                        <m:naryPr>
                          <m:chr m:val="∑"/>
                        </m:naryPr>
                        <m:sub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N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2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]</m:t>
                          </m:r>
                          <m:sSubSup>
                            <m:e>
                              <m:r>
                                <m:t xml:space="preserve">W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rk</m:t>
                              </m:r>
                            </m:sup>
                          </m:sSub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Object 6"/>
                <p:cNvSpPr txBox="1"/>
                <p:nvPr/>
              </p:nvSpPr>
              <p:spPr>
                <a:xfrm>
                  <a:off x="5878440" y="4260960"/>
                  <a:ext cx="212256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</m:sSubSup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Object 9"/>
              <p:cNvSpPr txBox="1"/>
              <p:nvPr/>
            </p:nvSpPr>
            <p:spPr>
              <a:xfrm>
                <a:off x="1476360" y="1873080"/>
                <a:ext cx="512604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k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0"/>
              <p:cNvSpPr txBox="1"/>
              <p:nvPr/>
            </p:nvSpPr>
            <p:spPr>
              <a:xfrm>
                <a:off x="2114640" y="2695680"/>
                <a:ext cx="48956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]</m:t>
                        </m:r>
                      </m:e>
                    </m:nary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23" name="Group 19"/>
          <p:cNvGrpSpPr/>
          <p:nvPr/>
        </p:nvGrpSpPr>
        <p:grpSpPr>
          <a:xfrm>
            <a:off x="6781680" y="4876920"/>
            <a:ext cx="2286000" cy="1326240"/>
            <a:chOff x="6781680" y="4876920"/>
            <a:chExt cx="2286000" cy="1326240"/>
          </a:xfrm>
        </p:grpSpPr>
        <p:sp>
          <p:nvSpPr>
            <p:cNvPr id="124" name="Text Box 17"/>
            <p:cNvSpPr/>
            <p:nvPr/>
          </p:nvSpPr>
          <p:spPr>
            <a:xfrm>
              <a:off x="6781680" y="4876920"/>
              <a:ext cx="2286000" cy="1326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wo-Point F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Object 15"/>
                <p:cNvSpPr txBox="1"/>
                <p:nvPr/>
              </p:nvSpPr>
              <p:spPr>
                <a:xfrm>
                  <a:off x="6781680" y="5257800"/>
                  <a:ext cx="228600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]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" name="Object 16"/>
                <p:cNvSpPr txBox="1"/>
                <p:nvPr/>
              </p:nvSpPr>
              <p:spPr>
                <a:xfrm>
                  <a:off x="6781680" y="5715000"/>
                  <a:ext cx="223380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]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- </a:t>
            </a:r>
            <a:fld id="{FC216ADF-8F79-41AC-AF01-CE52B1106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Linear Convolution by FF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inear convolu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has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has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has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inear convolution require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al-valued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multiplications and 2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+ 2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h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 1 words of memor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inear convolution by FFT of length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h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 1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pa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to make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mple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forward DFTs of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ob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: may overwri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inverse DFT of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to ob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 is fixed, then precompute and stor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6248520" y="1676520"/>
                <a:ext cx="25146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- </a:t>
            </a:r>
            <a:fld id="{2EF56A9D-8DC2-4123-8C1B-78DBE1DD3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Linear Convolution by FF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mplementation complexity using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length FF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lex multiplications and 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lex words of memory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overwri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FT approach requires fewer computations if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sadvantages of FFT approach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twice the memory: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words vs.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1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requires floating-point arithm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dela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mples to buff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as linear convolution is computed sample-by-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s discontinuities at boundaries of blocks of input data: use overlapping blocks and wind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914400" y="3200400"/>
                <a:ext cx="4952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Text Box 7"/>
          <p:cNvSpPr/>
          <p:nvPr/>
        </p:nvSpPr>
        <p:spPr>
          <a:xfrm>
            <a:off x="6400800" y="4495680"/>
            <a:ext cx="25146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T under fixed-point arithmet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Evans</cp:lastModifiedBy>
  <cp:lastPrinted>2001-01-11T04:39:01Z</cp:lastPrinted>
  <dcterms:modified xsi:type="dcterms:W3CDTF">2014-01-06T17:20:35Z</dcterms:modified>
  <cp:revision>400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8_Convolution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