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1.png" ContentType="image/png"/>
  <Override PartName="/ppt/media/image12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7.wmf" ContentType="image/x-wmf"/>
  <Override PartName="/ppt/media/image9.png" ContentType="image/png"/>
  <Override PartName="/ppt/media/image31.wmf" ContentType="image/x-wmf"/>
  <Override PartName="/ppt/media/image38.jpeg" ContentType="image/jpeg"/>
  <Override PartName="/ppt/media/image28.png" ContentType="image/png"/>
  <Override PartName="/ppt/media/image13.wmf" ContentType="image/x-wmf"/>
  <Override PartName="/ppt/media/image33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10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2.png" ContentType="image/png"/>
  <Override PartName="/ppt/media/image2.png" ContentType="image/png"/>
  <Override PartName="/ppt/media/image1.png" ContentType="image/png"/>
  <Override PartName="/ppt/media/image1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D3725E-4977-450B-B543-DFC5EECCA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how the idea behind equal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actice DFE would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linear equalizers are easy to implement but enhance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equalizers such as the DFE is required (how many taps has an DFE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utational complexity of DFE increases very fast with bi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domain equalizer is just a complex division per sub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 shortening equalizer is an 20-30 tap FIR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focus is on channel short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6A2-E78F-4A57-AD11-BAC6A3EF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8BE-05D9-441E-B4C5-DEB0599B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901-6013-4724-B1BB-73B463D4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76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68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76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04B-EC9F-4BA2-8B4B-C9E710E4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301680"/>
            <a:ext cx="82677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2D5-BB74-448F-BEB7-87E1F041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476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5840" y="106524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68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476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5840" y="3692880"/>
            <a:ext cx="265788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6A6-4032-448D-A907-C504A242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C26-3B21-4E4E-A57B-44E46B66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2A9-D92D-463E-9A4F-9A5C929A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301680"/>
            <a:ext cx="82677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2E9-8FDC-4B6D-8156-90037DD6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610-F45E-48D5-8CA2-3B6C693F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3680" y="369288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4DD-B9AF-487C-BF70-8D46C59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1065240"/>
            <a:ext cx="402804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80" y="3692880"/>
            <a:ext cx="8254800" cy="23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12C-79EB-4A29-A05A-09D6CE2D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9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552720"/>
            <a:ext cx="6476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54640" y="6552720"/>
            <a:ext cx="108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9E91-000C-4F69-B458-488481ED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4640" y="51120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60.xml"/><Relationship Id="rId3" Type="http://schemas.openxmlformats.org/officeDocument/2006/relationships/slide" Target="slide60.xml"/><Relationship Id="rId4" Type="http://schemas.openxmlformats.org/officeDocument/2006/relationships/slide" Target="slide49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51.xml"/><Relationship Id="rId8" Type="http://schemas.openxmlformats.org/officeDocument/2006/relationships/slide" Target="slide49.xml"/><Relationship Id="rId9" Type="http://schemas.openxmlformats.org/officeDocument/2006/relationships/package" Target="../embeddings/oleObject1.docx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4640" y="144000"/>
            <a:ext cx="777240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Equalizer Design to Maximize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Bit Rate in ADSL Transceiver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051080" y="1496880"/>
            <a:ext cx="464796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f. Brian L. Evans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pt. of Electrical and Comp. Eng.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he University of Texas at Austin</a:t>
            </a:r>
            <a:br>
              <a:rPr sz="2400"/>
            </a:b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http://signal.ece.utexas.edu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3680" y="1643040"/>
            <a:ext cx="3448080" cy="1724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7320" y="3624120"/>
            <a:ext cx="883728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T graduate students: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  Mr. Aditya Chopra, Mr. Yousof Mortaza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T MS/PhD grad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G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ü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ner Ars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-Ericcson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Biao L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penSpirit),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Ming 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roadcom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Milos Milosev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lumberger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r. Alex Ol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chlumberger)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Zukang Sh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ang Mobile), and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Ian W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at. Ins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T senior design studen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r. Wade Berglund, Mr. Jerel Canales, Mr. David J.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Love, Mr. Ketan Mandke, Mr. Scott Margo, Ms. Esther Resendiz, Mr. Jeff W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ther collaborator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Lloyd D. Cla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f. C. Richard Johnson, J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ornell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f. Sayfe Kiae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SU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f. Rick Mart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FIT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f. Marc Moon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KU Leuven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Lucio F. C. Pesso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reescale),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r. Arthur J. Redf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29160" y="3178080"/>
            <a:ext cx="37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modified November 30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liminating ISI in Discrete Multitone Modu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me domain equalizer (TEQ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ite impulse response (FIR)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ffective channel impulse 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olution of TEQ impulse respon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channel impuls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equency domain equalizer (FEQ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es magnitude/phase distor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equalized channel by dividing each FF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ficient by complex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updated during data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SL G.DMT equalizer train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ver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ame symbol sent 1,024 to 1,536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dl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periodic pseudo-noise sequenc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,384 symbols for subchannel SNR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returns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bits (0-15) to transm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sub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6435720" y="4813200"/>
          <a:ext cx="2557440" cy="16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35720" y="4813200"/>
                    <a:ext cx="25574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107040" y="1146240"/>
            <a:ext cx="2841480" cy="3458160"/>
            <a:chOff x="6107040" y="1146240"/>
            <a:chExt cx="2841480" cy="3458160"/>
          </a:xfrm>
        </p:grpSpPr>
        <p:grpSp>
          <p:nvGrpSpPr>
            <p:cNvPr id="488" name=""/>
            <p:cNvGrpSpPr/>
            <p:nvPr/>
          </p:nvGrpSpPr>
          <p:grpSpPr>
            <a:xfrm>
              <a:off x="6107040" y="1484280"/>
              <a:ext cx="2776680" cy="2368440"/>
              <a:chOff x="6107040" y="1484280"/>
              <a:chExt cx="2776680" cy="2368440"/>
            </a:xfrm>
          </p:grpSpPr>
          <p:pic>
            <p:nvPicPr>
              <p:cNvPr id="4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07040" y="1484280"/>
                <a:ext cx="2776680" cy="23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6725880" y="1500120"/>
                <a:ext cx="339120" cy="21171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6648480" y="3613320"/>
                  <a:ext cx="156960" cy="20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2" name=""/>
            <p:cNvSpPr/>
            <p:nvPr/>
          </p:nvSpPr>
          <p:spPr>
            <a:xfrm>
              <a:off x="6729480" y="357984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51520" y="1486080"/>
              <a:ext cx="1197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8eff"/>
                  </a:solidFill>
                  <a:latin typeface="Times New Roman"/>
                </a:rPr>
                <a:t>channel im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466040" y="1717560"/>
              <a:ext cx="441360" cy="554040"/>
            </a:xfrm>
            <a:prstGeom prst="line">
              <a:avLst/>
            </a:prstGeom>
            <a:ln w="19080">
              <a:solidFill>
                <a:srgbClr val="418e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16680" y="2496960"/>
              <a:ext cx="8827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effective channel im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6978240" y="2817360"/>
              <a:ext cx="8427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19760" y="1173240"/>
              <a:ext cx="972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53120" y="1176480"/>
              <a:ext cx="1116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451560" y="1301400"/>
              <a:ext cx="280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46680" y="1146240"/>
              <a:ext cx="51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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18280" y="3994200"/>
              <a:ext cx="2638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buClr>
                  <a:srgbClr val="000000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nsmission delay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 cyclic prefix 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7057440" y="1296720"/>
              <a:ext cx="2811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3971880" y="5729400"/>
                <a:ext cx="2057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B8F-67E0-4D65-B423-288DF64696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DSL Transceiver: Data Transmiss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152280" y="4251240"/>
            <a:ext cx="8553600" cy="205740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7040" y="4680000"/>
            <a:ext cx="48600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1095480" y="4694400"/>
            <a:ext cx="901440" cy="152388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2389320" y="4708440"/>
            <a:ext cx="838080" cy="152424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1479600" y="1631880"/>
            <a:ext cx="457200" cy="15242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2360520" y="1631880"/>
            <a:ext cx="1233720" cy="152424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ure amplitude modulation (QAM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4024440" y="1631880"/>
            <a:ext cx="828720" cy="152424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5381640" y="1631880"/>
            <a:ext cx="685800" cy="152424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6607080" y="1631880"/>
            <a:ext cx="480960" cy="152424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7628040" y="1631880"/>
            <a:ext cx="914400" cy="152424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/A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594240" y="4694400"/>
            <a:ext cx="900000" cy="152388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4890960" y="4694400"/>
            <a:ext cx="481320" cy="152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5372280" y="4694400"/>
            <a:ext cx="838080" cy="152388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 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1238400" y="1203480"/>
            <a:ext cx="7434000" cy="205740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209520" y="3260520"/>
            <a:ext cx="20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266760" y="3957480"/>
            <a:ext cx="129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8"/>
          <p:cNvSpPr/>
          <p:nvPr/>
        </p:nvSpPr>
        <p:spPr>
          <a:xfrm>
            <a:off x="2800440" y="1279440"/>
            <a:ext cx="170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9"/>
          <p:cNvSpPr/>
          <p:nvPr/>
        </p:nvSpPr>
        <p:spPr>
          <a:xfrm>
            <a:off x="4632480" y="1279440"/>
            <a:ext cx="169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l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20"/>
          <p:cNvSpPr/>
          <p:nvPr/>
        </p:nvSpPr>
        <p:spPr>
          <a:xfrm>
            <a:off x="3835440" y="4327560"/>
            <a:ext cx="16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l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1"/>
          <p:cNvSpPr/>
          <p:nvPr/>
        </p:nvSpPr>
        <p:spPr>
          <a:xfrm>
            <a:off x="1676520" y="4327560"/>
            <a:ext cx="174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2"/>
          <p:cNvSpPr/>
          <p:nvPr/>
        </p:nvSpPr>
        <p:spPr>
          <a:xfrm>
            <a:off x="6515280" y="4680000"/>
            <a:ext cx="981000" cy="152388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omain equalizer (FIR fil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3"/>
          <p:cNvSpPr/>
          <p:nvPr/>
        </p:nvSpPr>
        <p:spPr>
          <a:xfrm>
            <a:off x="7780320" y="4694400"/>
            <a:ext cx="800280" cy="152388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7639200" y="3546360"/>
            <a:ext cx="914400" cy="457200"/>
          </a:xfrm>
          <a:prstGeom prst="rect">
            <a:avLst/>
          </a:prstGeom>
          <a:solidFill>
            <a:srgbClr val="99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25"/>
          <p:cNvSpPr/>
          <p:nvPr/>
        </p:nvSpPr>
        <p:spPr>
          <a:xfrm>
            <a:off x="733320" y="33084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6"/>
          <p:cNvSpPr/>
          <p:nvPr/>
        </p:nvSpPr>
        <p:spPr>
          <a:xfrm>
            <a:off x="1389240" y="2241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3780000" y="206208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28"/>
          <p:cNvSpPr/>
          <p:nvPr/>
        </p:nvSpPr>
        <p:spPr>
          <a:xfrm>
            <a:off x="3581280" y="2479680"/>
            <a:ext cx="441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9"/>
          <p:cNvSpPr/>
          <p:nvPr/>
        </p:nvSpPr>
        <p:spPr>
          <a:xfrm>
            <a:off x="5083200" y="23050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30"/>
          <p:cNvSpPr/>
          <p:nvPr/>
        </p:nvSpPr>
        <p:spPr>
          <a:xfrm>
            <a:off x="4871880" y="299412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31"/>
          <p:cNvSpPr/>
          <p:nvPr/>
        </p:nvSpPr>
        <p:spPr>
          <a:xfrm>
            <a:off x="4871880" y="179712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32"/>
          <p:cNvSpPr/>
          <p:nvPr/>
        </p:nvSpPr>
        <p:spPr>
          <a:xfrm>
            <a:off x="4871880" y="1959120"/>
            <a:ext cx="528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33"/>
          <p:cNvSpPr/>
          <p:nvPr/>
        </p:nvSpPr>
        <p:spPr>
          <a:xfrm>
            <a:off x="6315120" y="22924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34"/>
          <p:cNvSpPr/>
          <p:nvPr/>
        </p:nvSpPr>
        <p:spPr>
          <a:xfrm>
            <a:off x="6078600" y="299412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35"/>
          <p:cNvSpPr/>
          <p:nvPr/>
        </p:nvSpPr>
        <p:spPr>
          <a:xfrm>
            <a:off x="6078600" y="179712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36"/>
          <p:cNvSpPr/>
          <p:nvPr/>
        </p:nvSpPr>
        <p:spPr>
          <a:xfrm>
            <a:off x="6078600" y="195912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37"/>
          <p:cNvSpPr/>
          <p:nvPr/>
        </p:nvSpPr>
        <p:spPr>
          <a:xfrm>
            <a:off x="7101000" y="2346480"/>
            <a:ext cx="528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38"/>
          <p:cNvSpPr/>
          <p:nvPr/>
        </p:nvSpPr>
        <p:spPr>
          <a:xfrm flipH="1">
            <a:off x="8113320" y="3125880"/>
            <a:ext cx="1800" cy="411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39"/>
          <p:cNvSpPr/>
          <p:nvPr/>
        </p:nvSpPr>
        <p:spPr>
          <a:xfrm flipH="1">
            <a:off x="8120160" y="4011480"/>
            <a:ext cx="7920" cy="681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0"/>
          <p:cNvSpPr/>
          <p:nvPr/>
        </p:nvSpPr>
        <p:spPr>
          <a:xfrm flipH="1">
            <a:off x="7495920" y="5308560"/>
            <a:ext cx="284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1"/>
          <p:cNvSpPr/>
          <p:nvPr/>
        </p:nvSpPr>
        <p:spPr>
          <a:xfrm>
            <a:off x="4683240" y="542124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2"/>
          <p:cNvSpPr/>
          <p:nvPr/>
        </p:nvSpPr>
        <p:spPr>
          <a:xfrm flipH="1">
            <a:off x="4493880" y="489888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3"/>
          <p:cNvSpPr/>
          <p:nvPr/>
        </p:nvSpPr>
        <p:spPr>
          <a:xfrm flipH="1">
            <a:off x="4493880" y="503712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4"/>
          <p:cNvSpPr/>
          <p:nvPr/>
        </p:nvSpPr>
        <p:spPr>
          <a:xfrm flipH="1">
            <a:off x="4493880" y="6075360"/>
            <a:ext cx="392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5"/>
          <p:cNvSpPr/>
          <p:nvPr/>
        </p:nvSpPr>
        <p:spPr>
          <a:xfrm>
            <a:off x="3424320" y="515448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6"/>
          <p:cNvSpPr/>
          <p:nvPr/>
        </p:nvSpPr>
        <p:spPr>
          <a:xfrm flipH="1">
            <a:off x="3209760" y="489888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47"/>
          <p:cNvSpPr/>
          <p:nvPr/>
        </p:nvSpPr>
        <p:spPr>
          <a:xfrm flipH="1">
            <a:off x="3209760" y="503712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48"/>
          <p:cNvSpPr/>
          <p:nvPr/>
        </p:nvSpPr>
        <p:spPr>
          <a:xfrm flipH="1">
            <a:off x="3209760" y="559260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49"/>
          <p:cNvSpPr/>
          <p:nvPr/>
        </p:nvSpPr>
        <p:spPr>
          <a:xfrm>
            <a:off x="2195640" y="515448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50"/>
          <p:cNvSpPr/>
          <p:nvPr/>
        </p:nvSpPr>
        <p:spPr>
          <a:xfrm flipH="1">
            <a:off x="1981080" y="489888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51"/>
          <p:cNvSpPr/>
          <p:nvPr/>
        </p:nvSpPr>
        <p:spPr>
          <a:xfrm flipH="1">
            <a:off x="1981080" y="503712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52"/>
          <p:cNvSpPr/>
          <p:nvPr/>
        </p:nvSpPr>
        <p:spPr>
          <a:xfrm flipH="1">
            <a:off x="1981080" y="5592600"/>
            <a:ext cx="39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53"/>
          <p:cNvSpPr/>
          <p:nvPr/>
        </p:nvSpPr>
        <p:spPr>
          <a:xfrm>
            <a:off x="955800" y="516744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54"/>
          <p:cNvSpPr/>
          <p:nvPr/>
        </p:nvSpPr>
        <p:spPr>
          <a:xfrm flipH="1">
            <a:off x="755640" y="489888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55"/>
          <p:cNvSpPr/>
          <p:nvPr/>
        </p:nvSpPr>
        <p:spPr>
          <a:xfrm flipH="1">
            <a:off x="755640" y="503712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56"/>
          <p:cNvSpPr/>
          <p:nvPr/>
        </p:nvSpPr>
        <p:spPr>
          <a:xfrm flipH="1">
            <a:off x="755640" y="5592600"/>
            <a:ext cx="334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7"/>
          <p:cNvSpPr/>
          <p:nvPr/>
        </p:nvSpPr>
        <p:spPr>
          <a:xfrm>
            <a:off x="662040" y="1969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58"/>
          <p:cNvSpPr/>
          <p:nvPr/>
        </p:nvSpPr>
        <p:spPr>
          <a:xfrm>
            <a:off x="662040" y="234792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9"/>
          <p:cNvSpPr/>
          <p:nvPr/>
        </p:nvSpPr>
        <p:spPr>
          <a:xfrm>
            <a:off x="438120" y="2436840"/>
            <a:ext cx="80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60"/>
          <p:cNvSpPr/>
          <p:nvPr/>
        </p:nvSpPr>
        <p:spPr>
          <a:xfrm>
            <a:off x="3594240" y="1959120"/>
            <a:ext cx="441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1"/>
          <p:cNvSpPr/>
          <p:nvPr/>
        </p:nvSpPr>
        <p:spPr>
          <a:xfrm>
            <a:off x="2128680" y="204948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62"/>
          <p:cNvSpPr/>
          <p:nvPr/>
        </p:nvSpPr>
        <p:spPr>
          <a:xfrm>
            <a:off x="1917720" y="2467080"/>
            <a:ext cx="441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3"/>
          <p:cNvSpPr/>
          <p:nvPr/>
        </p:nvSpPr>
        <p:spPr>
          <a:xfrm>
            <a:off x="1943280" y="1946160"/>
            <a:ext cx="441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64"/>
          <p:cNvSpPr/>
          <p:nvPr/>
        </p:nvSpPr>
        <p:spPr>
          <a:xfrm>
            <a:off x="1943280" y="1793880"/>
            <a:ext cx="441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5"/>
          <p:cNvSpPr/>
          <p:nvPr/>
        </p:nvSpPr>
        <p:spPr>
          <a:xfrm>
            <a:off x="3598920" y="1773360"/>
            <a:ext cx="441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66"/>
          <p:cNvSpPr/>
          <p:nvPr/>
        </p:nvSpPr>
        <p:spPr>
          <a:xfrm flipH="1">
            <a:off x="6210000" y="5318280"/>
            <a:ext cx="2840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7"/>
          <p:cNvSpPr/>
          <p:nvPr/>
        </p:nvSpPr>
        <p:spPr>
          <a:xfrm>
            <a:off x="2629080" y="3413160"/>
            <a:ext cx="914400" cy="152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8"/>
          <p:cNvSpPr/>
          <p:nvPr/>
        </p:nvSpPr>
        <p:spPr>
          <a:xfrm>
            <a:off x="3619440" y="32608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ach block programmed in lab and covered in one full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69"/>
          <p:cNvSpPr/>
          <p:nvPr/>
        </p:nvSpPr>
        <p:spPr>
          <a:xfrm>
            <a:off x="2629080" y="394668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0"/>
          <p:cNvSpPr/>
          <p:nvPr/>
        </p:nvSpPr>
        <p:spPr>
          <a:xfrm>
            <a:off x="3619440" y="379404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ach block covered in one full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3"/>
          <p:cNvSpPr/>
          <p:nvPr/>
        </p:nvSpPr>
        <p:spPr>
          <a:xfrm>
            <a:off x="7299360" y="1257120"/>
            <a:ext cx="125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08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6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Trans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260440" y="5979960"/>
            <a:ext cx="5341680" cy="719280"/>
            <a:chOff x="2260440" y="5979960"/>
            <a:chExt cx="5341680" cy="719280"/>
          </a:xfrm>
        </p:grpSpPr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2260440" y="5979960"/>
                  <a:ext cx="534168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                                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578" name=""/>
            <p:cNvSpPr/>
            <p:nvPr/>
          </p:nvSpPr>
          <p:spPr>
            <a:xfrm>
              <a:off x="2806200" y="6413400"/>
              <a:ext cx="413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onventional ADSL equalizer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ED1-F5B2-4C9E-AE77-E77A12F819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utlin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Multicarrier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ntional equalizer training metho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Mean Squared Error design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Stanfor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hortening Signal-to-Noise Ratio design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Tellab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Bit Rate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Inter-symbol Interference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ar-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Per-tone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Dual-path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clu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5400" y="5232240"/>
            <a:ext cx="8921520" cy="1392480"/>
            <a:chOff x="95400" y="5232240"/>
            <a:chExt cx="8921520" cy="1392480"/>
          </a:xfrm>
        </p:grpSpPr>
        <p:sp>
          <p:nvSpPr>
            <p:cNvPr id="582" name=""/>
            <p:cNvSpPr/>
            <p:nvPr/>
          </p:nvSpPr>
          <p:spPr>
            <a:xfrm>
              <a:off x="56052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2" idx="3"/>
              <a:endCxn id="584" idx="1"/>
            </p:cNvCxnSpPr>
            <p:nvPr/>
          </p:nvCxnSpPr>
          <p:spPr>
            <a:xfrm>
              <a:off x="833040" y="6078240"/>
              <a:ext cx="338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85" name=""/>
            <p:cNvSpPr/>
            <p:nvPr/>
          </p:nvSpPr>
          <p:spPr>
            <a:xfrm>
              <a:off x="808524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71440" y="5537160"/>
              <a:ext cx="179244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ransmit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6" name=""/>
            <p:cNvCxnSpPr>
              <a:stCxn id="584" idx="3"/>
              <a:endCxn id="587" idx="1"/>
            </p:cNvCxnSpPr>
            <p:nvPr/>
          </p:nvCxnSpPr>
          <p:spPr>
            <a:xfrm>
              <a:off x="2963880" y="6081480"/>
              <a:ext cx="397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87" name=""/>
            <p:cNvSpPr/>
            <p:nvPr/>
          </p:nvSpPr>
          <p:spPr>
            <a:xfrm>
              <a:off x="3360600" y="5537160"/>
              <a:ext cx="16113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8" name=""/>
            <p:cNvCxnSpPr>
              <a:stCxn id="587" idx="3"/>
              <a:endCxn id="589" idx="1"/>
            </p:cNvCxnSpPr>
            <p:nvPr/>
          </p:nvCxnSpPr>
          <p:spPr>
            <a:xfrm>
              <a:off x="4971960" y="6081480"/>
              <a:ext cx="3484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89" name=""/>
            <p:cNvSpPr/>
            <p:nvPr/>
          </p:nvSpPr>
          <p:spPr>
            <a:xfrm>
              <a:off x="5319720" y="5537160"/>
              <a:ext cx="24591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0" name=""/>
            <p:cNvCxnSpPr/>
            <p:nvPr/>
          </p:nvCxnSpPr>
          <p:spPr>
            <a:xfrm flipV="1">
              <a:off x="7778520" y="6077880"/>
              <a:ext cx="306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cxnSp>
          <p:nvCxnSpPr>
            <p:cNvPr id="591" name=""/>
            <p:cNvCxnSpPr>
              <a:stCxn id="592" idx="1"/>
              <a:endCxn id="592" idx="1"/>
            </p:cNvCxnSpPr>
            <p:nvPr/>
          </p:nvCxnSpPr>
          <p:spPr>
            <a:xfrm>
              <a:off x="5405040" y="5967000"/>
              <a:ext cx="1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92" name=""/>
            <p:cNvSpPr/>
            <p:nvPr/>
          </p:nvSpPr>
          <p:spPr>
            <a:xfrm>
              <a:off x="5405400" y="5764320"/>
              <a:ext cx="1201680" cy="40644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qual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400" y="524016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ssage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78680" y="523224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d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5" name=""/>
            <p:cNvCxnSpPr/>
            <p:nvPr/>
          </p:nvCxnSpPr>
          <p:spPr>
            <a:xfrm>
              <a:off x="6584760" y="6081480"/>
              <a:ext cx="34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596" name=""/>
            <p:cNvSpPr/>
            <p:nvPr/>
          </p:nvSpPr>
          <p:spPr>
            <a:xfrm>
              <a:off x="6721560" y="5735520"/>
              <a:ext cx="868320" cy="49392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FBE-B5B4-4A05-8563-FDDF491DAA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436680" y="3017880"/>
            <a:ext cx="843732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Minim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Chow &amp; Cioffi, 199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se length of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.g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 to shorten length of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*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igenvector of minimum eigenvalue of symmetr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-dependent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MSE when                              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onsi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ep notches in equalized frequency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5318280" y="1055520"/>
            <a:ext cx="3404880" cy="2554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44160" y="289080"/>
            <a:ext cx="8475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inimum Mean Squared Error TEQ Desig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3486240" y="4749840"/>
                <a:ext cx="18874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080040" y="4748040"/>
                <a:ext cx="801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 flipV="1">
            <a:off x="961920" y="2704320"/>
            <a:ext cx="576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90520" y="2432160"/>
            <a:ext cx="914400" cy="5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31920" y="2699640"/>
            <a:ext cx="890640" cy="360"/>
          </a:xfrm>
          <a:prstGeom prst="line">
            <a:avLst/>
          </a:prstGeom>
          <a:noFill/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" y="1936800"/>
            <a:ext cx="6094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17520" y="1662120"/>
            <a:ext cx="914400" cy="547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31920" y="1936800"/>
            <a:ext cx="3128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38560" y="1725480"/>
            <a:ext cx="365040" cy="365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03600" y="1932120"/>
            <a:ext cx="3286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35160" y="1657440"/>
            <a:ext cx="914400" cy="547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57480" y="2427120"/>
            <a:ext cx="914400" cy="547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48120" y="1930320"/>
            <a:ext cx="4348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987720" y="2699640"/>
            <a:ext cx="576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532960" y="1420920"/>
            <a:ext cx="3240" cy="3189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95720" y="181296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6560" y="1341360"/>
            <a:ext cx="381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16200" y="127296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91240" y="1325520"/>
            <a:ext cx="452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08320" y="1301760"/>
            <a:ext cx="381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82840" y="90144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87680" y="1747800"/>
            <a:ext cx="365400" cy="365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734000" y="1914480"/>
            <a:ext cx="312840" cy="15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03320" y="1897200"/>
            <a:ext cx="0" cy="8096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65520" y="2093760"/>
            <a:ext cx="14400" cy="60012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46480" y="2662200"/>
            <a:ext cx="681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-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32000" y="1185840"/>
            <a:ext cx="89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T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79640" y="1222200"/>
            <a:ext cx="126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3976560" y="4303800"/>
                <a:ext cx="2998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6240600" y="5923080"/>
            <a:ext cx="1296720" cy="36612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53280" y="4087800"/>
            <a:ext cx="1636560" cy="1148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ross correlation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8C6-C4AF-4124-B31E-86E72607F5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finite Length MMSE TEQ Analysi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 TEQ length goes t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finity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become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eplitz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rt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003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ector of minim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of symmetr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eplitz matrix has zer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unit circ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khoul 198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of target impu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unit circ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ite length TEQ plo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race is a different zero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of 32 zero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nit circle averag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8 ADSL test channels for each TEQ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cluster at 0.01 and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UC for TEQ lengths 32 and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529160" y="1244520"/>
            <a:ext cx="4408560" cy="3633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6330960" y="5245200"/>
            <a:ext cx="260028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er MMSE TEQ may be wo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201080" y="4940280"/>
            <a:ext cx="1726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rt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 200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A5D-9EC4-404A-B5BE-F9BA23483C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aximum Shortening SNR TEQ Desig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68032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ize energy leakage outside shortened channel lengt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each possible position of window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elsa, Younce &amp; Rohrs, 1996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to noise-free MMSE TEQ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onsider channel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onsi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ep notches in equalized frequency respon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eros of target impulse response near unit circle kill subchann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Cholesky decomposition, which is computationally-intensive and does not allow TEQ lengths longer than cyclic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1268280" y="2013120"/>
                <a:ext cx="7391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SNR in dB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nergy  inside  window  after  TE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nergy  outside  window  after  TE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41" name=""/>
          <p:cNvGrpSpPr/>
          <p:nvPr/>
        </p:nvGrpSpPr>
        <p:grpSpPr>
          <a:xfrm>
            <a:off x="1517760" y="3110040"/>
            <a:ext cx="3052800" cy="548640"/>
            <a:chOff x="1517760" y="3110040"/>
            <a:chExt cx="3052800" cy="548640"/>
          </a:xfrm>
        </p:grpSpPr>
        <p:sp>
          <p:nvSpPr>
            <p:cNvPr id="642" name=""/>
            <p:cNvSpPr/>
            <p:nvPr/>
          </p:nvSpPr>
          <p:spPr>
            <a:xfrm>
              <a:off x="1517760" y="3384360"/>
              <a:ext cx="3985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17720" y="3111480"/>
              <a:ext cx="914400" cy="54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32120" y="3384360"/>
              <a:ext cx="31284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97360" y="3384360"/>
              <a:ext cx="3286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16320" y="3110040"/>
              <a:ext cx="914400" cy="54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3392280"/>
              <a:ext cx="336600" cy="9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149880" y="2879640"/>
            <a:ext cx="2841480" cy="2706840"/>
            <a:chOff x="6149880" y="2879640"/>
            <a:chExt cx="2841480" cy="2706840"/>
          </a:xfrm>
        </p:grpSpPr>
        <p:grpSp>
          <p:nvGrpSpPr>
            <p:cNvPr id="649" name=""/>
            <p:cNvGrpSpPr/>
            <p:nvPr/>
          </p:nvGrpSpPr>
          <p:grpSpPr>
            <a:xfrm>
              <a:off x="6149880" y="3218040"/>
              <a:ext cx="2776320" cy="2368440"/>
              <a:chOff x="6149880" y="3218040"/>
              <a:chExt cx="2776320" cy="2368440"/>
            </a:xfrm>
          </p:grpSpPr>
          <p:pic>
            <p:nvPicPr>
              <p:cNvPr id="6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49880" y="3218040"/>
                <a:ext cx="2776320" cy="23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"/>
              <p:cNvSpPr/>
              <p:nvPr/>
            </p:nvSpPr>
            <p:spPr>
              <a:xfrm>
                <a:off x="6768720" y="3233880"/>
                <a:ext cx="339120" cy="21171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6690960" y="5346720"/>
                  <a:ext cx="157320" cy="2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3" name=""/>
            <p:cNvSpPr/>
            <p:nvPr/>
          </p:nvSpPr>
          <p:spPr>
            <a:xfrm>
              <a:off x="6771960" y="531324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94360" y="3219480"/>
              <a:ext cx="1197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8eff"/>
                  </a:solidFill>
                  <a:latin typeface="Times New Roman"/>
                </a:rPr>
                <a:t>channel im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508520" y="3451320"/>
              <a:ext cx="441360" cy="554040"/>
            </a:xfrm>
            <a:prstGeom prst="line">
              <a:avLst/>
            </a:prstGeom>
            <a:ln w="19080">
              <a:solidFill>
                <a:srgbClr val="418e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59520" y="4230720"/>
              <a:ext cx="8827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effective channel im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7021080" y="4551120"/>
              <a:ext cx="842760" cy="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762600" y="2906640"/>
              <a:ext cx="936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95960" y="2909880"/>
              <a:ext cx="11160" cy="2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6494400" y="3035160"/>
              <a:ext cx="2808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89520" y="2879640"/>
              <a:ext cx="51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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7118280" y="3030120"/>
              <a:ext cx="280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C01-A6D1-427A-A946-69AC6D2887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aximum Shortening SNR TEQ Desig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529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win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wal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 equalized channel within and outside the window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jective function is shortening SNR (SSNR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52280" y="1960200"/>
            <a:ext cx="4144680" cy="1240200"/>
            <a:chOff x="152280" y="1960200"/>
            <a:chExt cx="4144680" cy="1240200"/>
          </a:xfrm>
        </p:grpSpPr>
        <p:sp>
          <p:nvSpPr>
            <p:cNvPr id="667" name=""/>
            <p:cNvSpPr/>
            <p:nvPr/>
          </p:nvSpPr>
          <p:spPr>
            <a:xfrm>
              <a:off x="454320" y="2927160"/>
              <a:ext cx="5583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14120" y="2652480"/>
              <a:ext cx="837360" cy="54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51840" y="2927160"/>
              <a:ext cx="2862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8400" y="2743200"/>
              <a:ext cx="334080" cy="365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3920" y="2927160"/>
              <a:ext cx="4885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65320" y="2652480"/>
              <a:ext cx="837360" cy="5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01240" y="2925720"/>
              <a:ext cx="3985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342880" y="2430360"/>
              <a:ext cx="2880" cy="3189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2280" y="2588760"/>
              <a:ext cx="348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38440" y="2417400"/>
              <a:ext cx="348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48480" y="2395080"/>
              <a:ext cx="348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89240" y="1960200"/>
              <a:ext cx="3488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4572000" y="2133720"/>
                <a:ext cx="43513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ll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ll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ll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ll</m:t>
                            </m:r>
                          </m:sub>
                        </m:sSub>
                        <m:r>
                          <m:t xml:space="preserve">w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w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n</m:t>
                            </m:r>
                          </m:sub>
                        </m:sSub>
                        <m:r>
                          <m:t xml:space="preserve">w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152280" y="11430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oose w to minimize energy outside window of desired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e window to capture maximum channel impulse respons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689040" y="4143240"/>
                <a:ext cx="72406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SNR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Aw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subject to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28560" y="5959440"/>
                <a:ext cx="75898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eigenvector of min eigenvalue of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108840" y="5213520"/>
                <a:ext cx="256212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792000" y="5202360"/>
            <a:ext cx="5353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lesky decomposition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eigenvector for minimum generalized eigenvalu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A71-92AA-4456-B332-27BA9C33DE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odeling Achievable Bit Rat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63320" y="1064880"/>
            <a:ext cx="82198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t allocation bounded by subchannel SN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(1 + SN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Mode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subchannel SN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rslan, Evans &amp; Kiaei, 2001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 numerator and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nominator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y noise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wer spectral dens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,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865080" y="1962000"/>
                <a:ext cx="3962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pow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powe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SI 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865080" y="3720960"/>
                <a:ext cx="55040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ransmitted signal power in subchannel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channel noise power in subchannel 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092560" y="4454640"/>
                <a:ext cx="349416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gnal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ise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SI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 flipV="1">
            <a:off x="6778800" y="6024240"/>
            <a:ext cx="372960" cy="253800"/>
          </a:xfrm>
          <a:prstGeom prst="line">
            <a:avLst/>
          </a:prstGeom>
          <a:ln w="316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678640" y="6296040"/>
            <a:ext cx="111744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708360" y="5981760"/>
            <a:ext cx="1998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onventional subchannel SNR</a:t>
            </a:r>
            <a:r>
              <a:rPr b="1" i="1" lang="en-US" sz="20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863640" y="2811600"/>
                <a:ext cx="76518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,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signal transfer function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,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noise transfer function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,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ISI transfer func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6413400" y="1984320"/>
            <a:ext cx="253548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in Maximum Bit Rate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03960" y="5222880"/>
            <a:ext cx="598680" cy="1081080"/>
          </a:xfrm>
          <a:prstGeom prst="ellipse">
            <a:avLst/>
          </a:prstGeom>
          <a:noFill/>
          <a:ln w="316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57160" y="5894280"/>
            <a:ext cx="251640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in Minimum ISI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BC9-7180-401B-B744-21E231E325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1880" y="127080"/>
            <a:ext cx="8267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aximum Bit Rate (MBR) TEQ Desig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12480" y="1065240"/>
            <a:ext cx="867564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hannel SNR as nonlinear function of equalizer tap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27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ximize nonlinear function of bits/symbol with respec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erformance measure for comparison of TEQ desig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n efficient TEQ design method in computational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57360" y="1492200"/>
                <a:ext cx="220032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SI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DHw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F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284640" y="1467000"/>
                <a:ext cx="55879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F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DH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604960" y="4881600"/>
                <a:ext cx="38163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w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05" name=""/>
          <p:cNvGrpSpPr/>
          <p:nvPr/>
        </p:nvGrpSpPr>
        <p:grpSpPr>
          <a:xfrm>
            <a:off x="3633840" y="2534760"/>
            <a:ext cx="5089320" cy="921240"/>
            <a:chOff x="3633840" y="2534760"/>
            <a:chExt cx="5089320" cy="921240"/>
          </a:xfrm>
        </p:grpSpPr>
        <p:sp>
          <p:nvSpPr>
            <p:cNvPr id="706" name=""/>
            <p:cNvSpPr/>
            <p:nvPr/>
          </p:nvSpPr>
          <p:spPr>
            <a:xfrm rot="5400000">
              <a:off x="8075520" y="2805120"/>
              <a:ext cx="838080" cy="457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800000">
              <a:off x="4217760" y="2808360"/>
              <a:ext cx="841320" cy="457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60720" y="2847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0800000">
              <a:off x="3633840" y="2844360"/>
              <a:ext cx="380880" cy="38124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7392960" y="2617920"/>
              <a:ext cx="838080" cy="838080"/>
              <a:chOff x="7392960" y="2617920"/>
              <a:chExt cx="838080" cy="838080"/>
            </a:xfrm>
          </p:grpSpPr>
          <p:sp>
            <p:nvSpPr>
              <p:cNvPr id="711" name=""/>
              <p:cNvSpPr/>
              <p:nvPr/>
            </p:nvSpPr>
            <p:spPr>
              <a:xfrm rot="2700000">
                <a:off x="7583040" y="2808360"/>
                <a:ext cx="152280" cy="228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5400000">
                <a:off x="7392960" y="261792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51600" y="2617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5099040" y="2617920"/>
              <a:ext cx="896040" cy="838080"/>
              <a:chOff x="5099040" y="2617920"/>
              <a:chExt cx="896040" cy="838080"/>
            </a:xfrm>
          </p:grpSpPr>
          <p:sp>
            <p:nvSpPr>
              <p:cNvPr id="715" name=""/>
              <p:cNvSpPr/>
              <p:nvPr/>
            </p:nvSpPr>
            <p:spPr>
              <a:xfrm rot="2700000">
                <a:off x="5289120" y="2808360"/>
                <a:ext cx="152280" cy="228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5400000">
                <a:off x="5099040" y="261792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63080" y="261792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 rot="5400000">
              <a:off x="6818400" y="2617920"/>
              <a:ext cx="231840" cy="838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26320" y="2534760"/>
              <a:ext cx="309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5400000">
              <a:off x="6241680" y="2921040"/>
              <a:ext cx="228600" cy="2286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94520" y="2545920"/>
              <a:ext cx="385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x,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0800000">
              <a:off x="5973840" y="2617920"/>
              <a:ext cx="231840" cy="838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34240" y="2815920"/>
              <a:ext cx="309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71440" y="3443400"/>
            <a:ext cx="8451720" cy="921960"/>
            <a:chOff x="271440" y="3443400"/>
            <a:chExt cx="8451720" cy="921960"/>
          </a:xfrm>
        </p:grpSpPr>
        <p:grpSp>
          <p:nvGrpSpPr>
            <p:cNvPr id="725" name=""/>
            <p:cNvGrpSpPr/>
            <p:nvPr/>
          </p:nvGrpSpPr>
          <p:grpSpPr>
            <a:xfrm>
              <a:off x="7391520" y="3443400"/>
              <a:ext cx="880200" cy="914400"/>
              <a:chOff x="7391520" y="3443400"/>
              <a:chExt cx="880200" cy="914400"/>
            </a:xfrm>
          </p:grpSpPr>
          <p:sp>
            <p:nvSpPr>
              <p:cNvPr id="726" name=""/>
              <p:cNvSpPr/>
              <p:nvPr/>
            </p:nvSpPr>
            <p:spPr>
              <a:xfrm rot="5400000">
                <a:off x="7391520" y="351972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8100000">
                <a:off x="7452720" y="3619440"/>
                <a:ext cx="228240" cy="1522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8100000">
                <a:off x="7801920" y="3778200"/>
                <a:ext cx="228240" cy="53316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926480" y="34434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 rot="5400000">
              <a:off x="8075160" y="3709800"/>
              <a:ext cx="838440" cy="457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0800000">
              <a:off x="4214520" y="3736800"/>
              <a:ext cx="841320" cy="457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3000" y="3741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0800000">
              <a:off x="271440" y="3749760"/>
              <a:ext cx="380880" cy="3808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6815160" y="3543480"/>
              <a:ext cx="231840" cy="838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50000" y="3511080"/>
              <a:ext cx="309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5400000">
              <a:off x="6241680" y="3849840"/>
              <a:ext cx="228600" cy="2286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81560" y="3474720"/>
              <a:ext cx="385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x,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800000">
              <a:off x="5973840" y="3526920"/>
              <a:ext cx="231840" cy="838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34240" y="3725640"/>
              <a:ext cx="309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5097240" y="3463920"/>
              <a:ext cx="876960" cy="901440"/>
              <a:chOff x="5097240" y="3463920"/>
              <a:chExt cx="876960" cy="901440"/>
            </a:xfrm>
          </p:grpSpPr>
          <p:sp>
            <p:nvSpPr>
              <p:cNvPr id="741" name=""/>
              <p:cNvSpPr/>
              <p:nvPr/>
            </p:nvSpPr>
            <p:spPr>
              <a:xfrm rot="5400000">
                <a:off x="5096880" y="3527280"/>
                <a:ext cx="838080" cy="83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8100000">
                <a:off x="5158800" y="3627000"/>
                <a:ext cx="228240" cy="1522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8100000">
                <a:off x="5508000" y="3786120"/>
                <a:ext cx="228240" cy="53352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48320" y="3463920"/>
                <a:ext cx="42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rot="5400000">
              <a:off x="2044440" y="3844800"/>
              <a:ext cx="228600" cy="2286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998720" y="3472920"/>
              <a:ext cx="3855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n,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892080" y="3519360"/>
              <a:ext cx="838080" cy="838080"/>
              <a:chOff x="892080" y="3519360"/>
              <a:chExt cx="838080" cy="838080"/>
            </a:xfrm>
          </p:grpSpPr>
          <p:sp>
            <p:nvSpPr>
              <p:cNvPr id="748" name=""/>
              <p:cNvSpPr/>
              <p:nvPr/>
            </p:nvSpPr>
            <p:spPr>
              <a:xfrm rot="5400000">
                <a:off x="892080" y="351936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8100000">
                <a:off x="1032480" y="3552120"/>
                <a:ext cx="217800" cy="4460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470960" y="3524040"/>
                <a:ext cx="22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3192480" y="3521160"/>
              <a:ext cx="838080" cy="838080"/>
              <a:chOff x="3192480" y="3521160"/>
              <a:chExt cx="838080" cy="83808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3192480" y="3521160"/>
                <a:ext cx="838080" cy="838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8100000">
                <a:off x="3332880" y="3553920"/>
                <a:ext cx="217800" cy="4460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11320" y="35258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3963960" y="3755880"/>
              <a:ext cx="4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5400000">
              <a:off x="2617560" y="3546360"/>
              <a:ext cx="231480" cy="838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552760" y="3485880"/>
              <a:ext cx="309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0800000">
              <a:off x="1774800" y="3519000"/>
              <a:ext cx="231840" cy="838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35200" y="3717720"/>
              <a:ext cx="309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03360" y="3000240"/>
            <a:ext cx="2938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row of DFT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3920" y="4960800"/>
            <a:ext cx="220212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tional bits for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7DD-3382-4CAE-B18C-F1781764FE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inimum-ISI (Min-ISI) TEQ Desig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write subchannel SNR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rslan, Evans &amp; Kiaei, 2001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5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neralize MSSNR method by weighting ISI in frequenc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frequency weigh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of subchannel ISI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alize ISI power in high conventional SNR subchannel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 signal path gain to 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event all-zero solution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is eigenvector of minimum generalized eigenvalu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erative Min-ISI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Ding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003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s Cholesky decomposition by using adaptive filter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s arbitrary length TEQs without loss in bi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comes disadvantages of Maximum SSN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272200" y="1084320"/>
                <a:ext cx="349380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gnal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ise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SI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6" name=""/>
          <p:cNvSpPr/>
          <p:nvPr/>
        </p:nvSpPr>
        <p:spPr>
          <a:xfrm>
            <a:off x="7172280" y="1852560"/>
            <a:ext cx="1674720" cy="998640"/>
          </a:xfrm>
          <a:prstGeom prst="ellipse">
            <a:avLst/>
          </a:prstGeom>
          <a:noFill/>
          <a:ln w="316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414680" y="2638440"/>
            <a:ext cx="2880000" cy="7920"/>
          </a:xfrm>
          <a:prstGeom prst="line">
            <a:avLst/>
          </a:prstGeom>
          <a:ln w="316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34960" y="1800360"/>
            <a:ext cx="30146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SI power weighted in frequency domain by inverse of nois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4613400" y="3071880"/>
                <a:ext cx="41828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DH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030640" y="4192560"/>
                <a:ext cx="3743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gnal</m:t>
                        </m:r>
                      </m:sup>
                    </m:sSup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GHw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Yw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7335720" y="3718080"/>
                <a:ext cx="1623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066-24D2-45DE-96DD-44124B39C1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880" y="720360"/>
            <a:ext cx="82677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igital Subscriber Line (DSL)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Broadband Acces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3880" y="346536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1789200"/>
            <a:ext cx="2957760" cy="3206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48360" y="2549520"/>
            <a:ext cx="3655800" cy="2687040"/>
            <a:chOff x="5148360" y="2549520"/>
            <a:chExt cx="3655800" cy="2687040"/>
          </a:xfrm>
        </p:grpSpPr>
        <p:sp>
          <p:nvSpPr>
            <p:cNvPr id="95" name=""/>
            <p:cNvSpPr/>
            <p:nvPr/>
          </p:nvSpPr>
          <p:spPr>
            <a:xfrm flipV="1">
              <a:off x="5148360" y="2780280"/>
              <a:ext cx="3655800" cy="1112400"/>
            </a:xfrm>
            <a:custGeom>
              <a:avLst/>
              <a:gdLst>
                <a:gd name="textAreaLeft" fmla="*/ 583200 w 3655800"/>
                <a:gd name="textAreaRight" fmla="*/ 3072600 w 3655800"/>
                <a:gd name="textAreaTop" fmla="*/ 177480 h 1112400"/>
                <a:gd name="textAreaBottom" fmla="*/ 934920 h 111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48" y="21600"/>
                  </a:lnTo>
                  <a:lnTo>
                    <a:pt x="3052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1800" y="3893040"/>
              <a:ext cx="3074040" cy="1343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5160" y="2549520"/>
              <a:ext cx="365400" cy="49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554800" y="4803840"/>
            <a:ext cx="2784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Times New Roman"/>
              </a:rPr>
              <a:t>Customer Premi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8640" y="2930400"/>
            <a:ext cx="6858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7920" y="2239920"/>
            <a:ext cx="1638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ownstream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higher data rate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98440" y="3728880"/>
            <a:ext cx="660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41840" y="3828960"/>
            <a:ext cx="1066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240" y="4176360"/>
            <a:ext cx="1009800" cy="610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0600" y="2749680"/>
            <a:ext cx="9604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Times New Roman"/>
              </a:rPr>
              <a:t>Serv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Times New Roman"/>
              </a:rPr>
              <a:t>Provid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8520" y="1906560"/>
            <a:ext cx="1290600" cy="63972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71680" y="2843280"/>
            <a:ext cx="971640" cy="914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L 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31000" y="2936880"/>
            <a:ext cx="971280" cy="927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L 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02280" y="3400560"/>
            <a:ext cx="887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6720" y="4511520"/>
            <a:ext cx="111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0680" y="4229280"/>
            <a:ext cx="716040" cy="525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54600" y="3376440"/>
            <a:ext cx="17640" cy="88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16240" y="4241880"/>
            <a:ext cx="716040" cy="525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09720" y="3402000"/>
            <a:ext cx="0" cy="83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07920" y="4560840"/>
            <a:ext cx="52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928880" y="2554200"/>
            <a:ext cx="1440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78000" y="4876920"/>
            <a:ext cx="0" cy="82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98440" y="343080"/>
            <a:ext cx="1525680" cy="987120"/>
          </a:xfrm>
          <a:prstGeom prst="cloudCallout">
            <a:avLst>
              <a:gd name="adj1" fmla="val 50625"/>
              <a:gd name="adj2" fmla="val -54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944720" y="133524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69360" y="2986200"/>
            <a:ext cx="712800" cy="7128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7313760" y="4105440"/>
            <a:ext cx="853920" cy="641160"/>
            <a:chOff x="7313760" y="4105440"/>
            <a:chExt cx="853920" cy="6411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7313760" y="4105440"/>
              <a:ext cx="85392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561440" y="4105440"/>
              <a:ext cx="149400" cy="408600"/>
            </a:xfrm>
            <a:custGeom>
              <a:avLst/>
              <a:gdLst/>
              <a:ahLst/>
              <a:rect l="l" t="t" r="r" b="b"/>
              <a:pathLst>
                <a:path w="104" h="304">
                  <a:moveTo>
                    <a:pt x="0" y="304"/>
                  </a:moveTo>
                  <a:cubicBezTo>
                    <a:pt x="7" y="255"/>
                    <a:pt x="15" y="206"/>
                    <a:pt x="28" y="162"/>
                  </a:cubicBezTo>
                  <a:cubicBezTo>
                    <a:pt x="41" y="118"/>
                    <a:pt x="65" y="67"/>
                    <a:pt x="78" y="40"/>
                  </a:cubicBezTo>
                  <a:cubicBezTo>
                    <a:pt x="91" y="13"/>
                    <a:pt x="97" y="6"/>
                    <a:pt x="1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0720" y="4110840"/>
              <a:ext cx="140760" cy="413640"/>
            </a:xfrm>
            <a:custGeom>
              <a:avLst/>
              <a:gdLst/>
              <a:ahLst/>
              <a:rect l="l" t="t" r="r" b="b"/>
              <a:pathLst>
                <a:path w="104" h="304">
                  <a:moveTo>
                    <a:pt x="0" y="304"/>
                  </a:moveTo>
                  <a:cubicBezTo>
                    <a:pt x="7" y="255"/>
                    <a:pt x="15" y="206"/>
                    <a:pt x="28" y="162"/>
                  </a:cubicBezTo>
                  <a:cubicBezTo>
                    <a:pt x="41" y="118"/>
                    <a:pt x="65" y="67"/>
                    <a:pt x="78" y="40"/>
                  </a:cubicBezTo>
                  <a:cubicBezTo>
                    <a:pt x="91" y="13"/>
                    <a:pt x="97" y="6"/>
                    <a:pt x="1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8560" y="4508280"/>
              <a:ext cx="9180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08320" y="4107960"/>
              <a:ext cx="8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50720" y="4522320"/>
              <a:ext cx="31320" cy="8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91840" y="4110840"/>
              <a:ext cx="604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809120" y="4180680"/>
              <a:ext cx="3744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688160" y="4567680"/>
              <a:ext cx="3132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7719840" y="4444200"/>
              <a:ext cx="288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7762680" y="4226400"/>
              <a:ext cx="428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693560" y="4226400"/>
              <a:ext cx="6336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1040" y="4395600"/>
              <a:ext cx="22680" cy="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64320" y="451656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33440" y="4605120"/>
              <a:ext cx="518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30200" y="4640400"/>
              <a:ext cx="354240" cy="1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987680" y="4172760"/>
              <a:ext cx="161280" cy="480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44960" y="4615920"/>
              <a:ext cx="339480" cy="13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981560" y="4158720"/>
              <a:ext cx="149760" cy="47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43680" y="4156560"/>
              <a:ext cx="288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517880" y="4522320"/>
              <a:ext cx="3168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44332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2736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11400" y="3287880"/>
            <a:ext cx="36216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9580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7984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63880" y="3287880"/>
            <a:ext cx="36216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4828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3232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3287880"/>
            <a:ext cx="36216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0076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84800" y="3287880"/>
            <a:ext cx="36180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8840" y="3287880"/>
            <a:ext cx="362160" cy="88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7640" y="5854680"/>
            <a:ext cx="57164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SLAM 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gital Subscriber Line Access 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PF 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owpass Filter (passes voiceband frequenci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680" y="5705640"/>
            <a:ext cx="2565360" cy="987120"/>
          </a:xfrm>
          <a:prstGeom prst="cloudCallout">
            <a:avLst>
              <a:gd name="adj1" fmla="val -49564"/>
              <a:gd name="adj2" fmla="val -83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1AB-2464-47D8-A3CF-400C102B79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utlin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Multicarrier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ventional equalizer training metho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inimum Mean Squared Error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aximum Shortening Signal-to-Noise Rati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aximum Bit Rate design (</a:t>
            </a: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optimal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inimum Inter-symbol Interference design (</a:t>
            </a: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near-optimal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-tone equalizer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Catholic University, Leuven, Belgium]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Dual-path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clu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95400" y="5232240"/>
            <a:ext cx="8921520" cy="1392480"/>
            <a:chOff x="95400" y="5232240"/>
            <a:chExt cx="8921520" cy="1392480"/>
          </a:xfrm>
        </p:grpSpPr>
        <p:sp>
          <p:nvSpPr>
            <p:cNvPr id="776" name=""/>
            <p:cNvSpPr/>
            <p:nvPr/>
          </p:nvSpPr>
          <p:spPr>
            <a:xfrm>
              <a:off x="56052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7" name=""/>
            <p:cNvCxnSpPr>
              <a:stCxn id="776" idx="3"/>
              <a:endCxn id="778" idx="1"/>
            </p:cNvCxnSpPr>
            <p:nvPr/>
          </p:nvCxnSpPr>
          <p:spPr>
            <a:xfrm>
              <a:off x="833040" y="6078240"/>
              <a:ext cx="338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79" name=""/>
            <p:cNvSpPr/>
            <p:nvPr/>
          </p:nvSpPr>
          <p:spPr>
            <a:xfrm>
              <a:off x="808524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71440" y="5537160"/>
              <a:ext cx="179244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ransmit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0" name=""/>
            <p:cNvCxnSpPr>
              <a:stCxn id="778" idx="3"/>
              <a:endCxn id="781" idx="1"/>
            </p:cNvCxnSpPr>
            <p:nvPr/>
          </p:nvCxnSpPr>
          <p:spPr>
            <a:xfrm>
              <a:off x="2963880" y="6081480"/>
              <a:ext cx="397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81" name=""/>
            <p:cNvSpPr/>
            <p:nvPr/>
          </p:nvSpPr>
          <p:spPr>
            <a:xfrm>
              <a:off x="3360600" y="5537160"/>
              <a:ext cx="16113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"/>
            <p:cNvCxnSpPr>
              <a:stCxn id="781" idx="3"/>
              <a:endCxn id="783" idx="1"/>
            </p:cNvCxnSpPr>
            <p:nvPr/>
          </p:nvCxnSpPr>
          <p:spPr>
            <a:xfrm>
              <a:off x="4971960" y="6081480"/>
              <a:ext cx="3484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83" name=""/>
            <p:cNvSpPr/>
            <p:nvPr/>
          </p:nvSpPr>
          <p:spPr>
            <a:xfrm>
              <a:off x="5319720" y="5537160"/>
              <a:ext cx="24591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"/>
            <p:cNvCxnSpPr/>
            <p:nvPr/>
          </p:nvCxnSpPr>
          <p:spPr>
            <a:xfrm flipV="1">
              <a:off x="7778520" y="6077880"/>
              <a:ext cx="306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cxnSp>
          <p:nvCxnSpPr>
            <p:cNvPr id="785" name=""/>
            <p:cNvCxnSpPr>
              <a:stCxn id="786" idx="1"/>
              <a:endCxn id="786" idx="1"/>
            </p:cNvCxnSpPr>
            <p:nvPr/>
          </p:nvCxnSpPr>
          <p:spPr>
            <a:xfrm>
              <a:off x="5405040" y="5967000"/>
              <a:ext cx="1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86" name=""/>
            <p:cNvSpPr/>
            <p:nvPr/>
          </p:nvSpPr>
          <p:spPr>
            <a:xfrm>
              <a:off x="5405400" y="5764320"/>
              <a:ext cx="1201680" cy="40644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qual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5400" y="524016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ssage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78680" y="523224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d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"/>
            <p:cNvCxnSpPr/>
            <p:nvPr/>
          </p:nvCxnSpPr>
          <p:spPr>
            <a:xfrm>
              <a:off x="6584760" y="6081480"/>
              <a:ext cx="34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6721560" y="5735520"/>
              <a:ext cx="868320" cy="49392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4AE-3FD6-4B67-898F-312F11D250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rawbacks to Using Single FIR Filter for TEQ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3642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ntional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es all tones in combined fashion: may limit bit rat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 of conventional equalizer for to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omputed using sequence of linear operati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0720"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omplex scalar value of one-tap FEQ for to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-valued FFT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l-valued Toeplitz matrix of received samp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umn vector of real-valued TEQ t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97560" y="4597560"/>
            <a:ext cx="1416240" cy="91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w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resents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341440" y="1141200"/>
            <a:ext cx="6005520" cy="2202120"/>
            <a:chOff x="2341440" y="1141200"/>
            <a:chExt cx="6005520" cy="2202120"/>
          </a:xfrm>
        </p:grpSpPr>
        <p:sp>
          <p:nvSpPr>
            <p:cNvPr id="796" name=""/>
            <p:cNvSpPr/>
            <p:nvPr/>
          </p:nvSpPr>
          <p:spPr>
            <a:xfrm>
              <a:off x="7135920" y="1765440"/>
              <a:ext cx="838080" cy="152388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rt 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853240" y="1766880"/>
              <a:ext cx="900000" cy="1523880"/>
            </a:xfrm>
            <a:prstGeom prst="rect">
              <a:avLst/>
            </a:prstGeom>
            <a:solidFill>
              <a:srgbClr val="cc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F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rro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32360" y="1816200"/>
              <a:ext cx="480960" cy="152388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06880" y="1819440"/>
              <a:ext cx="838080" cy="1523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ove  cyclic 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02320" y="1141200"/>
              <a:ext cx="16016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real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41440" y="2550960"/>
              <a:ext cx="503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13480" y="2496960"/>
              <a:ext cx="0" cy="38124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24480" y="197496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24480" y="211284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24480" y="314316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92920" y="2155680"/>
              <a:ext cx="0" cy="38124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54680" y="1951200"/>
              <a:ext cx="392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54680" y="2089080"/>
              <a:ext cx="392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54680" y="2644920"/>
              <a:ext cx="392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30680" y="1819440"/>
              <a:ext cx="914400" cy="152388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ime domain equalizer (FIR fil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26000" y="2511360"/>
              <a:ext cx="369720" cy="1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93160" y="2168640"/>
              <a:ext cx="0" cy="3808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54920" y="196380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54920" y="210168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954920" y="2657520"/>
              <a:ext cx="392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64280" y="1153800"/>
              <a:ext cx="16016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/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omplex 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BEC-5547-4BAA-8BE8-E4378F63EE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Frequency-Domain Per Tone Equaliz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write equalized FFT coefficient for each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ones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Van Acker, Leus, Moonen, van de Wiel, Pollet, 2001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0" algn="ctr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o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ro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sliding FFT to produ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rix product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each 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56560" y="3137040"/>
            <a:ext cx="8247600" cy="3504600"/>
            <a:chOff x="556560" y="3137040"/>
            <a:chExt cx="8247600" cy="3504600"/>
          </a:xfrm>
        </p:grpSpPr>
        <p:sp>
          <p:nvSpPr>
            <p:cNvPr id="820" name=""/>
            <p:cNvSpPr/>
            <p:nvPr/>
          </p:nvSpPr>
          <p:spPr>
            <a:xfrm>
              <a:off x="3959280" y="3137040"/>
              <a:ext cx="1066680" cy="3200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li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fra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16120" y="3289320"/>
              <a:ext cx="6858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68760" y="336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16120" y="5194440"/>
              <a:ext cx="6858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68760" y="527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616120" y="5880240"/>
              <a:ext cx="6858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68760" y="595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30320" y="5651640"/>
              <a:ext cx="304920" cy="304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30320" y="3822840"/>
              <a:ext cx="304920" cy="304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30320" y="4813200"/>
              <a:ext cx="304920" cy="304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68560" y="6108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082960" y="595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082960" y="51181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2082960" y="466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2082960" y="4431960"/>
              <a:ext cx="0" cy="22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2082960" y="412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2082960" y="3517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082960" y="3517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01920" y="351792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2960" y="5346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01920" y="534672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301920" y="610884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08040" y="5794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56560" y="4584600"/>
              <a:ext cx="11134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an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06040" y="3975120"/>
              <a:ext cx="47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96560" y="3975120"/>
              <a:ext cx="47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68160" y="3975120"/>
              <a:ext cx="47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007480" y="39751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Lw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44720" y="5346720"/>
              <a:ext cx="581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/2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30520" y="5346720"/>
              <a:ext cx="581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/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916320" y="5346720"/>
              <a:ext cx="581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/2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48880" y="5346720"/>
              <a:ext cx="755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/2,Lw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424120" y="5765760"/>
              <a:ext cx="32547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Q is a linear combin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 up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tap FEQ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21040" y="42037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21040" y="44323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21040" y="46609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07040" y="389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07040" y="412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07040" y="4356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40560" y="3746520"/>
              <a:ext cx="228600" cy="1522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50040" y="3746520"/>
              <a:ext cx="228600" cy="1522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112160" y="3746520"/>
              <a:ext cx="228600" cy="1522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255160" y="3746520"/>
              <a:ext cx="228600" cy="1522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69160" y="3822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78640" y="3822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483760" y="38228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340760" y="3822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69360" y="3822840"/>
              <a:ext cx="3045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873920" y="3822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5960" y="35942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4400" y="3594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25960" y="34416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36000" y="3441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25960" y="35179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73880" y="3517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5960" y="336564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379000" y="3365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40560" y="5041800"/>
              <a:ext cx="228600" cy="15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50040" y="5041800"/>
              <a:ext cx="228600" cy="15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12160" y="5041800"/>
              <a:ext cx="228600" cy="15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55160" y="5041800"/>
              <a:ext cx="228600" cy="15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69160" y="5118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78640" y="5118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483760" y="511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40760" y="511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569360" y="5118120"/>
              <a:ext cx="3045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873920" y="5118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25960" y="48895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864400" y="488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25960" y="473724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36000" y="4737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5960" y="4813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73880" y="481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25960" y="466092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379000" y="46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228-7766-440C-AF72-D9A5C8C7B5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utlin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Multicarrier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ventional equalizer training metho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inimum Mean Squared Error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aximum Shortening Signal-to-Noise Rati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aximum Bit Rate design (</a:t>
            </a: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optimal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Minimum Inter-symbol Interference design (</a:t>
            </a: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near-optimal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Per-tone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ual-path equalizer             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nclu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95400" y="5232240"/>
            <a:ext cx="8921520" cy="1392480"/>
            <a:chOff x="95400" y="5232240"/>
            <a:chExt cx="8921520" cy="1392480"/>
          </a:xfrm>
        </p:grpSpPr>
        <p:sp>
          <p:nvSpPr>
            <p:cNvPr id="899" name=""/>
            <p:cNvSpPr/>
            <p:nvPr/>
          </p:nvSpPr>
          <p:spPr>
            <a:xfrm>
              <a:off x="56052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0" name=""/>
            <p:cNvCxnSpPr>
              <a:stCxn id="899" idx="3"/>
              <a:endCxn id="901" idx="1"/>
            </p:cNvCxnSpPr>
            <p:nvPr/>
          </p:nvCxnSpPr>
          <p:spPr>
            <a:xfrm>
              <a:off x="833040" y="6078240"/>
              <a:ext cx="338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02" name=""/>
            <p:cNvSpPr/>
            <p:nvPr/>
          </p:nvSpPr>
          <p:spPr>
            <a:xfrm>
              <a:off x="808524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71440" y="5537160"/>
              <a:ext cx="179244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ransmit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3" name=""/>
            <p:cNvCxnSpPr>
              <a:stCxn id="901" idx="3"/>
              <a:endCxn id="904" idx="1"/>
            </p:cNvCxnSpPr>
            <p:nvPr/>
          </p:nvCxnSpPr>
          <p:spPr>
            <a:xfrm>
              <a:off x="2963880" y="6081480"/>
              <a:ext cx="397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3360600" y="5537160"/>
              <a:ext cx="16113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5" name=""/>
            <p:cNvCxnSpPr>
              <a:stCxn id="904" idx="3"/>
              <a:endCxn id="906" idx="1"/>
            </p:cNvCxnSpPr>
            <p:nvPr/>
          </p:nvCxnSpPr>
          <p:spPr>
            <a:xfrm>
              <a:off x="4971960" y="6081480"/>
              <a:ext cx="3484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06" name=""/>
            <p:cNvSpPr/>
            <p:nvPr/>
          </p:nvSpPr>
          <p:spPr>
            <a:xfrm>
              <a:off x="5319720" y="5537160"/>
              <a:ext cx="24591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7" name=""/>
            <p:cNvCxnSpPr/>
            <p:nvPr/>
          </p:nvCxnSpPr>
          <p:spPr>
            <a:xfrm flipV="1">
              <a:off x="7778520" y="6077880"/>
              <a:ext cx="306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cxnSp>
          <p:nvCxnSpPr>
            <p:cNvPr id="908" name=""/>
            <p:cNvCxnSpPr>
              <a:stCxn id="909" idx="1"/>
              <a:endCxn id="909" idx="1"/>
            </p:cNvCxnSpPr>
            <p:nvPr/>
          </p:nvCxnSpPr>
          <p:spPr>
            <a:xfrm>
              <a:off x="5405040" y="5967000"/>
              <a:ext cx="1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09" name=""/>
            <p:cNvSpPr/>
            <p:nvPr/>
          </p:nvSpPr>
          <p:spPr>
            <a:xfrm>
              <a:off x="5405400" y="5764320"/>
              <a:ext cx="1201680" cy="40644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qual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95400" y="524016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ssage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78680" y="523224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d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2" name=""/>
            <p:cNvCxnSpPr/>
            <p:nvPr/>
          </p:nvCxnSpPr>
          <p:spPr>
            <a:xfrm>
              <a:off x="6584760" y="6081480"/>
              <a:ext cx="34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913" name=""/>
            <p:cNvSpPr/>
            <p:nvPr/>
          </p:nvSpPr>
          <p:spPr>
            <a:xfrm>
              <a:off x="6721560" y="5735520"/>
              <a:ext cx="868320" cy="49392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006-B392-4E62-91CA-6BE2DE5D12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ual-Path Time Domain Equalizer (DP-TEQ)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Ding, Redfern &amp; Evans, 2002]</a:t>
            </a:r>
            <a:endParaRPr b="0" lang="en-US" sz="17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st FIR TEQ equalizes entire available bandwidt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cond FIR TEQ tailored for subset of subchanne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hannels with higher S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hannels difficult to equalize, e.g. at boundary of upstream and downstream channels in frequency-division multiplexed 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um ISI method is good match for second FIR TEQ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th selection for each subchannel is fixed during trainin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p to 20% improvement in bit rate over MMSE TEQ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ables reuse of VLSI designs of conventional equalizer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ual-Path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041480" y="3575160"/>
            <a:ext cx="7238880" cy="1600200"/>
            <a:chOff x="1041480" y="3575160"/>
            <a:chExt cx="7238880" cy="1600200"/>
          </a:xfrm>
        </p:grpSpPr>
        <p:sp>
          <p:nvSpPr>
            <p:cNvPr id="918" name=""/>
            <p:cNvSpPr/>
            <p:nvPr/>
          </p:nvSpPr>
          <p:spPr>
            <a:xfrm>
              <a:off x="1879560" y="3727440"/>
              <a:ext cx="8380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Q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79560" y="4718160"/>
              <a:ext cx="8380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Q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41480" y="4489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422360" y="395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22360" y="4946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22360" y="39560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93960" y="3956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93960" y="4946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84600" y="3813120"/>
              <a:ext cx="709560" cy="273240"/>
            </a:xfrm>
            <a:prstGeom prst="rightArrow">
              <a:avLst>
                <a:gd name="adj1" fmla="val 50000"/>
                <a:gd name="adj2" fmla="val 64921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79760" y="3727440"/>
              <a:ext cx="838080" cy="457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94160" y="3803760"/>
              <a:ext cx="609480" cy="257040"/>
            </a:xfrm>
            <a:prstGeom prst="rightArrow">
              <a:avLst>
                <a:gd name="adj1" fmla="val 50000"/>
                <a:gd name="adj2" fmla="val 5927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00440" y="4819680"/>
              <a:ext cx="725400" cy="241200"/>
            </a:xfrm>
            <a:prstGeom prst="rightArrow">
              <a:avLst>
                <a:gd name="adj1" fmla="val 50000"/>
                <a:gd name="adj2" fmla="val 7518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79760" y="4718160"/>
              <a:ext cx="838080" cy="457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94160" y="4794120"/>
              <a:ext cx="609480" cy="257400"/>
            </a:xfrm>
            <a:prstGeom prst="rightArrow">
              <a:avLst>
                <a:gd name="adj1" fmla="val 50000"/>
                <a:gd name="adj2" fmla="val 59196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03640" y="3575160"/>
              <a:ext cx="1752840" cy="1600200"/>
            </a:xfrm>
            <a:prstGeom prst="rightArrowCallout">
              <a:avLst>
                <a:gd name="adj1" fmla="val 15085"/>
                <a:gd name="adj2" fmla="val 13491"/>
                <a:gd name="adj3" fmla="val 18256"/>
                <a:gd name="adj4" fmla="val 6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 e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756480" y="4184640"/>
              <a:ext cx="838080" cy="457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70880" y="4260960"/>
              <a:ext cx="609480" cy="257040"/>
            </a:xfrm>
            <a:prstGeom prst="rightArrow">
              <a:avLst>
                <a:gd name="adj1" fmla="val 50000"/>
                <a:gd name="adj2" fmla="val 5927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557-A6F1-42B7-B38F-CE77DB51F2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mulation Results for 17-Tap Equalizer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495360" y="1106640"/>
            <a:ext cx="5429160" cy="429552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6137280" y="1230480"/>
            <a:ext cx="27432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c prefix length 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T siz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      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gain (d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 (dB)     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power (dBm)   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power (dBm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talk noi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24 ISDN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2880" y="551664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rtin, Vanbleu, Ding, Ysebaert, Milosevic, Evans, Moonen &amp; Johnson, Oct. 200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99160" y="4552920"/>
            <a:ext cx="179568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stream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6400" y="585936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(b) means unit norm constraint on target impulse respon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.e. |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0280" y="623412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S is Maximum Delay Spread design 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Schur &amp; Speidel, 200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58920" y="5140440"/>
            <a:ext cx="43480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rier serving area (CSA) test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6200000">
            <a:off x="-162360" y="3027600"/>
            <a:ext cx="1625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 rate (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D90-8273-4F99-8747-3098D9F939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mulation Results for 17-Tap Equalizer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623880" y="1154160"/>
            <a:ext cx="5324400" cy="42670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6137280" y="1230480"/>
            <a:ext cx="27432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c prefix length 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T siz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      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gain (d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 (dB)     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power (dBm)   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power (dBm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talk noi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24 ISDN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42880" y="551664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3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artin, Vanbleu, Ding, Ysebaert, Milosevic, Evans, Moonen &amp; Johnson, Oct. 200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599160" y="4552920"/>
            <a:ext cx="1795680" cy="7318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stream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52600" y="582768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R is Maximum Data Rate design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ilosevic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 200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46120" y="613872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M-TEQ is Bit Rate Maximizing design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Vanbleu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 200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55480" y="6450120"/>
            <a:ext cx="82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EQ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Per Tone Equaliz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ucture and design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ck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, 200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258920" y="5156280"/>
            <a:ext cx="43480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rier Serving Area (CSA) Test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16200000">
            <a:off x="-162360" y="3027600"/>
            <a:ext cx="1625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 Rate (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E53-A25C-4B36-87F5-0DA22326EE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stimated Computational Complexit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1314360" y="1074600"/>
            <a:ext cx="6481800" cy="512928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2949480" y="5979960"/>
            <a:ext cx="3659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alizer Design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200000">
            <a:off x="-558720" y="3378600"/>
            <a:ext cx="430704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ational Complexity in 10 lo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C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88960" y="6359400"/>
            <a:ext cx="80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 means a multiplication-accumulation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67F-1743-4262-8721-E84B7A6113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2" name=""/>
          <p:cNvGraphicFramePr/>
          <p:nvPr/>
        </p:nvGraphicFramePr>
        <p:xfrm>
          <a:off x="1382760" y="365040"/>
          <a:ext cx="6959520" cy="60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365040"/>
                    <a:ext cx="6959520" cy="60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Bit Rate vs. Training Complexity Tradeoff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5320" y="6032520"/>
            <a:ext cx="78933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ining Complexity in 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A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6200000">
            <a:off x="244440" y="3196440"/>
            <a:ext cx="207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 Rate (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8960" y="6407280"/>
            <a:ext cx="80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 means a multiplication-accumulation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7A9-4327-442F-909C-EE1A30CB23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chievable Bit Rate vs. Delay Paramet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1444680" y="1050840"/>
            <a:ext cx="6411960" cy="495612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53920" y="6091200"/>
            <a:ext cx="7659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plateau of near-optimal delays (optimal choice requires searc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hoice is to set the delay parameter equal to cyclic prefix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949480" y="5757840"/>
            <a:ext cx="3659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 Paramet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CSA Test Loo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rot="16200000">
            <a:off x="848520" y="3233880"/>
            <a:ext cx="1625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 rate (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071-BCD0-4236-9C1F-261956AF74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iscrete Multitone (DMT) DSL Standard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320" y="1065240"/>
            <a:ext cx="834372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ADS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– Asymmetric DS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data rates supported in G.DMT standar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eal 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Echo cancell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14.94 Mbps downstream, 1.56 Mbps up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Frequency division multiplex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DM):  13.38 Mbps downstream, 1.56 Mbps up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spread deployment in US, Canada, Western Europe, and Hong K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Central office provider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installing frequency-division multiplexed (FD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SL: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cable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 modem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:2 in US &amp; 2:1 world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L+ 8 Mbps downstream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L2 doubles analog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VDS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– Very High Rate DS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m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er G.DMT FDM 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ubcarrier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8, 1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metric: 13, 9, or 6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Option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-17 MHz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6200" y="3524400"/>
            <a:ext cx="533520" cy="37116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3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520" y="4025880"/>
            <a:ext cx="533520" cy="37152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3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1760" y="4976640"/>
            <a:ext cx="533520" cy="37152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3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760" y="1620720"/>
            <a:ext cx="533520" cy="37152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997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35640" y="3279600"/>
          <a:ext cx="4410000" cy="3562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5640" y="3279600"/>
                    <a:ext cx="441000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 txBox="1"/>
          <p:nvPr/>
        </p:nvSpPr>
        <p:spPr>
          <a:xfrm>
            <a:off x="139680" y="5473800"/>
            <a:ext cx="533520" cy="371520"/>
          </a:xfrm>
          <a:prstGeom prst="rect">
            <a:avLst/>
          </a:prstGeom>
        </p:spPr>
        <p:txBody>
          <a:bodyPr wrap="none" lIns="0" rIns="0" tIns="0" bIns="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5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B86-0875-43B8-9E7C-B2D161832E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ntributions by Research Group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5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 methods for single-path time-domain equalizer desig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Bit Rate method maximizes bit rat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per 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Inter-Symbol Interference metho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l-time, fixed-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um Inter-Symbol Interference TEQ design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izes Maximum Shortening SNR by frequency weighting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bit rate in an ADSL transceiver by change of softwar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in real-time on three fixed-point digital signal processor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orola 56000, TI TMS320C6200 and TI TMS320C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 dual-path time-domain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ieves bit rates between conventional and per tone equaliz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implementation complexity in training than per tone equaliz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reuse of ASIC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420228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http://www.ece.utexas.edu/~bevans/projects/a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16E-99E7-47B4-8102-E1454DF861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1886040" y="1913040"/>
            <a:ext cx="5538600" cy="445752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312840" y="1065240"/>
            <a:ext cx="86202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path, dual-path, per-tone &amp; TEQ filter bank equali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at http://www.ece.utexas.edu/~bevans/projects/adsl/dmtte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UT Austin Matlab DMTTEQ Toolbox 3.1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01680" y="5389560"/>
            <a:ext cx="1344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formance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658880" y="5803920"/>
            <a:ext cx="636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558200" y="3143160"/>
            <a:ext cx="137160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default parameters from G.DMT ADSL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756560" y="5361120"/>
            <a:ext cx="12016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 graphical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 flipV="1">
            <a:off x="6919920" y="5517720"/>
            <a:ext cx="790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43600" y="4879800"/>
            <a:ext cx="2685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1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42160" y="4635360"/>
            <a:ext cx="2682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632720" y="220032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 desig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6531120" y="2600280"/>
            <a:ext cx="1055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A43-3B3D-45B6-9A79-728D32706A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UT Austin ADSL2 Simulator 1.1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666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ulation contro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ulation state indicato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scription window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ulation parameter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formance indicator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6095880" cy="457488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533520" y="5905440"/>
            <a:ext cx="843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users.ece.utexas.edu/~bevans/projects/adsl/simulator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6B2-302E-478E-8E80-04F487D2EA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74640" y="51120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Backup Slide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8" name=""/>
          <p:cNvGraphicFramePr/>
          <p:nvPr/>
        </p:nvGraphicFramePr>
        <p:xfrm>
          <a:off x="736560" y="1284120"/>
          <a:ext cx="7272360" cy="25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284120"/>
                    <a:ext cx="727236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"/>
          <p:cNvGraphicFramePr/>
          <p:nvPr/>
        </p:nvGraphicFramePr>
        <p:xfrm>
          <a:off x="749160" y="4175280"/>
          <a:ext cx="7612200" cy="2625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4175280"/>
                    <a:ext cx="7612200" cy="26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"/>
          <p:cNvSpPr/>
          <p:nvPr/>
        </p:nvSpPr>
        <p:spPr>
          <a:xfrm>
            <a:off x="1274760" y="979200"/>
            <a:ext cx="659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73320" y="3863880"/>
            <a:ext cx="659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pplications of Broadband Acces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868-A125-4F68-845D-0FE6F3767E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elected DSL Standard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173240" y="6259680"/>
            <a:ext cx="711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rtesy of Shawn McCaslin (National Instruments, Austin, T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258840" y="1265400"/>
          <a:ext cx="8472240" cy="49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265400"/>
                    <a:ext cx="847224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C54-757C-4719-B88F-CF137D12A2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 Digital Communications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0720" y="4740120"/>
            <a:ext cx="83757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coder maps a group of message bits to data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dulator maps these symbols to analog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modulator maps received waveforms back to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oder maps the symbols back to binary message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47680" y="1257480"/>
            <a:ext cx="8551800" cy="3043080"/>
            <a:chOff x="247680" y="1257480"/>
            <a:chExt cx="8551800" cy="3043080"/>
          </a:xfrm>
        </p:grpSpPr>
        <p:sp>
          <p:nvSpPr>
            <p:cNvPr id="1014" name=""/>
            <p:cNvSpPr/>
            <p:nvPr/>
          </p:nvSpPr>
          <p:spPr>
            <a:xfrm>
              <a:off x="247680" y="1712880"/>
              <a:ext cx="1076400" cy="742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36880" y="3035160"/>
              <a:ext cx="1285920" cy="742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6" name=""/>
            <p:cNvCxnSpPr>
              <a:stCxn id="1014" idx="3"/>
              <a:endCxn id="1017" idx="1"/>
            </p:cNvCxnSpPr>
            <p:nvPr/>
          </p:nvCxnSpPr>
          <p:spPr>
            <a:xfrm>
              <a:off x="1324080" y="2084400"/>
              <a:ext cx="821520" cy="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7" idx="2"/>
              <a:endCxn id="1015" idx="0"/>
            </p:cNvCxnSpPr>
            <p:nvPr/>
          </p:nvCxnSpPr>
          <p:spPr>
            <a:xfrm flipH="1">
              <a:off x="2679480" y="2460240"/>
              <a:ext cx="3600" cy="57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7" name=""/>
            <p:cNvSpPr/>
            <p:nvPr/>
          </p:nvSpPr>
          <p:spPr>
            <a:xfrm>
              <a:off x="2144880" y="1717560"/>
              <a:ext cx="1076040" cy="742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9" name=""/>
            <p:cNvCxnSpPr>
              <a:stCxn id="1015" idx="3"/>
              <a:endCxn id="1020" idx="1"/>
            </p:cNvCxnSpPr>
            <p:nvPr/>
          </p:nvCxnSpPr>
          <p:spPr>
            <a:xfrm>
              <a:off x="3322440" y="3406320"/>
              <a:ext cx="64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0" name=""/>
            <p:cNvSpPr/>
            <p:nvPr/>
          </p:nvSpPr>
          <p:spPr>
            <a:xfrm>
              <a:off x="3962520" y="3035160"/>
              <a:ext cx="1076040" cy="742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1" name=""/>
            <p:cNvCxnSpPr>
              <a:stCxn id="1020" idx="3"/>
              <a:endCxn id="1022" idx="1"/>
            </p:cNvCxnSpPr>
            <p:nvPr/>
          </p:nvCxnSpPr>
          <p:spPr>
            <a:xfrm>
              <a:off x="5038560" y="3406320"/>
              <a:ext cx="524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2" name=""/>
            <p:cNvSpPr/>
            <p:nvPr/>
          </p:nvSpPr>
          <p:spPr>
            <a:xfrm>
              <a:off x="5562720" y="3035160"/>
              <a:ext cx="1523880" cy="742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3" name=""/>
            <p:cNvCxnSpPr>
              <a:stCxn id="1024" idx="2"/>
              <a:endCxn id="1022" idx="0"/>
            </p:cNvCxnSpPr>
            <p:nvPr/>
          </p:nvCxnSpPr>
          <p:spPr>
            <a:xfrm>
              <a:off x="6324120" y="2439360"/>
              <a:ext cx="1080" cy="595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4" name=""/>
            <p:cNvSpPr/>
            <p:nvPr/>
          </p:nvSpPr>
          <p:spPr>
            <a:xfrm>
              <a:off x="5786280" y="1697040"/>
              <a:ext cx="1076400" cy="742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5" name=""/>
            <p:cNvCxnSpPr>
              <a:stCxn id="1024" idx="3"/>
              <a:endCxn id="1026" idx="1"/>
            </p:cNvCxnSpPr>
            <p:nvPr/>
          </p:nvCxnSpPr>
          <p:spPr>
            <a:xfrm>
              <a:off x="6862680" y="2068200"/>
              <a:ext cx="812160" cy="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6" name=""/>
            <p:cNvSpPr/>
            <p:nvPr/>
          </p:nvSpPr>
          <p:spPr>
            <a:xfrm>
              <a:off x="7674120" y="1706400"/>
              <a:ext cx="1125360" cy="742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731960" y="1257480"/>
              <a:ext cx="1990800" cy="3043080"/>
            </a:xfrm>
            <a:prstGeom prst="flowChartAlternateProcess">
              <a:avLst/>
            </a:prstGeom>
            <a:noFill/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433840" y="1257480"/>
              <a:ext cx="1990800" cy="3043080"/>
            </a:xfrm>
            <a:prstGeom prst="flowChartAlternateProcess">
              <a:avLst/>
            </a:prstGeom>
            <a:noFill/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4800" y="2127240"/>
              <a:ext cx="8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43200" y="3817800"/>
              <a:ext cx="173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83240" y="3797280"/>
              <a:ext cx="173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72000" y="2508120"/>
              <a:ext cx="0" cy="456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474-8C64-44CD-892F-E07BCAE40F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"/>
          <p:cNvGrpSpPr/>
          <p:nvPr/>
        </p:nvGrpSpPr>
        <p:grpSpPr>
          <a:xfrm>
            <a:off x="4511520" y="1028880"/>
            <a:ext cx="4281480" cy="5553360"/>
            <a:chOff x="4511520" y="1028880"/>
            <a:chExt cx="4281480" cy="5553360"/>
          </a:xfrm>
        </p:grpSpPr>
        <p:sp>
          <p:nvSpPr>
            <p:cNvPr id="1035" name=""/>
            <p:cNvSpPr/>
            <p:nvPr/>
          </p:nvSpPr>
          <p:spPr>
            <a:xfrm flipV="1">
              <a:off x="4562640" y="2714400"/>
              <a:ext cx="117936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59280" y="2084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11560" y="2084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64200" y="2084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316480" y="271944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722840" y="17478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75120" y="17478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27760" y="17478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3606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6075360" y="1785960"/>
              <a:ext cx="939600" cy="942840"/>
              <a:chOff x="6075360" y="1785960"/>
              <a:chExt cx="939600" cy="94284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6075360" y="2085840"/>
                <a:ext cx="939600" cy="642960"/>
                <a:chOff x="6075360" y="2085840"/>
                <a:chExt cx="939600" cy="642960"/>
              </a:xfrm>
            </p:grpSpPr>
            <p:sp>
              <p:nvSpPr>
                <p:cNvPr id="1046" name=""/>
                <p:cNvSpPr/>
                <p:nvPr/>
              </p:nvSpPr>
              <p:spPr>
                <a:xfrm flipV="1">
                  <a:off x="6075360" y="2715840"/>
                  <a:ext cx="93960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lg" type="triangle" w="sm"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372000" y="2085840"/>
                  <a:ext cx="0" cy="64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511680" y="2284560"/>
                  <a:ext cx="12960" cy="444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676920" y="2481120"/>
                  <a:ext cx="0" cy="24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6221520" y="1785960"/>
                <a:ext cx="32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373800" y="1963440"/>
                <a:ext cx="32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.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526440" y="2154240"/>
                <a:ext cx="322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flipV="1">
              <a:off x="7437600" y="2714400"/>
              <a:ext cx="135540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734240" y="2084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86880" y="1682640"/>
              <a:ext cx="0" cy="10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039160" y="1330200"/>
              <a:ext cx="0" cy="139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191440" y="2508120"/>
              <a:ext cx="0" cy="209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012160" y="220500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75480" y="177804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715160" y="137304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893000" y="102888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5400000">
              <a:off x="7561800" y="4093200"/>
              <a:ext cx="792000" cy="298440"/>
            </a:xfrm>
            <a:custGeom>
              <a:avLst/>
              <a:gdLst>
                <a:gd name="textAreaLeft" fmla="*/ 99000 w 792000"/>
                <a:gd name="textAreaRight" fmla="*/ 693000 w 792000"/>
                <a:gd name="textAreaTop" fmla="*/ 74520 h 298440"/>
                <a:gd name="textAreaBottom" fmla="*/ 22392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99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473960" y="5819400"/>
              <a:ext cx="131616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70960" y="5189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923240" y="5189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075520" y="5189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21560" y="485316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61240" y="485316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913520" y="4853160"/>
              <a:ext cx="32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370720" y="51894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064360" y="4853160"/>
              <a:ext cx="32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511520" y="3630240"/>
              <a:ext cx="13845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Transmitted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32520" y="2960280"/>
              <a:ext cx="9889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Channel</a:t>
              </a:r>
              <a:br>
                <a:rPr sz="2000"/>
              </a:b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impulse</a:t>
              </a:r>
              <a:br>
                <a:rPr sz="2000"/>
              </a:b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493040" y="2950920"/>
              <a:ext cx="988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Received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59560" y="4147920"/>
              <a:ext cx="11415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Thre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99"/>
                  </a:solidFill>
                  <a:latin typeface="Times New Roman"/>
                </a:rPr>
                <a:t>at z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47040" y="5972040"/>
              <a:ext cx="988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18eff"/>
                  </a:solidFill>
                  <a:latin typeface="Times New Roman"/>
                </a:rPr>
                <a:t>Detected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603760" y="2525760"/>
              <a:ext cx="568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43680" y="2505240"/>
              <a:ext cx="568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59400" y="209376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05320" y="174312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362800" y="2206800"/>
              <a:ext cx="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196120" y="1868400"/>
              <a:ext cx="32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228160" y="5184720"/>
              <a:ext cx="0" cy="642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17000" y="484812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Intersymbol Interference (ISI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deal chann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ulse response is im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t frequency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-ideal channe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ses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tude and ph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eived symbol is weighted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m of neighboring symbo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s are determined by chan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ulse 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A13-B3E0-45E4-AD3D-5AE10130CC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mbat ISI with Equaliz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ation because channel response is not fla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ero-forcing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s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ttens freq.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fies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MSE 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s trade-of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noi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fication and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ision-feedbac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agate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113360" y="1725480"/>
            <a:ext cx="4717800" cy="4230720"/>
            <a:chOff x="4113360" y="1725480"/>
            <a:chExt cx="4717800" cy="4230720"/>
          </a:xfrm>
        </p:grpSpPr>
        <p:pic>
          <p:nvPicPr>
            <p:cNvPr id="1091" name="" descr=""/>
            <p:cNvPicPr/>
            <p:nvPr/>
          </p:nvPicPr>
          <p:blipFill>
            <a:blip r:embed="rId1"/>
            <a:stretch/>
          </p:blipFill>
          <p:spPr>
            <a:xfrm>
              <a:off x="4113360" y="1725480"/>
              <a:ext cx="471780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"/>
            <p:cNvSpPr/>
            <p:nvPr/>
          </p:nvSpPr>
          <p:spPr>
            <a:xfrm>
              <a:off x="4873680" y="3554280"/>
              <a:ext cx="917640" cy="639720"/>
            </a:xfr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frequenc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73680" y="2441160"/>
              <a:ext cx="982800" cy="852840"/>
            </a:xfr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ro-forcing equalizer frequenc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73760" y="2383920"/>
              <a:ext cx="851040" cy="852840"/>
            </a:xfr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M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izer frequenc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4C4-568B-461D-B702-40A74159CA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yclic Prefix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27000" y="990720"/>
            <a:ext cx="73170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49640" y="920880"/>
            <a:ext cx="5294160" cy="5235480"/>
            <a:chOff x="2249640" y="920880"/>
            <a:chExt cx="5294160" cy="5235480"/>
          </a:xfrm>
        </p:grpSpPr>
        <p:pic>
          <p:nvPicPr>
            <p:cNvPr id="1099" name="" descr=""/>
            <p:cNvPicPr/>
            <p:nvPr/>
          </p:nvPicPr>
          <p:blipFill>
            <a:blip r:embed="rId1"/>
            <a:stretch/>
          </p:blipFill>
          <p:spPr>
            <a:xfrm>
              <a:off x="2249640" y="920880"/>
              <a:ext cx="529416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641760" y="2989440"/>
              <a:ext cx="1578960" cy="165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5727600" y="1328760"/>
            <a:ext cx="45720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340760" y="2639880"/>
            <a:ext cx="914400" cy="549000"/>
          </a:xfrm>
          <a:solidFill>
            <a:srgbClr val="c0c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clic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16200000">
            <a:off x="4414680" y="5349240"/>
            <a:ext cx="260280" cy="1352880"/>
          </a:xfrm>
          <a:custGeom>
            <a:avLst/>
            <a:gdLst>
              <a:gd name="textAreaLeft" fmla="*/ 166320 w 260280"/>
              <a:gd name="textAreaRight" fmla="*/ 260640 w 260280"/>
              <a:gd name="textAreaTop" fmla="*/ 35280 h 1352880"/>
              <a:gd name="textAreaBottom" fmla="*/ 1317600 h 13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16200000">
            <a:off x="6689160" y="5490360"/>
            <a:ext cx="234720" cy="1068480"/>
          </a:xfrm>
          <a:custGeom>
            <a:avLst/>
            <a:gdLst>
              <a:gd name="textAreaLeft" fmla="*/ 150120 w 234720"/>
              <a:gd name="textAreaRight" fmla="*/ 235080 w 234720"/>
              <a:gd name="textAreaTop" fmla="*/ 27720 h 1068480"/>
              <a:gd name="textAreaBottom" fmla="*/ 1040760 h 106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270400" y="6351120"/>
            <a:ext cx="914400" cy="305280"/>
          </a:xfr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598800" y="6126120"/>
            <a:ext cx="206280" cy="270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6225840" y="6408720"/>
            <a:ext cx="385560" cy="14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27600" y="4648320"/>
            <a:ext cx="45720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80240" y="4506840"/>
            <a:ext cx="914400" cy="549000"/>
          </a:xfrm>
          <a:solidFill>
            <a:srgbClr val="c0c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rem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27000" y="2538360"/>
            <a:ext cx="914400" cy="549000"/>
          </a:xfrm>
          <a:solidFill>
            <a:srgbClr val="c0c0c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d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101600" y="3484440"/>
            <a:ext cx="9144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101600" y="4889520"/>
            <a:ext cx="9144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468760" y="1173240"/>
            <a:ext cx="0" cy="4952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D00-1C13-4EB7-A30E-B794917BA3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utlin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carrier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ntional equalizer training metho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Mean Squared Error design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Stanfor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hortening Signal-to-Noise Ratio design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Tellab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Bit Rate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Inter-symbol Interference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ar-opti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-tone equalizer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Catholic University, Leuven, Belgium]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ual-path equalizer                   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[UT Austin]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5400" y="5232240"/>
            <a:ext cx="8921520" cy="1392480"/>
            <a:chOff x="95400" y="5232240"/>
            <a:chExt cx="8921520" cy="1392480"/>
          </a:xfrm>
        </p:grpSpPr>
        <p:sp>
          <p:nvSpPr>
            <p:cNvPr id="170" name=""/>
            <p:cNvSpPr/>
            <p:nvPr/>
          </p:nvSpPr>
          <p:spPr>
            <a:xfrm>
              <a:off x="56052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3"/>
              <a:endCxn id="172" idx="1"/>
            </p:cNvCxnSpPr>
            <p:nvPr/>
          </p:nvCxnSpPr>
          <p:spPr>
            <a:xfrm>
              <a:off x="833040" y="6078240"/>
              <a:ext cx="3387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8085240" y="5805360"/>
              <a:ext cx="272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71440" y="5537160"/>
              <a:ext cx="179244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ransmit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2" idx="3"/>
              <a:endCxn id="175" idx="1"/>
            </p:cNvCxnSpPr>
            <p:nvPr/>
          </p:nvCxnSpPr>
          <p:spPr>
            <a:xfrm>
              <a:off x="2963880" y="6081480"/>
              <a:ext cx="39744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75" name=""/>
            <p:cNvSpPr/>
            <p:nvPr/>
          </p:nvSpPr>
          <p:spPr>
            <a:xfrm>
              <a:off x="3360600" y="5537160"/>
              <a:ext cx="16113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" name=""/>
            <p:cNvCxnSpPr>
              <a:stCxn id="175" idx="3"/>
              <a:endCxn id="177" idx="1"/>
            </p:cNvCxnSpPr>
            <p:nvPr/>
          </p:nvCxnSpPr>
          <p:spPr>
            <a:xfrm>
              <a:off x="4971960" y="6081480"/>
              <a:ext cx="3484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5319720" y="5537160"/>
              <a:ext cx="2459160" cy="1087560"/>
            </a:xfrm>
            <a:prstGeom prst="rect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 flipV="1">
              <a:off x="7778520" y="6077880"/>
              <a:ext cx="30672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>
              <a:stCxn id="180" idx="1"/>
              <a:endCxn id="180" idx="1"/>
            </p:cNvCxnSpPr>
            <p:nvPr/>
          </p:nvCxnSpPr>
          <p:spPr>
            <a:xfrm>
              <a:off x="5405040" y="5967000"/>
              <a:ext cx="10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5405400" y="5764320"/>
              <a:ext cx="1201680" cy="40644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quali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5400" y="524016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ssage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78680" y="5232240"/>
              <a:ext cx="1038240" cy="10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d 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/>
            <p:nvPr/>
          </p:nvCxnSpPr>
          <p:spPr>
            <a:xfrm>
              <a:off x="6584760" y="6081480"/>
              <a:ext cx="34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</a:ln>
          </p:spPr>
        </p:cxnSp>
        <p:sp>
          <p:nvSpPr>
            <p:cNvPr id="184" name=""/>
            <p:cNvSpPr/>
            <p:nvPr/>
          </p:nvSpPr>
          <p:spPr>
            <a:xfrm>
              <a:off x="6721560" y="5735520"/>
              <a:ext cx="868320" cy="49392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229-D5B4-4693-9DFE-88B87A7FC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pen Issues for Multicarrier Modu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vantag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use of bandwidth without full channel 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ust against impulsive noise and narrowb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rate 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mitt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gh signal peak-to-average power rat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ceiv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nsitive to frequency and phase offset in 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pen issu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e shapes of subchannel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thogonal, efficient real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equalizer desig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crease bit rate, reduce complex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chroniza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ing recovery, symbol synchron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 loading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ocation of bits in each subchann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ho canc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ED3-B3B1-48DE-90E1-9CE33B9DA0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TEQ Algorithm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SL standard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side 1024 frames (~.25s) for TEQ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d ~16,000 frames for channel and noise estimation for the purpose of SNR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Q is estimated before the SNR calculati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ise power and channel impulse response can be estimated before time slot reserved for TEQ if the TEQ algorithm needs that inform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216-6B36-42A6-B5C4-54B89B0E87A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36240" y="301680"/>
            <a:ext cx="85359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ingle-FIR Time-Domain Equalizer Design Method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3680" y="1112400"/>
            <a:ext cx="8254800" cy="55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ll methods below perform optimization at TEQ outpu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izing the mean squared erro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mean squared error (MMSE)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Chow &amp; Cioffi, 199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SNR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l-Dhahir &amp; Cioffi, 199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imizing energy outside of shortened (equalized) channel impulse respons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hortening SNR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elsa, Younce &amp; Rohrs, 199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-and-conquer method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Lu, Evans, Clark, 20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ISI metho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rslan, Evans &amp; Kiaei, 20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ximizing bit rat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rslan, Evans &amp; Kiaei, 2000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lement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SNR is difficult to automate (requires human interven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bit rate method needs nonlinear optimization 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methods implemented on fixed-point digital signal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F9A-EF3B-4671-86B1-394DA58CAC4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inimum Mean Squared Error (MMSE) TEQ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506600" y="3340080"/>
                <a:ext cx="5745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r>
                      <m:t xml:space="preserve">ε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1292400" y="3917880"/>
                <a:ext cx="4398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um MSE is achieved only if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1506600" y="4378320"/>
                <a:ext cx="51512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sub>
                    </m:sSub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941720" y="5097600"/>
                <a:ext cx="191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299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selects the proper part ou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x|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corresponding to the delay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1279440" y="5129280"/>
                <a:ext cx="3675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O</m:t>
                    </m:r>
                    <m:r>
                      <m:rPr>
                        <m:lit/>
                        <m:nor/>
                      </m:rPr>
                      <m:t xml:space="preserve">  then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691240" y="3867120"/>
                <a:ext cx="2017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32" name=""/>
          <p:cNvGrpSpPr/>
          <p:nvPr/>
        </p:nvGrpSpPr>
        <p:grpSpPr>
          <a:xfrm>
            <a:off x="301680" y="1008000"/>
            <a:ext cx="4967280" cy="2176560"/>
            <a:chOff x="301680" y="1008000"/>
            <a:chExt cx="4967280" cy="2176560"/>
          </a:xfrm>
        </p:grpSpPr>
        <p:sp>
          <p:nvSpPr>
            <p:cNvPr id="1133" name=""/>
            <p:cNvSpPr/>
            <p:nvPr/>
          </p:nvSpPr>
          <p:spPr>
            <a:xfrm flipV="1">
              <a:off x="987480" y="2810520"/>
              <a:ext cx="5763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216080" y="2538360"/>
              <a:ext cx="914400" cy="54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2157480" y="2805840"/>
              <a:ext cx="890640" cy="36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2160" y="2043000"/>
              <a:ext cx="6094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243080" y="1768320"/>
              <a:ext cx="914400" cy="54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57480" y="2043000"/>
              <a:ext cx="31284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364120" y="1831680"/>
              <a:ext cx="365040" cy="365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29160" y="2038320"/>
              <a:ext cx="3286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60720" y="1763640"/>
              <a:ext cx="914400" cy="54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083040" y="2533320"/>
              <a:ext cx="914400" cy="547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973680" y="2036520"/>
              <a:ext cx="434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4013280" y="2805840"/>
              <a:ext cx="5763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2558520" y="1527120"/>
              <a:ext cx="3240" cy="3186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121280" y="191916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1680" y="1669320"/>
              <a:ext cx="381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41760" y="137880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16800" y="1431360"/>
              <a:ext cx="452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33880" y="1407600"/>
              <a:ext cx="381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08400" y="100800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13240" y="1854000"/>
              <a:ext cx="365400" cy="364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59560" y="2019960"/>
              <a:ext cx="312840" cy="154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028880" y="2003400"/>
              <a:ext cx="0" cy="80928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591080" y="2199960"/>
              <a:ext cx="14400" cy="59976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2040" y="2768040"/>
              <a:ext cx="681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-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5483160" y="2606760"/>
                <a:ext cx="31845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ν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5415120" y="1363680"/>
                <a:ext cx="3132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5499000" y="2003400"/>
                <a:ext cx="2584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BFE-CEA7-4ADF-AD88-2212CA585CF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Near-optimal Minimum-ISI (Min-ISI) TEQ Desig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neralizes MSSNR method by frequency weighting ISI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I power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subchannel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ISI power as a frequency weighted sum of subchannel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 signal path gain to one to prevent all-zero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is a generalized eigenvector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sible weighting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fy ISI objective function in subchannels with 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power (high SNR) to put ISI in low SNR bi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weighting equal to input power spectr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weighting to be constant in all subchannels (MSSNR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formance virtually equal to MBR (optimal)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429080" y="1415880"/>
                <a:ext cx="24368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S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H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868480" y="2163600"/>
                <a:ext cx="41832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DH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992320" y="3127320"/>
                <a:ext cx="37432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gnal</m:t>
                        </m:r>
                      </m:sup>
                    </m:sSup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GHw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Yw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7367760" y="4352760"/>
            <a:ext cx="1143000" cy="1692360"/>
            <a:chOff x="7367760" y="4352760"/>
            <a:chExt cx="1143000" cy="1692360"/>
          </a:xfrm>
        </p:grpSpPr>
        <mc:AlternateContent>
          <mc:Choice xmlns:a14="http://schemas.microsoft.com/office/drawing/2010/main" Requires="a14">
            <p:sp>
              <p:nvSpPr>
                <p:cNvPr id="1168" name=""/>
                <p:cNvSpPr txBox="1"/>
                <p:nvPr/>
              </p:nvSpPr>
              <p:spPr>
                <a:xfrm>
                  <a:off x="7367760" y="5149800"/>
                  <a:ext cx="111420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9" name=""/>
                <p:cNvSpPr txBox="1"/>
                <p:nvPr/>
              </p:nvSpPr>
              <p:spPr>
                <a:xfrm>
                  <a:off x="7378560" y="4352760"/>
                  <a:ext cx="11322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7381800" y="5581440"/>
                  <a:ext cx="8301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168-E064-4C6B-8C36-02CE54EA8C2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Efficient Implementations of Min-ISI Method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neralized eigenvalue problem can solved with generalized power iteration: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ursively calculate diagonal element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rom first colum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Wu, Arslan, Evans, 2000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6006960" y="4713120"/>
            <a:ext cx="1919520" cy="1838520"/>
            <a:chOff x="6006960" y="4713120"/>
            <a:chExt cx="1919520" cy="1838520"/>
          </a:xfrm>
        </p:grpSpPr>
        <p:sp>
          <p:nvSpPr>
            <p:cNvPr id="1174" name=""/>
            <p:cNvSpPr/>
            <p:nvPr/>
          </p:nvSpPr>
          <p:spPr>
            <a:xfrm>
              <a:off x="6006960" y="4713120"/>
              <a:ext cx="338400" cy="1838520"/>
            </a:xfrm>
            <a:custGeom>
              <a:avLst/>
              <a:gdLst>
                <a:gd name="textAreaLeft" fmla="*/ 16200 w 338400"/>
                <a:gd name="textAreaRight" fmla="*/ 322200 w 338400"/>
                <a:gd name="textAreaTop" fmla="*/ 16200 h 1838520"/>
                <a:gd name="textAreaBottom" fmla="*/ 1822320 h 1838520"/>
              </a:gdLst>
              <a:ahLst/>
              <a:rect l="textAreaLeft" t="textAreaTop" r="textAreaRight" b="textAreaBottom"/>
              <a:pathLst>
                <a:path w="21600" h="117251">
                  <a:moveTo>
                    <a:pt x="3600" y="0"/>
                  </a:moveTo>
                  <a:arcTo wR="3600" hR="3600" stAng="16200000" swAng="-5400000"/>
                  <a:lnTo>
                    <a:pt x="0" y="113651"/>
                  </a:lnTo>
                  <a:arcTo wR="3600" hR="3600" stAng="10800000" swAng="-5400000"/>
                  <a:lnTo>
                    <a:pt x="18000" y="1172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11964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5840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9716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3592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1964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5840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9716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3592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1964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5840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9716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3592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11964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5840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9716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3592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11964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45840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9716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3592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964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5840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9716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3592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47468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813440" y="48150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7468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13440" y="51213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7468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813440" y="542772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47468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813440" y="573444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7468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813440" y="604080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7468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13440" y="6347160"/>
              <a:ext cx="113040" cy="10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76160" y="4866120"/>
              <a:ext cx="1693440" cy="153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76160" y="5172480"/>
              <a:ext cx="1354680" cy="122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76160" y="5479200"/>
              <a:ext cx="1015920" cy="91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6160" y="5785560"/>
              <a:ext cx="677160" cy="6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6160" y="6091920"/>
              <a:ext cx="338400" cy="30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4826160" y="1469880"/>
                <a:ext cx="1871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17" name=""/>
          <p:cNvGraphicFramePr/>
          <p:nvPr/>
        </p:nvGraphicFramePr>
        <p:xfrm>
          <a:off x="5099040" y="2436840"/>
          <a:ext cx="3651120" cy="268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9040" y="2436840"/>
                    <a:ext cx="365112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9" name=""/>
          <p:cNvGrpSpPr/>
          <p:nvPr/>
        </p:nvGrpSpPr>
        <p:grpSpPr>
          <a:xfrm>
            <a:off x="384120" y="2876400"/>
            <a:ext cx="4570200" cy="3427560"/>
            <a:chOff x="384120" y="2876400"/>
            <a:chExt cx="4570200" cy="3427560"/>
          </a:xfrm>
        </p:grpSpPr>
        <p:pic>
          <p:nvPicPr>
            <p:cNvPr id="1220" name="" descr=""/>
            <p:cNvPicPr/>
            <p:nvPr/>
          </p:nvPicPr>
          <p:blipFill>
            <a:blip r:embed="rId3"/>
            <a:stretch/>
          </p:blipFill>
          <p:spPr>
            <a:xfrm>
              <a:off x="384120" y="2876400"/>
              <a:ext cx="4570200" cy="34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1" name=""/>
            <p:cNvSpPr/>
            <p:nvPr/>
          </p:nvSpPr>
          <p:spPr>
            <a:xfrm>
              <a:off x="1135080" y="3652560"/>
              <a:ext cx="29520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135080" y="3443040"/>
              <a:ext cx="29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135080" y="386208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144440" y="4062240"/>
              <a:ext cx="2952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043-AF03-4613-855E-5E6870E051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otivation for Divide-and-Conquer Method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st methods for implementing Maximum SSNR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ximum SSNR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aximum SSNR method requ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haustive search for the optimal dela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Q taps in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wo-tap filters in cascad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irst two-tap filter then second and so forth (greedy approa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velop heuristic to estimate the optimal dela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3351240" y="2320920"/>
                <a:ext cx="23130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3351240" y="3029040"/>
                <a:ext cx="2332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3308400" y="3730680"/>
                <a:ext cx="363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513160" y="4548240"/>
                <a:ext cx="4160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Δ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Δ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4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65D-9B14-4529-A2E3-2DA9FE9BDE8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Approach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wo-tap filter is initialized as either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tap constraint  (U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norm constraint (UN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culate be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by using a greedy approach either b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              (Divide-and-conquer TEQ minim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energy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ivide-and conquer TEQ cancel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olve two-tap filters to obtain TEQ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4316400" y="1398600"/>
            <a:ext cx="1600200" cy="990720"/>
            <a:chOff x="4316400" y="1398600"/>
            <a:chExt cx="1600200" cy="990720"/>
          </a:xfrm>
        </p:grpSpPr>
        <p:sp>
          <p:nvSpPr>
            <p:cNvPr id="1236" name=""/>
            <p:cNvSpPr/>
            <p:nvPr/>
          </p:nvSpPr>
          <p:spPr>
            <a:xfrm>
              <a:off x="4316400" y="1398600"/>
              <a:ext cx="1600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7" name=""/>
                <p:cNvSpPr txBox="1"/>
                <p:nvPr/>
              </p:nvSpPr>
              <p:spPr>
                <a:xfrm>
                  <a:off x="4516200" y="1445400"/>
                  <a:ext cx="12387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8" name=""/>
          <p:cNvGrpSpPr/>
          <p:nvPr/>
        </p:nvGrpSpPr>
        <p:grpSpPr>
          <a:xfrm>
            <a:off x="4430880" y="2397240"/>
            <a:ext cx="1828800" cy="990360"/>
            <a:chOff x="4430880" y="2397240"/>
            <a:chExt cx="1828800" cy="990360"/>
          </a:xfrm>
        </p:grpSpPr>
        <p:sp>
          <p:nvSpPr>
            <p:cNvPr id="1239" name=""/>
            <p:cNvSpPr/>
            <p:nvPr/>
          </p:nvSpPr>
          <p:spPr>
            <a:xfrm>
              <a:off x="4430880" y="2397240"/>
              <a:ext cx="1828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0" name=""/>
                <p:cNvSpPr txBox="1"/>
                <p:nvPr/>
              </p:nvSpPr>
              <p:spPr>
                <a:xfrm>
                  <a:off x="4507200" y="2443320"/>
                  <a:ext cx="164160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2614680" y="400536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N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9E8-BE3F-4B3A-8103-E4B759665F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TEQ Minimization (UTC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teration, minimiz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osed-form solu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1776240" y="1649520"/>
            <a:ext cx="6324480" cy="1981080"/>
            <a:chOff x="1776240" y="1649520"/>
            <a:chExt cx="6324480" cy="1981080"/>
          </a:xfrm>
        </p:grpSpPr>
        <p:sp>
          <p:nvSpPr>
            <p:cNvPr id="1246" name=""/>
            <p:cNvSpPr/>
            <p:nvPr/>
          </p:nvSpPr>
          <p:spPr>
            <a:xfrm>
              <a:off x="1776240" y="1649520"/>
              <a:ext cx="63244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7" name=""/>
                <p:cNvSpPr txBox="1"/>
                <p:nvPr/>
              </p:nvSpPr>
              <p:spPr>
                <a:xfrm>
                  <a:off x="1890360" y="1862280"/>
                  <a:ext cx="6096240" cy="15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48" name=""/>
          <p:cNvGrpSpPr/>
          <p:nvPr/>
        </p:nvGrpSpPr>
        <p:grpSpPr>
          <a:xfrm>
            <a:off x="1719360" y="4327560"/>
            <a:ext cx="6400800" cy="1904760"/>
            <a:chOff x="1719360" y="4327560"/>
            <a:chExt cx="6400800" cy="1904760"/>
          </a:xfrm>
        </p:grpSpPr>
        <p:sp>
          <p:nvSpPr>
            <p:cNvPr id="1249" name=""/>
            <p:cNvSpPr/>
            <p:nvPr/>
          </p:nvSpPr>
          <p:spPr>
            <a:xfrm>
              <a:off x="1719360" y="4327560"/>
              <a:ext cx="64008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0" name=""/>
                <p:cNvSpPr txBox="1"/>
                <p:nvPr/>
              </p:nvSpPr>
              <p:spPr>
                <a:xfrm>
                  <a:off x="2025720" y="4583160"/>
                  <a:ext cx="59436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,2</m:t>
                                  </m:r>
                                </m:e>
                              </m:d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den>
                          </m:f>
                          <m:r>
                            <m:t xml:space="preserve">±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D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den>
                          </m:f>
                        </m:e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D5C-A82B-4AA5-B181-BBEF75775CE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TEQ Minimization (UNC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teration, minimiz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1566720" y="1558800"/>
            <a:ext cx="6057720" cy="3657240"/>
            <a:chOff x="1566720" y="1558800"/>
            <a:chExt cx="6057720" cy="3657240"/>
          </a:xfrm>
        </p:grpSpPr>
        <p:sp>
          <p:nvSpPr>
            <p:cNvPr id="1255" name=""/>
            <p:cNvSpPr/>
            <p:nvPr/>
          </p:nvSpPr>
          <p:spPr>
            <a:xfrm>
              <a:off x="1566720" y="1558800"/>
              <a:ext cx="6057720" cy="36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6" name=""/>
                <p:cNvSpPr txBox="1"/>
                <p:nvPr/>
              </p:nvSpPr>
              <p:spPr>
                <a:xfrm>
                  <a:off x="1905840" y="1721160"/>
                  <a:ext cx="5521320" cy="33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d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</m:d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       </m:t>
                          </m:r>
                          <m:r>
                            <m:t xml:space="preserve">=</m:t>
                          </m:r>
                          <m:f>
                            <m:num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</m:num>
                            <m:den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7" name=""/>
          <p:cNvGrpSpPr/>
          <p:nvPr/>
        </p:nvGrpSpPr>
        <p:grpSpPr>
          <a:xfrm>
            <a:off x="2033640" y="5060880"/>
            <a:ext cx="5791320" cy="1295280"/>
            <a:chOff x="2033640" y="5060880"/>
            <a:chExt cx="5791320" cy="1295280"/>
          </a:xfrm>
        </p:grpSpPr>
        <p:sp>
          <p:nvSpPr>
            <p:cNvPr id="1258" name=""/>
            <p:cNvSpPr/>
            <p:nvPr/>
          </p:nvSpPr>
          <p:spPr>
            <a:xfrm>
              <a:off x="2033640" y="5060880"/>
              <a:ext cx="5791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9" name=""/>
                <p:cNvSpPr txBox="1"/>
                <p:nvPr/>
              </p:nvSpPr>
              <p:spPr>
                <a:xfrm>
                  <a:off x="2105280" y="5254560"/>
                  <a:ext cx="56466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0" name=""/>
          <p:cNvSpPr/>
          <p:nvPr/>
        </p:nvSpPr>
        <p:spPr>
          <a:xfrm flipV="1">
            <a:off x="6199200" y="3925800"/>
            <a:ext cx="654120" cy="285840"/>
          </a:xfrm>
          <a:prstGeom prst="line">
            <a:avLst/>
          </a:prstGeom>
          <a:ln w="19080">
            <a:solidFill>
              <a:srgbClr val="00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6678360" y="3927600"/>
            <a:ext cx="176040" cy="3682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686640" y="4219200"/>
            <a:ext cx="419040" cy="66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74080" y="3639960"/>
            <a:ext cx="1577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Calculate </a:t>
            </a:r>
            <a:r>
              <a:rPr b="0" i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in the same way as </a:t>
            </a:r>
            <a:r>
              <a:rPr b="0" i="1" lang="en-US" sz="2000" spc="-1" strike="noStrike">
                <a:solidFill>
                  <a:srgbClr val="0066ff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 for UTC version of thi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A6B-3FE5-4FCB-937E-0026EC4748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ingle Carrier Modu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deal (non-distorting) channel over transmission ban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t magnitud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hase response: delay is constant for all spectral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ntersymbol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ulse response for ideal channel over all frequenci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ti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liz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ns chan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 do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es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distor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equency do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74800" y="3549600"/>
            <a:ext cx="113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7800" y="6135840"/>
            <a:ext cx="441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cretized Baseban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2040" y="3195360"/>
            <a:ext cx="113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840200" y="5601600"/>
            <a:ext cx="576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1880" y="5329080"/>
            <a:ext cx="914400" cy="5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15120" y="5596920"/>
            <a:ext cx="636480" cy="360"/>
          </a:xfrm>
          <a:prstGeom prst="line">
            <a:avLst/>
          </a:prstGeom>
          <a:noFill/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81480" y="4065480"/>
            <a:ext cx="6094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92760" y="3790800"/>
            <a:ext cx="914400" cy="547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07160" y="4065480"/>
            <a:ext cx="3124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3440" y="3854520"/>
            <a:ext cx="365040" cy="365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8480" y="4060800"/>
            <a:ext cx="3286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10400" y="3786120"/>
            <a:ext cx="914400" cy="5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3000" y="4059360"/>
            <a:ext cx="4352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207840" y="3549600"/>
            <a:ext cx="3240" cy="3189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10640" y="41688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78160" y="3412800"/>
            <a:ext cx="381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91440" y="340200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66120" y="3454200"/>
            <a:ext cx="4525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83560" y="343044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58080" y="3030480"/>
            <a:ext cx="380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62920" y="3876840"/>
            <a:ext cx="365040" cy="365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408880" y="4043520"/>
            <a:ext cx="312840" cy="15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40760" y="4222800"/>
            <a:ext cx="33120" cy="13748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19760" y="3262320"/>
            <a:ext cx="123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Equa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3120" y="3246480"/>
            <a:ext cx="127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7003800" y="5170320"/>
            <a:ext cx="808200" cy="86184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08840" y="5288040"/>
            <a:ext cx="4921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86520" y="5197680"/>
            <a:ext cx="863280" cy="394920"/>
          </a:xfrm>
          <a:prstGeom prst="line">
            <a:avLst/>
          </a:prstGeom>
          <a:ln w="114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791480" y="5606280"/>
            <a:ext cx="4111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78560" y="4811760"/>
            <a:ext cx="1989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Ideal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48640" y="400680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2040" y="5105520"/>
            <a:ext cx="11052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r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13000" y="4140360"/>
            <a:ext cx="154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in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044-A9ED-4A20-A8DA-84BD3D2F6C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TEQ Cancellation (UTC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teration, minimiz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osed-form solution for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wo-tap FIR filte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019240" y="1782720"/>
            <a:ext cx="5334120" cy="1600200"/>
            <a:chOff x="2019240" y="1782720"/>
            <a:chExt cx="5334120" cy="1600200"/>
          </a:xfrm>
        </p:grpSpPr>
        <p:sp>
          <p:nvSpPr>
            <p:cNvPr id="1268" name=""/>
            <p:cNvSpPr/>
            <p:nvPr/>
          </p:nvSpPr>
          <p:spPr>
            <a:xfrm>
              <a:off x="2019240" y="1782720"/>
              <a:ext cx="5334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9" name=""/>
                <p:cNvSpPr txBox="1"/>
                <p:nvPr/>
              </p:nvSpPr>
              <p:spPr>
                <a:xfrm>
                  <a:off x="2209680" y="1935000"/>
                  <a:ext cx="5029200" cy="131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h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all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sSub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h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all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acc>
                                            <m:accPr>
                                              <m:chr m:val="~"/>
                                            </m:accPr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d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acc>
                                            <m:accPr>
                                              <m:chr m:val="~"/>
                                            </m:accPr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,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Δ</m:t>
                              </m:r>
                              <m:r>
                                <m:t xml:space="preserve">,</m:t>
                              </m:r>
                              <m:r>
                                <m:t xml:space="preserve">Δ</m:t>
                              </m:r>
                              <m:r>
                                <m:t xml:space="preserve">+</m:t>
                              </m:r>
                              <m:r>
                                <m:t xml:space="preserve">ν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0" name=""/>
          <p:cNvGrpSpPr/>
          <p:nvPr/>
        </p:nvGrpSpPr>
        <p:grpSpPr>
          <a:xfrm>
            <a:off x="2575080" y="4183200"/>
            <a:ext cx="3886200" cy="1828800"/>
            <a:chOff x="2575080" y="4183200"/>
            <a:chExt cx="3886200" cy="1828800"/>
          </a:xfrm>
        </p:grpSpPr>
        <p:sp>
          <p:nvSpPr>
            <p:cNvPr id="1271" name=""/>
            <p:cNvSpPr/>
            <p:nvPr/>
          </p:nvSpPr>
          <p:spPr>
            <a:xfrm>
              <a:off x="2575080" y="4183200"/>
              <a:ext cx="38862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2" name=""/>
                <p:cNvSpPr txBox="1"/>
                <p:nvPr/>
              </p:nvSpPr>
              <p:spPr>
                <a:xfrm>
                  <a:off x="2649600" y="4411800"/>
                  <a:ext cx="3589560" cy="13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bSup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716-7382-484A-91EE-859DB448AB6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vide-and-Conquer TEQ Cancellation (UNC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teration, minimiz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osed-form solu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739880" y="1592280"/>
            <a:ext cx="6324480" cy="1600200"/>
            <a:chOff x="1739880" y="1592280"/>
            <a:chExt cx="6324480" cy="1600200"/>
          </a:xfrm>
        </p:grpSpPr>
        <p:sp>
          <p:nvSpPr>
            <p:cNvPr id="1277" name=""/>
            <p:cNvSpPr/>
            <p:nvPr/>
          </p:nvSpPr>
          <p:spPr>
            <a:xfrm>
              <a:off x="1739880" y="1592280"/>
              <a:ext cx="63244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1815840" y="1744560"/>
                  <a:ext cx="6165360" cy="131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h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all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sSub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h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all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acc>
                                            <m:accPr>
                                              <m:chr m:val="~"/>
                                            </m:accPr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d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n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acc>
                                            <m:accPr>
                                              <m:chr m:val="~"/>
                                            </m:accPr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,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Δ</m:t>
                              </m:r>
                              <m:r>
                                <m:t xml:space="preserve">,</m:t>
                              </m:r>
                              <m:r>
                                <m:t xml:space="preserve">Δ</m:t>
                              </m:r>
                              <m:r>
                                <m:t xml:space="preserve">+</m:t>
                              </m:r>
                              <m:r>
                                <m:t xml:space="preserve">ν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9" name=""/>
          <p:cNvGrpSpPr/>
          <p:nvPr/>
        </p:nvGrpSpPr>
        <p:grpSpPr>
          <a:xfrm>
            <a:off x="1552680" y="3946680"/>
            <a:ext cx="6705360" cy="2361960"/>
            <a:chOff x="1552680" y="3946680"/>
            <a:chExt cx="6705360" cy="2361960"/>
          </a:xfrm>
        </p:grpSpPr>
        <p:sp>
          <p:nvSpPr>
            <p:cNvPr id="1280" name=""/>
            <p:cNvSpPr/>
            <p:nvPr/>
          </p:nvSpPr>
          <p:spPr>
            <a:xfrm>
              <a:off x="1552680" y="3946680"/>
              <a:ext cx="670536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1" name=""/>
                <p:cNvSpPr txBox="1"/>
                <p:nvPr/>
              </p:nvSpPr>
              <p:spPr>
                <a:xfrm>
                  <a:off x="1730520" y="4175280"/>
                  <a:ext cx="637524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±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f>
                                        <m:num>
                                          <m:sSup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4</m:t>
                                          </m:r>
                                          <m:sSup>
                                            <m:e>
                                              <m:r>
                                                <m:t xml:space="preserve">b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</m:rad>
                                </m:e>
                              </m:d>
                              <m:r>
                                <m:t xml:space="preserve"> </m:t>
                              </m:r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∓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f>
                                        <m:num>
                                          <m:sSup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4</m:t>
                                          </m:r>
                                          <m:sSup>
                                            <m:e>
                                              <m:r>
                                                <m:t xml:space="preserve">b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</m:rad>
                                </m:e>
                              </m:d>
                              <m:r>
                                <m:t xml:space="preserve"> </m:t>
                              </m:r>
                            </m:e>
                          </m:rad>
                        </m:e>
                        <m:e>
                          <m:limUpp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</m:e>
                            <m:lim/>
                          </m:limUpp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e>
                              </m:d>
                            </m:e>
                          </m:nary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01B-F563-44F7-A630-9282765B43D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mputational Complexit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utational complexity for each candidate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-and-conquer methods vs. maximum SSNR metho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multiplications, additions, divisions, an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atrix calculations (saves on memory acce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s matrix inversion, and eigenvalue and Cholesky decom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5" name=""/>
          <p:cNvGraphicFramePr/>
          <p:nvPr/>
        </p:nvGraphicFramePr>
        <p:xfrm>
          <a:off x="927000" y="1471680"/>
          <a:ext cx="6235920" cy="322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1471680"/>
                    <a:ext cx="623592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7" name=""/>
          <p:cNvSpPr/>
          <p:nvPr/>
        </p:nvSpPr>
        <p:spPr>
          <a:xfrm>
            <a:off x="7172280" y="1593720"/>
            <a:ext cx="14097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.DMT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SL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E9C-EE22-4345-B83E-5D5504A6742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Heuristic Search for the Optimal Dela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imate optimal dela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before computing TEQ tap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tal computational cos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s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formance of heuristic vs. exhaustive searc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computational complexity by factor of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% loss in SSNR for TEQ with four taps or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% loss in SSNR for two-tap T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1828800" y="1397160"/>
            <a:ext cx="5715000" cy="1143000"/>
            <a:chOff x="1828800" y="1397160"/>
            <a:chExt cx="5715000" cy="1143000"/>
          </a:xfrm>
        </p:grpSpPr>
        <p:sp>
          <p:nvSpPr>
            <p:cNvPr id="1292" name=""/>
            <p:cNvSpPr/>
            <p:nvPr/>
          </p:nvSpPr>
          <p:spPr>
            <a:xfrm>
              <a:off x="1828800" y="1397160"/>
              <a:ext cx="5715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3" name=""/>
                <p:cNvSpPr txBox="1"/>
                <p:nvPr/>
              </p:nvSpPr>
              <p:spPr>
                <a:xfrm>
                  <a:off x="1981080" y="1625760"/>
                  <a:ext cx="53341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atio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g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Δ</m:t>
                          </m:r>
                        </m:lim>
                      </m:limLow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nergy inside a window of original </m:t>
                          </m:r>
                          <m:r>
                            <m:t xml:space="preserve">h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outside a window of original </m:t>
                          </m:r>
                          <m:r>
                            <m:t xml:space="preserve">h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2992320" y="3351240"/>
                <a:ext cx="930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3014640" y="2878200"/>
                <a:ext cx="357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008160" y="3794040"/>
                <a:ext cx="357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A8C-757C-45D6-8C30-9438029D49A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Comparison of Earlier Method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380880" y="1273320"/>
          <a:ext cx="8463240" cy="49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73320"/>
                    <a:ext cx="846324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961-DBA5-4B72-AF22-1061DEBDDD5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BR TEQ vs. Geometric TEQ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1112760" y="1204920"/>
          <a:ext cx="735804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204920"/>
                    <a:ext cx="735804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BED-6350-4F60-BD56-C8ED8B518EC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in-ISI TEQ vs. MSSNR TEQ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-ISI weights ISI power with the SNR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ual ISI power should be placed in high noise frequency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216000" y="5589720"/>
                <a:ext cx="3987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pow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powe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SI 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6492960" y="6019920"/>
                <a:ext cx="25588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6497640" y="5249880"/>
                <a:ext cx="25588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4281480" y="6031080"/>
                <a:ext cx="20829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268880" y="5237280"/>
                <a:ext cx="2117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13" name=""/>
          <p:cNvGraphicFramePr/>
          <p:nvPr/>
        </p:nvGraphicFramePr>
        <p:xfrm>
          <a:off x="1433520" y="952560"/>
          <a:ext cx="650700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952560"/>
                    <a:ext cx="6507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F67-0ADA-410A-AF40-08E6A8F1967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Bit Rate vs. Cyclic Prefix (CP) Siz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209520" y="1065240"/>
            <a:ext cx="32148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tched filter bound decreases because CP has no new inform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-ISI and MBR achieve bound with 16-sample CP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design methods are erratic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GSNR better for 15-28 sample CP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983040" y="5633280"/>
            <a:ext cx="3927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40 dBm/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osstalk no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ADSL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3495600" y="1139760"/>
            <a:ext cx="5508720" cy="450396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1033560" y="5283000"/>
            <a:ext cx="269064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Q ta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FT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ing g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FDD-96FE-4473-860D-32725008305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imulation Result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69920" y="1065240"/>
            <a:ext cx="320184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-ISI, MBR, and MSSNR achieve matched filter bound owith CP of 27 sampl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n-ISI with 13-sample CP beats MMSE with 32-sample CP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MSE is wors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189320" y="5618880"/>
            <a:ext cx="3927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40 dBm/H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osstalk no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ADSL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1"/>
          <a:stretch/>
        </p:blipFill>
        <p:spPr>
          <a:xfrm>
            <a:off x="3476520" y="1114560"/>
            <a:ext cx="5508720" cy="450360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1214280" y="5292360"/>
            <a:ext cx="280368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Q ta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FT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ing g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ventional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20B-B720-469F-B29C-6889D83ECF6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Bit Allocation Comparis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WG 26 Loop: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00 ft + AWG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from 24 DSL distur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-tap equalizers: least squares training used for per-tone equa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2" name="BitAllo1" descr=""/>
          <p:cNvPicPr/>
          <p:nvPr/>
        </p:nvPicPr>
        <p:blipFill>
          <a:blip r:embed="rId1"/>
          <a:srcRect l="7501" t="0" r="7501" b="0"/>
          <a:stretch/>
        </p:blipFill>
        <p:spPr>
          <a:xfrm>
            <a:off x="3911760" y="1131840"/>
            <a:ext cx="4795560" cy="42498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476280" y="2066760"/>
          <a:ext cx="323388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2066760"/>
                    <a:ext cx="32338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C7B-B199-47E4-BED2-BEB5CA73680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ulticarrier Modul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 channel into narrowband subchannel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nter-symbol interference (ISI) in subchannels if constant gain within every subchannel and if ideal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crete multitone modul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band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fast Fourier transform (F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for ADSL and V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4192560"/>
            <a:ext cx="6629400" cy="1905120"/>
          </a:xfrm>
          <a:custGeom>
            <a:avLst/>
            <a:gdLst/>
            <a:ahLst/>
            <a:rect l="l" t="t" r="r" b="b"/>
            <a:pathLst>
              <a:path w="4176" h="1200">
                <a:moveTo>
                  <a:pt x="0" y="1200"/>
                </a:moveTo>
                <a:cubicBezTo>
                  <a:pt x="36" y="600"/>
                  <a:pt x="72" y="0"/>
                  <a:pt x="768" y="0"/>
                </a:cubicBezTo>
                <a:cubicBezTo>
                  <a:pt x="1464" y="0"/>
                  <a:pt x="3608" y="1000"/>
                  <a:pt x="4176" y="1200"/>
                </a:cubicBezTo>
              </a:path>
            </a:pathLst>
          </a:cu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6097680"/>
            <a:ext cx="7620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15200" y="5900760"/>
            <a:ext cx="228600" cy="196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5818320"/>
            <a:ext cx="228600" cy="279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5703840"/>
            <a:ext cx="22860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5608800"/>
            <a:ext cx="228600" cy="48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526000"/>
            <a:ext cx="228600" cy="5716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5437080"/>
            <a:ext cx="228600" cy="660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5329080"/>
            <a:ext cx="228600" cy="76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5234040"/>
            <a:ext cx="2286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5145120"/>
            <a:ext cx="228600" cy="952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56200"/>
            <a:ext cx="228600" cy="1041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4960800"/>
            <a:ext cx="228600" cy="113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4871880"/>
            <a:ext cx="228600" cy="122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782960"/>
            <a:ext cx="228600" cy="131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4700520"/>
            <a:ext cx="228600" cy="1397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4611600"/>
            <a:ext cx="228600" cy="148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4548240"/>
            <a:ext cx="228600" cy="15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465800"/>
            <a:ext cx="228600" cy="1631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4389480"/>
            <a:ext cx="228600" cy="1708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4325760"/>
            <a:ext cx="228600" cy="177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4275000"/>
            <a:ext cx="228600" cy="182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4218120"/>
            <a:ext cx="228600" cy="1879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4205160"/>
            <a:ext cx="228600" cy="1892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4192560"/>
            <a:ext cx="22860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4230720"/>
            <a:ext cx="228600" cy="186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4319640"/>
            <a:ext cx="228600" cy="177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491000"/>
            <a:ext cx="228600" cy="160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4878360"/>
            <a:ext cx="228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0280" y="5099040"/>
            <a:ext cx="1765440" cy="3988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301760" y="3951000"/>
            <a:ext cx="0" cy="2152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6002280"/>
            <a:ext cx="228600" cy="95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24640" y="6224760"/>
            <a:ext cx="13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23040" y="47340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494000" y="4865400"/>
            <a:ext cx="2880" cy="1236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697040" y="4479840"/>
            <a:ext cx="0" cy="1617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932120" y="4311720"/>
            <a:ext cx="0" cy="1789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170080" y="4226040"/>
            <a:ext cx="0" cy="1874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398680" y="4187880"/>
            <a:ext cx="0" cy="191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17920" y="4206600"/>
            <a:ext cx="0" cy="189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846520" y="4206600"/>
            <a:ext cx="0" cy="189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084480" y="4254120"/>
            <a:ext cx="0" cy="185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313080" y="4311720"/>
            <a:ext cx="0" cy="1789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22600" y="4397400"/>
            <a:ext cx="0" cy="170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760920" y="4473720"/>
            <a:ext cx="0" cy="1636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989520" y="4539960"/>
            <a:ext cx="0" cy="1569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18120" y="4587480"/>
            <a:ext cx="0" cy="153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437000" y="4701960"/>
            <a:ext cx="0" cy="1407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675320" y="4768920"/>
            <a:ext cx="0" cy="13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903920" y="4882680"/>
            <a:ext cx="0" cy="1227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122800" y="4968360"/>
            <a:ext cx="0" cy="113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61120" y="5044680"/>
            <a:ext cx="0" cy="1065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589720" y="5140440"/>
            <a:ext cx="0" cy="960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827680" y="5226120"/>
            <a:ext cx="0" cy="874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046920" y="5321160"/>
            <a:ext cx="0" cy="789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961320" y="5702040"/>
            <a:ext cx="0" cy="407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284880" y="5416200"/>
            <a:ext cx="0" cy="6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523200" y="5530680"/>
            <a:ext cx="0" cy="579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742080" y="5597640"/>
            <a:ext cx="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189920" y="58258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7418520" y="5892840"/>
            <a:ext cx="9360" cy="20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656480" y="5987880"/>
            <a:ext cx="0" cy="11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22800" y="4590720"/>
            <a:ext cx="1082880" cy="3052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33840" y="3486240"/>
            <a:ext cx="15624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208560" y="2641680"/>
            <a:ext cx="0" cy="831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62640" y="3489480"/>
            <a:ext cx="15624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62920" y="2653920"/>
            <a:ext cx="0" cy="831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91240" y="298764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336" y="0"/>
                </a:moveTo>
                <a:cubicBezTo>
                  <a:pt x="284" y="168"/>
                  <a:pt x="232" y="336"/>
                  <a:pt x="192" y="384"/>
                </a:cubicBezTo>
                <a:cubicBezTo>
                  <a:pt x="152" y="432"/>
                  <a:pt x="128" y="296"/>
                  <a:pt x="96" y="288"/>
                </a:cubicBezTo>
                <a:cubicBezTo>
                  <a:pt x="64" y="280"/>
                  <a:pt x="32" y="308"/>
                  <a:pt x="0" y="336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100360" y="2987640"/>
            <a:ext cx="53316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336" y="0"/>
                </a:moveTo>
                <a:cubicBezTo>
                  <a:pt x="284" y="168"/>
                  <a:pt x="232" y="336"/>
                  <a:pt x="192" y="384"/>
                </a:cubicBezTo>
                <a:cubicBezTo>
                  <a:pt x="152" y="432"/>
                  <a:pt x="128" y="296"/>
                  <a:pt x="96" y="288"/>
                </a:cubicBezTo>
                <a:cubicBezTo>
                  <a:pt x="64" y="280"/>
                  <a:pt x="32" y="308"/>
                  <a:pt x="0" y="336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024760" y="2987640"/>
            <a:ext cx="76320" cy="1800"/>
          </a:xfrm>
          <a:custGeom>
            <a:avLst/>
            <a:gdLst/>
            <a:ahLst/>
            <a:rect l="l" t="t" r="r" b="b"/>
            <a:pathLst>
              <a:path w="48" h="1">
                <a:moveTo>
                  <a:pt x="0" y="0"/>
                </a:moveTo>
                <a:cubicBezTo>
                  <a:pt x="0" y="0"/>
                  <a:pt x="24" y="0"/>
                  <a:pt x="48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65840" y="2428920"/>
            <a:ext cx="90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F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21400" y="228744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4600" y="1985760"/>
            <a:ext cx="1143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sampled si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45480" y="2771640"/>
            <a:ext cx="527040" cy="281160"/>
          </a:xfrm>
          <a:prstGeom prst="rightArrow">
            <a:avLst>
              <a:gd name="adj1" fmla="val 50000"/>
              <a:gd name="adj2" fmla="val 46863"/>
            </a:avLst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800680" y="3143160"/>
            <a:ext cx="0" cy="3398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624720" y="3152520"/>
            <a:ext cx="0" cy="33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00680" y="3143160"/>
            <a:ext cx="841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96880" y="3132000"/>
            <a:ext cx="17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48360" y="3151080"/>
            <a:ext cx="11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11680" y="3455640"/>
            <a:ext cx="241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1920" y="345420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473960" y="3720960"/>
                <a:ext cx="1152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</m:e>
                        </m:d>
                      </m:num>
                      <m:den>
                        <m:r>
                          <m:t xml:space="preserve">π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4883040" y="4047840"/>
            <a:ext cx="1082880" cy="305280"/>
          </a:xfrm>
          <a:solidFill>
            <a:srgbClr val="c0c0c0"/>
          </a:solidFill>
          <a:ln w="316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4800" y="6249960"/>
            <a:ext cx="657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hannels are 4.3 kHz wide in ADSL and V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934400" y="3124080"/>
            <a:ext cx="88920" cy="371520"/>
            <a:chOff x="7934400" y="3124080"/>
            <a:chExt cx="88920" cy="371520"/>
          </a:xfrm>
        </p:grpSpPr>
        <p:sp>
          <p:nvSpPr>
            <p:cNvPr id="309" name=""/>
            <p:cNvSpPr/>
            <p:nvPr/>
          </p:nvSpPr>
          <p:spPr>
            <a:xfrm>
              <a:off x="7972560" y="3181320"/>
              <a:ext cx="0" cy="314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34400" y="312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115480" y="3124080"/>
            <a:ext cx="88560" cy="371520"/>
            <a:chOff x="8115480" y="3124080"/>
            <a:chExt cx="88560" cy="371520"/>
          </a:xfrm>
        </p:grpSpPr>
        <p:sp>
          <p:nvSpPr>
            <p:cNvPr id="312" name=""/>
            <p:cNvSpPr/>
            <p:nvPr/>
          </p:nvSpPr>
          <p:spPr>
            <a:xfrm>
              <a:off x="8153280" y="3181320"/>
              <a:ext cx="0" cy="314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15480" y="312408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8020080" y="2943360"/>
            <a:ext cx="88920" cy="371520"/>
            <a:chOff x="8020080" y="2943360"/>
            <a:chExt cx="88920" cy="371520"/>
          </a:xfrm>
        </p:grpSpPr>
        <p:sp>
          <p:nvSpPr>
            <p:cNvPr id="315" name=""/>
            <p:cNvSpPr/>
            <p:nvPr/>
          </p:nvSpPr>
          <p:spPr>
            <a:xfrm>
              <a:off x="8058240" y="3000600"/>
              <a:ext cx="0" cy="314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20080" y="294336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819920" y="3448080"/>
            <a:ext cx="8892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20240" y="3438360"/>
            <a:ext cx="8856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15280" y="3476520"/>
            <a:ext cx="88920" cy="209160"/>
            <a:chOff x="8315280" y="3476520"/>
            <a:chExt cx="88920" cy="209160"/>
          </a:xfrm>
        </p:grpSpPr>
        <p:sp>
          <p:nvSpPr>
            <p:cNvPr id="320" name=""/>
            <p:cNvSpPr/>
            <p:nvPr/>
          </p:nvSpPr>
          <p:spPr>
            <a:xfrm flipV="1">
              <a:off x="8353440" y="3476520"/>
              <a:ext cx="0" cy="152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8315280" y="359640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724880" y="3476520"/>
            <a:ext cx="88920" cy="209160"/>
            <a:chOff x="7724880" y="3476520"/>
            <a:chExt cx="88920" cy="209160"/>
          </a:xfrm>
        </p:grpSpPr>
        <p:sp>
          <p:nvSpPr>
            <p:cNvPr id="323" name=""/>
            <p:cNvSpPr/>
            <p:nvPr/>
          </p:nvSpPr>
          <p:spPr>
            <a:xfrm flipV="1">
              <a:off x="7763040" y="3476520"/>
              <a:ext cx="0" cy="152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724880" y="359640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420040" y="3448080"/>
            <a:ext cx="8892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48560" y="3448080"/>
            <a:ext cx="8892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246-CBBA-4ACB-BE27-2A02D5E526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Subchannel SN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SubSNR2" descr=""/>
          <p:cNvPicPr/>
          <p:nvPr/>
        </p:nvPicPr>
        <p:blipFill>
          <a:blip r:embed="rId1"/>
          <a:stretch/>
        </p:blipFill>
        <p:spPr>
          <a:xfrm>
            <a:off x="1160640" y="1133640"/>
            <a:ext cx="7053120" cy="528948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E1C-2144-40DA-8130-121004BC5DB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Frequency-Domain Per-Tone Equalizer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rrange computation of FFT coefficient for to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Van Acker, Leus, Moonen, van de Wiel, Pollet, 2001]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lvl="1" marL="713160" indent="0" algn="ctr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o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-valued matrix produced by sliding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ner produc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row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mplex)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ompl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Q has been moved into FEQ to create multi-tap FEQ as linear comb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fter FFT demodulation, each tone equalized separatel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ize each carrier independently of other carrier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 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 bit rat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utput of F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maximizing subchannel S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liding FFT to produ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matrix produ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 one ADSL frame (symbol + cyclic prefix)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fir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 to form the firs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 one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 to form the second colum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B4B-41C5-458F-85D3-28553C79B90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Per-Tone Equalizer: Implementation Complexit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r-Tone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5" name=""/>
          <p:cNvGraphicFramePr/>
          <p:nvPr/>
        </p:nvGraphicFramePr>
        <p:xfrm>
          <a:off x="4775040" y="1185840"/>
          <a:ext cx="4143600" cy="32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5040" y="1185840"/>
                    <a:ext cx="4143600" cy="32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7" name=""/>
          <p:cNvGraphicFramePr/>
          <p:nvPr/>
        </p:nvGraphicFramePr>
        <p:xfrm>
          <a:off x="331920" y="1184400"/>
          <a:ext cx="3730320" cy="1730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920" y="1184400"/>
                    <a:ext cx="373032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9" name=""/>
          <p:cNvGraphicFramePr/>
          <p:nvPr/>
        </p:nvGraphicFramePr>
        <p:xfrm>
          <a:off x="316080" y="2905200"/>
          <a:ext cx="4635360" cy="1904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6080" y="2905200"/>
                    <a:ext cx="463536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1" name=""/>
          <p:cNvGraphicFramePr/>
          <p:nvPr/>
        </p:nvGraphicFramePr>
        <p:xfrm>
          <a:off x="314280" y="4794120"/>
          <a:ext cx="5651640" cy="19526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280" y="4794120"/>
                    <a:ext cx="565164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58E-2354-48A0-BE33-2814A0FC86A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ual-Path TEQ (Simulated Channel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rcRect l="6251" t="0" r="6251" b="0"/>
          <a:stretch/>
        </p:blipFill>
        <p:spPr>
          <a:xfrm>
            <a:off x="1371600" y="1219320"/>
            <a:ext cx="6334200" cy="5435640"/>
          </a:xfrm>
          <a:prstGeom prst="rect">
            <a:avLst/>
          </a:prstGeom>
          <a:ln w="0">
            <a:noFill/>
          </a:ln>
        </p:spPr>
      </p:pic>
      <p:sp>
        <p:nvSpPr>
          <p:cNvPr id="1355" name=""/>
          <p:cNvSpPr/>
          <p:nvPr/>
        </p:nvSpPr>
        <p:spPr>
          <a:xfrm>
            <a:off x="3732480" y="213372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Optimized for subchannel 2-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79640" y="411480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Optimized for subchannel 2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2362320" y="2437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954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ual-Path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7F0-DAE0-424B-88E3-37CE4068F75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otorola CopperGold ADSL Chip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nounced in March 1998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 million transistors, 144 pins, clocked at 55 MHz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5 W power consump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MT processor consist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orola MC56300 DSP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application specific 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12-point 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-tap FIR filter for time-domain channel equalization based on MMSE method (20 bits precision per t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SP core and memory occupies about 1/3 of chip area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1"/>
          <a:stretch/>
        </p:blipFill>
        <p:spPr>
          <a:xfrm>
            <a:off x="5919840" y="2076480"/>
            <a:ext cx="228600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550-0172-481C-8B0C-3A938E9DEB3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ulticarrier Modulation by Inverse FFT Filter Bank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8160" y="5391000"/>
                <a:ext cx="660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771560" y="1801800"/>
            <a:ext cx="428760" cy="447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99224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96920" y="152712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733400" y="1120680"/>
                <a:ext cx="789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95200" y="1784520"/>
                <a:ext cx="3906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771560" y="3083040"/>
            <a:ext cx="428760" cy="447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96920" y="280836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20800" y="2401920"/>
                <a:ext cx="816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770120" y="5391000"/>
            <a:ext cx="428400" cy="447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5116680"/>
            <a:ext cx="0" cy="274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630440" y="4710240"/>
                <a:ext cx="993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1995480" y="3998880"/>
            <a:ext cx="0" cy="4590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255840"/>
            <a:ext cx="428760" cy="447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endCxn id="341" idx="1"/>
          </p:cNvCxnSpPr>
          <p:nvPr/>
        </p:nvCxnSpPr>
        <p:spPr>
          <a:xfrm>
            <a:off x="2655720" y="2025720"/>
            <a:ext cx="380160" cy="12960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43" name=""/>
          <p:cNvCxnSpPr>
            <a:endCxn id="341" idx="2"/>
          </p:cNvCxnSpPr>
          <p:nvPr/>
        </p:nvCxnSpPr>
        <p:spPr>
          <a:xfrm>
            <a:off x="2655720" y="3311280"/>
            <a:ext cx="316800" cy="168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44" name=""/>
          <p:cNvCxnSpPr>
            <a:endCxn id="341" idx="3"/>
          </p:cNvCxnSpPr>
          <p:nvPr/>
        </p:nvCxnSpPr>
        <p:spPr>
          <a:xfrm flipV="1">
            <a:off x="2655720" y="3637800"/>
            <a:ext cx="380160" cy="1981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45" name=""/>
          <p:cNvCxnSpPr>
            <a:stCxn id="329" idx="6"/>
          </p:cNvCxnSpPr>
          <p:nvPr/>
        </p:nvCxnSpPr>
        <p:spPr>
          <a:xfrm>
            <a:off x="2200320" y="2025360"/>
            <a:ext cx="457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4" idx="6"/>
          </p:cNvCxnSpPr>
          <p:nvPr/>
        </p:nvCxnSpPr>
        <p:spPr>
          <a:xfrm>
            <a:off x="2200320" y="3306240"/>
            <a:ext cx="457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7" idx="6"/>
          </p:cNvCxnSpPr>
          <p:nvPr/>
        </p:nvCxnSpPr>
        <p:spPr>
          <a:xfrm>
            <a:off x="2198160" y="5614560"/>
            <a:ext cx="459720" cy="540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1" idx="6"/>
          </p:cNvCxnSpPr>
          <p:nvPr/>
        </p:nvCxnSpPr>
        <p:spPr>
          <a:xfrm>
            <a:off x="3400200" y="3479400"/>
            <a:ext cx="5626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49" name=""/>
          <p:cNvSpPr/>
          <p:nvPr/>
        </p:nvSpPr>
        <p:spPr>
          <a:xfrm>
            <a:off x="947880" y="1733400"/>
            <a:ext cx="561960" cy="516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09840" y="199224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332424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84040" y="3116160"/>
                <a:ext cx="414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947880" y="306540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09840" y="332424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61816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47880" y="535932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09840" y="561816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34240" y="1852560"/>
            <a:ext cx="428400" cy="447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48480" y="204300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59600" y="157788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769080" y="1069920"/>
                <a:ext cx="8445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57880" y="1835280"/>
                <a:ext cx="3906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834240" y="3133800"/>
            <a:ext cx="428400" cy="447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59600" y="285912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769080" y="2351160"/>
                <a:ext cx="843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6832440" y="5442120"/>
            <a:ext cx="428760" cy="447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58160" y="5167440"/>
            <a:ext cx="0" cy="274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6665760" y="4659480"/>
                <a:ext cx="1049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7058160" y="4049640"/>
            <a:ext cx="0" cy="4590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34480" y="3306600"/>
            <a:ext cx="428400" cy="447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endCxn id="370" idx="1"/>
          </p:cNvCxnSpPr>
          <p:nvPr/>
        </p:nvCxnSpPr>
        <p:spPr>
          <a:xfrm>
            <a:off x="7718400" y="2076480"/>
            <a:ext cx="380160" cy="12960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72" name=""/>
          <p:cNvCxnSpPr>
            <a:endCxn id="370" idx="2"/>
          </p:cNvCxnSpPr>
          <p:nvPr/>
        </p:nvCxnSpPr>
        <p:spPr>
          <a:xfrm>
            <a:off x="7718400" y="3362040"/>
            <a:ext cx="316800" cy="168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73" name=""/>
          <p:cNvCxnSpPr>
            <a:endCxn id="370" idx="3"/>
          </p:cNvCxnSpPr>
          <p:nvPr/>
        </p:nvCxnSpPr>
        <p:spPr>
          <a:xfrm flipV="1">
            <a:off x="7718400" y="3688920"/>
            <a:ext cx="380160" cy="198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374" name=""/>
          <p:cNvCxnSpPr>
            <a:stCxn id="358" idx="6"/>
          </p:cNvCxnSpPr>
          <p:nvPr/>
        </p:nvCxnSpPr>
        <p:spPr>
          <a:xfrm>
            <a:off x="7262640" y="2076120"/>
            <a:ext cx="457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3" idx="6"/>
          </p:cNvCxnSpPr>
          <p:nvPr/>
        </p:nvCxnSpPr>
        <p:spPr>
          <a:xfrm>
            <a:off x="7262640" y="3357360"/>
            <a:ext cx="457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6" idx="6"/>
          </p:cNvCxnSpPr>
          <p:nvPr/>
        </p:nvCxnSpPr>
        <p:spPr>
          <a:xfrm>
            <a:off x="7261200" y="5665680"/>
            <a:ext cx="459360" cy="57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70" idx="6"/>
          </p:cNvCxnSpPr>
          <p:nvPr/>
        </p:nvCxnSpPr>
        <p:spPr>
          <a:xfrm>
            <a:off x="8462520" y="3530160"/>
            <a:ext cx="5626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8" name=""/>
          <p:cNvSpPr/>
          <p:nvPr/>
        </p:nvSpPr>
        <p:spPr>
          <a:xfrm>
            <a:off x="6010200" y="178452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72160" y="204300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48480" y="337500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346720" y="3166920"/>
                <a:ext cx="414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6010200" y="311616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72160" y="337500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48480" y="5668920"/>
            <a:ext cx="261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00480" y="5442120"/>
                <a:ext cx="660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6010200" y="5410080"/>
            <a:ext cx="561960" cy="51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72160" y="5668920"/>
            <a:ext cx="262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97160" y="2892600"/>
            <a:ext cx="1138320" cy="117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4560" y="6199200"/>
            <a:ext cx="81295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 pulse shaping filter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symbol from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84320" y="593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134040" y="1994040"/>
            <a:ext cx="304920" cy="228600"/>
            <a:chOff x="6134040" y="1994040"/>
            <a:chExt cx="304920" cy="228600"/>
          </a:xfrm>
        </p:grpSpPr>
        <p:sp>
          <p:nvSpPr>
            <p:cNvPr id="392" name=""/>
            <p:cNvSpPr/>
            <p:nvPr/>
          </p:nvSpPr>
          <p:spPr>
            <a:xfrm>
              <a:off x="6134040" y="1994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86680" y="1994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38960" y="1994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134040" y="5575320"/>
            <a:ext cx="304920" cy="228600"/>
            <a:chOff x="6134040" y="5575320"/>
            <a:chExt cx="304920" cy="228600"/>
          </a:xfrm>
        </p:grpSpPr>
        <p:sp>
          <p:nvSpPr>
            <p:cNvPr id="396" name=""/>
            <p:cNvSpPr/>
            <p:nvPr/>
          </p:nvSpPr>
          <p:spPr>
            <a:xfrm>
              <a:off x="6134040" y="557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86680" y="557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38960" y="557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134040" y="3289320"/>
            <a:ext cx="304920" cy="228600"/>
            <a:chOff x="6134040" y="3289320"/>
            <a:chExt cx="304920" cy="228600"/>
          </a:xfrm>
        </p:grpSpPr>
        <p:sp>
          <p:nvSpPr>
            <p:cNvPr id="400" name=""/>
            <p:cNvSpPr/>
            <p:nvPr/>
          </p:nvSpPr>
          <p:spPr>
            <a:xfrm>
              <a:off x="6134040" y="3289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3289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38960" y="3289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125960" y="4573440"/>
            <a:ext cx="3649680" cy="771840"/>
            <a:chOff x="4125960" y="4573440"/>
            <a:chExt cx="3649680" cy="771840"/>
          </a:xfrm>
        </p:grpSpPr>
        <p:sp>
          <p:nvSpPr>
            <p:cNvPr id="405" name=""/>
            <p:cNvSpPr/>
            <p:nvPr/>
          </p:nvSpPr>
          <p:spPr>
            <a:xfrm>
              <a:off x="6413400" y="4573440"/>
              <a:ext cx="1362240" cy="77184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7400" y="4754520"/>
              <a:ext cx="893880" cy="16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25960" y="4592520"/>
              <a:ext cx="146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al-valu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87840" y="2308320"/>
            <a:ext cx="4137120" cy="771480"/>
            <a:chOff x="3687840" y="2308320"/>
            <a:chExt cx="4137120" cy="771480"/>
          </a:xfrm>
        </p:grpSpPr>
        <p:sp>
          <p:nvSpPr>
            <p:cNvPr id="409" name=""/>
            <p:cNvSpPr/>
            <p:nvPr/>
          </p:nvSpPr>
          <p:spPr>
            <a:xfrm>
              <a:off x="6462720" y="2308320"/>
              <a:ext cx="1362240" cy="771480"/>
            </a:xfrm>
            <a:prstGeom prst="ellipse">
              <a:avLst/>
            </a:prstGeom>
            <a:noFill/>
            <a:ln w="316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16720" y="2489040"/>
              <a:ext cx="893520" cy="163800"/>
            </a:xfrm>
            <a:prstGeom prst="line">
              <a:avLst/>
            </a:prstGeom>
            <a:ln w="3168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87840" y="2327400"/>
              <a:ext cx="195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complex-valu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695760" y="995400"/>
            <a:ext cx="4137120" cy="771480"/>
            <a:chOff x="3695760" y="995400"/>
            <a:chExt cx="4137120" cy="771480"/>
          </a:xfrm>
        </p:grpSpPr>
        <p:sp>
          <p:nvSpPr>
            <p:cNvPr id="413" name=""/>
            <p:cNvSpPr/>
            <p:nvPr/>
          </p:nvSpPr>
          <p:spPr>
            <a:xfrm>
              <a:off x="6470640" y="995400"/>
              <a:ext cx="1362240" cy="771480"/>
            </a:xfrm>
            <a:prstGeom prst="ellipse">
              <a:avLst/>
            </a:prstGeom>
            <a:noFill/>
            <a:ln w="316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24640" y="1176120"/>
              <a:ext cx="893520" cy="163800"/>
            </a:xfrm>
            <a:prstGeom prst="line">
              <a:avLst/>
            </a:prstGeom>
            <a:ln w="3168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95760" y="1014480"/>
              <a:ext cx="195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complex-valu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026-D310-4228-A228-CDB89525F7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screte Multitone Modulation Symbol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3680" y="1065240"/>
            <a:ext cx="8254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2 subsymbols are in general complex-value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L uses 4-level Quadrature Amplitu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tion (QAM) during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SL uses QAM of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ve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data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carrier modulation using inverse FF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7846920" y="1468080"/>
            <a:ext cx="0" cy="135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18360" y="2209680"/>
            <a:ext cx="1292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28000" y="2303640"/>
            <a:ext cx="89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-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53120" y="1154160"/>
            <a:ext cx="157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d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856640" y="1714320"/>
            <a:ext cx="419040" cy="5029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271000" y="1611360"/>
            <a:ext cx="88920" cy="8892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07360" y="2989440"/>
            <a:ext cx="95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8920" y="3438360"/>
            <a:ext cx="1371600" cy="2819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41720" y="38955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41720" y="42004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041720" y="57196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70520" y="363528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70520" y="39402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70520" y="424512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70520" y="570384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75240" y="374328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75240" y="404820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98920" y="5567400"/>
            <a:ext cx="393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40320" y="348300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40320" y="378792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40320" y="4092480"/>
            <a:ext cx="304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7720" y="5551560"/>
            <a:ext cx="5889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cc33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54320" y="541512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98920" y="5262480"/>
            <a:ext cx="393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54320" y="48099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70320" y="4657680"/>
            <a:ext cx="622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32440" y="4352760"/>
            <a:ext cx="0" cy="3812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25960" y="495792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54320" y="35910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87840" y="343836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9120" y="4694400"/>
            <a:ext cx="0" cy="3808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97520" y="3483000"/>
            <a:ext cx="173160" cy="2406600"/>
          </a:xfrm>
          <a:custGeom>
            <a:avLst/>
            <a:gdLst>
              <a:gd name="textAreaLeft" fmla="*/ 0 w 173160"/>
              <a:gd name="textAreaRight" fmla="*/ 62640 w 173160"/>
              <a:gd name="textAreaTop" fmla="*/ 62640 h 2406600"/>
              <a:gd name="textAreaBottom" fmla="*/ 2343960 h 24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154320" y="3795840"/>
            <a:ext cx="125280" cy="861840"/>
          </a:xfrm>
          <a:custGeom>
            <a:avLst/>
            <a:gdLst>
              <a:gd name="textAreaLeft" fmla="*/ 0 w 125280"/>
              <a:gd name="textAreaRight" fmla="*/ 45360 w 125280"/>
              <a:gd name="textAreaTop" fmla="*/ 22320 h 861840"/>
              <a:gd name="textAreaBottom" fmla="*/ 839520 h 86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68280" y="6323040"/>
                <a:ext cx="4714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8545680" y="1541520"/>
            <a:ext cx="304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06680" y="4100400"/>
            <a:ext cx="426960" cy="1543320"/>
          </a:xfrm>
          <a:custGeom>
            <a:avLst/>
            <a:gdLst>
              <a:gd name="textAreaLeft" fmla="*/ 57240 w 426960"/>
              <a:gd name="textAreaRight" fmla="*/ 369720 w 426960"/>
              <a:gd name="textAreaTop" fmla="*/ 270000 h 1543320"/>
              <a:gd name="textAreaBottom" fmla="*/ 1118880 h 154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182040" y="4979880"/>
            <a:ext cx="125640" cy="862200"/>
          </a:xfrm>
          <a:custGeom>
            <a:avLst/>
            <a:gdLst>
              <a:gd name="textAreaLeft" fmla="*/ -360 w 125640"/>
              <a:gd name="textAreaRight" fmla="*/ 45000 w 125640"/>
              <a:gd name="textAreaTop" fmla="*/ 22320 h 862200"/>
              <a:gd name="textAreaBottom" fmla="*/ 83988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5960" y="3979800"/>
            <a:ext cx="16858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Mirror and conjugate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/2–1 complex subsymbo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40440" y="4108320"/>
            <a:ext cx="1747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Yields one symbol of N  real-valued s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079-77C8-48BE-98E9-96AFFD9529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b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1880" y="301680"/>
            <a:ext cx="82677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Discrete Multitone Modulation Fram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680" y="1064880"/>
            <a:ext cx="825480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ame is sent through D/A converter and transmitte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 is the symbol with cyclic prefix prep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c prefix (CP) consists of las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 of the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 reduces throughput by factor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near convolution of frame wi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annel impulse respons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ircular convolution if channel length is CP length plus one or sh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convolution       frequency-domain equalization in FFT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domain equalization to reduce effective channel length and 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00440" y="3675240"/>
            <a:ext cx="120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93760" y="3675240"/>
            <a:ext cx="120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 rot="5400000">
            <a:off x="3270240" y="2208600"/>
            <a:ext cx="190440" cy="2629080"/>
          </a:xfrm>
          <a:custGeom>
            <a:avLst/>
            <a:gdLst>
              <a:gd name="textAreaLeft" fmla="*/ 0 w 190440"/>
              <a:gd name="textAreaRight" fmla="*/ 68760 w 190440"/>
              <a:gd name="textAreaTop" fmla="*/ 68400 h 2629080"/>
              <a:gd name="textAreaBottom" fmla="*/ 2560680 h 26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 rot="5400000">
            <a:off x="1608120" y="3232080"/>
            <a:ext cx="203040" cy="596880"/>
          </a:xfrm>
          <a:custGeom>
            <a:avLst/>
            <a:gdLst>
              <a:gd name="textAreaLeft" fmla="*/ 0 w 203040"/>
              <a:gd name="textAreaRight" fmla="*/ 73440 w 203040"/>
              <a:gd name="textAreaTop" fmla="*/ 15480 h 596880"/>
              <a:gd name="textAreaBottom" fmla="*/ 58140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11200" y="3002040"/>
            <a:ext cx="6159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27160" y="3003480"/>
            <a:ext cx="20559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75200" y="3002040"/>
            <a:ext cx="60480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6" idx="0"/>
            <a:endCxn id="464" idx="0"/>
          </p:cNvCxnSpPr>
          <p:nvPr/>
        </p:nvCxnSpPr>
        <p:spPr>
          <a:xfrm rot="5400000">
            <a:off x="3047400" y="1673280"/>
            <a:ext cx="2160" cy="2659680"/>
          </a:xfrm>
          <a:prstGeom prst="curvedConnector5">
            <a:avLst>
              <a:gd name="adj1" fmla="val -31900000"/>
              <a:gd name="adj2" fmla="val 49993"/>
              <a:gd name="adj3" fmla="val -319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4680000" y="3002040"/>
            <a:ext cx="6159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03880" y="3003480"/>
            <a:ext cx="206208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65960" y="3002040"/>
            <a:ext cx="60480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52800" y="3003480"/>
            <a:ext cx="234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 y  m  b  o  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0840" y="2990880"/>
            <a:ext cx="234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 y  m  b  o  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0" idx="0"/>
            <a:endCxn id="468" idx="0"/>
          </p:cNvCxnSpPr>
          <p:nvPr/>
        </p:nvCxnSpPr>
        <p:spPr>
          <a:xfrm rot="5400000">
            <a:off x="6327000" y="1662120"/>
            <a:ext cx="2160" cy="2682000"/>
          </a:xfrm>
          <a:prstGeom prst="curvedConnector5">
            <a:avLst>
              <a:gd name="adj1" fmla="val -33500000"/>
              <a:gd name="adj2" fmla="val 49993"/>
              <a:gd name="adj3" fmla="val -335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8070840" y="3117960"/>
            <a:ext cx="598320" cy="0"/>
          </a:xfrm>
          <a:prstGeom prst="line">
            <a:avLst/>
          </a:prstGeom>
          <a:ln cap="rnd" w="101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95520" y="2466720"/>
            <a:ext cx="11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75480" y="2439720"/>
            <a:ext cx="11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4943520" y="3949560"/>
                <a:ext cx="1074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3513240" y="5878440"/>
            <a:ext cx="231840" cy="223920"/>
          </a:xfrm>
          <a:prstGeom prst="rightArrow">
            <a:avLst>
              <a:gd name="adj1" fmla="val 50000"/>
              <a:gd name="adj2" fmla="val 25884"/>
            </a:avLst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151680" y="3632040"/>
          <a:ext cx="2557440" cy="16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1680" y="3632040"/>
                    <a:ext cx="25574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2506680" y="50760"/>
            <a:ext cx="428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carrier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C6B-1FCB-49E7-8992-A0EA054978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1T06:08:20Z</dcterms:created>
  <dc:creator>Brian L. Evans</dc:creator>
  <dc:description/>
  <dc:language>en-US</dc:language>
  <cp:lastModifiedBy>Brian L. Evans</cp:lastModifiedBy>
  <cp:lastPrinted>2000-11-22T02:14:42Z</cp:lastPrinted>
  <dcterms:modified xsi:type="dcterms:W3CDTF">2009-12-01T15:04:46Z</dcterms:modified>
  <cp:revision>609</cp:revision>
  <dc:subject/>
  <dc:title>Equalization for ADSL Transceiv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adsl_new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