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B94-A312-4ED6-A91C-E3772AE2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AB2-F2EE-413B-BDFF-5452DC28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62B-5175-4171-B0DD-8800E038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89F-10E8-4F0D-B3FF-5B865DC0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1A5-8AAC-4783-A393-8BD70765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FADA-C3D1-49B5-B899-CDC46B3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06D-7306-4A80-BA56-62339D08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87D-96D5-47F6-8C1F-CC931709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664A-370C-4907-86F0-96B63A7D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E85-1465-4103-A33F-0CDC9DC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C42B-7638-45F5-9C81-62DBE0C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051-2CE1-493A-B712-FA71561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4BDE-D28D-487B-B209-DC20E0E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5F2-2CAF-4F6E-9F26-519AAB7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D065-2E37-4241-8A57-DA64936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7D51-D80C-47A2-936B-D8FCA123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94C0-CC91-4C0C-8A8C-F5080185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55E-594E-4BA5-8370-0EAA703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DDF-49AE-4148-9F55-CAC48E5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125-5870-4390-A7F2-13E9F35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92F-A906-4278-AA58-C85AA414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4A9-B990-40A5-B020-CA43C1D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696-183A-40EF-91C6-E5E2C21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ABA-B493-4E6B-895D-F3B4DBC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 - </a:t>
            </a:r>
            <a:fld id="{8834EA6B-D033-4E7C-94AF-6F60B734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8E1349E-1D19-4DD0-A650-874314D2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Fall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00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Sinusoidal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 source resist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rging time constant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ust be short when compared to 1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so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&lt; 1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harging time constan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enough so that capacitor discharges slowly through load resi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positive peaks of carrier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o long that capacitor voltage will not discharge at max rate of change of modulating wave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D98-5CEA-46F5-B690-DBEC66074A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lows DSB-SC signals to occupy same channel bandwidth provided that the two message signals are from independent sourc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message signal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re s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n-phase compon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quadrature compon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98560" y="2819520"/>
                <a:ext cx="7194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630440" y="3352680"/>
                <a:ext cx="37497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14400" y="3946680"/>
                <a:ext cx="3200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952880" y="3807000"/>
                <a:ext cx="3353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183-F4D1-494A-9442-EE908E2E9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ther Amplitude Modulation Typ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suppressed carrier (DSB-S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variable carrier (DSB-V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gle sideband (SSB) removes either lower sideband or upper sideband b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ly sharp bandpass or highpass filter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hifters using Hilbert transformer (slides 15-7 to 15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19520" y="1981080"/>
                <a:ext cx="38098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676520" y="2971800"/>
                <a:ext cx="6164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740-1261-495A-83B7-C34CE1F95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Modulated (F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essage signal: analog audio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: lowpass filter to reject above 1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: sinusoidal modulatation from baseband to FM station frequency (often in two modulation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ircuits: sinusoidal demodulation from FM station frequency to baseband (often in two demodulation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rocessing: lowpass filter to reject above 1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52280" y="5181480"/>
            <a:ext cx="8991720" cy="1373760"/>
            <a:chOff x="152280" y="5181480"/>
            <a:chExt cx="8991720" cy="1373760"/>
          </a:xfrm>
        </p:grpSpPr>
        <p:sp>
          <p:nvSpPr>
            <p:cNvPr id="306" name=""/>
            <p:cNvSpPr/>
            <p:nvPr/>
          </p:nvSpPr>
          <p:spPr>
            <a:xfrm>
              <a:off x="380880" y="56386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318280"/>
              <a:ext cx="13716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Signal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7400" y="5654520"/>
              <a:ext cx="30492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5334120"/>
              <a:ext cx="1143000" cy="70380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arrier</a:t>
              </a:r>
              <a:br>
                <a:rPr sz="2000"/>
              </a:b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5320" y="5654520"/>
              <a:ext cx="30456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09880" y="5334120"/>
              <a:ext cx="1676520" cy="70380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Transmission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6400" y="565452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5334120"/>
              <a:ext cx="11430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Carrier Circ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4320" y="5654520"/>
              <a:ext cx="304560" cy="0"/>
            </a:xfrm>
            <a:prstGeom prst="line">
              <a:avLst/>
            </a:prstGeom>
            <a:ln w="1908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8880" y="5334120"/>
              <a:ext cx="1371600" cy="70380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ignal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10480" y="5638680"/>
              <a:ext cx="30492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520" y="5181480"/>
              <a:ext cx="3047760" cy="990720"/>
            </a:xfrm>
            <a:prstGeom prst="rect">
              <a:avLst/>
            </a:prstGeom>
            <a:noFill/>
            <a:ln w="1908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0720" y="61563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61563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5181480"/>
              <a:ext cx="3124080" cy="990720"/>
            </a:xfrm>
            <a:prstGeom prst="rect">
              <a:avLst/>
            </a:prstGeom>
            <a:noFill/>
            <a:ln w="1908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6064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4120" y="61405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8686800" y="5791320"/>
                  <a:ext cx="4572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3505320" y="615636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152280" y="5715000"/>
                  <a:ext cx="4287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F52-D3F7-40D5-A559-435DBD88BC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n-linear, time-varying, has memory, non-caus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single tone messag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cos(2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ulation index is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/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1  =&gt;  Narrowband FM (looks like double-sideband 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1  =&gt;  Broadband 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07920" y="1828800"/>
                <a:ext cx="7093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00000" y="3282840"/>
                <a:ext cx="7481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where  </m:t>
                    </m:r>
                    <m:r>
                      <m:t xml:space="preserve">Δ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838080" y="4197240"/>
                <a:ext cx="57470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7010280" y="4273560"/>
            <a:ext cx="19051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aneous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AB3-B134-4971-9853-64F1F0D3E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rson's Ru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ndwidth of FM for single-tone message a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b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son’s rule for single-tone FM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message signal of bandwid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048120" y="2016000"/>
                <a:ext cx="1307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060720" y="2455920"/>
                <a:ext cx="13590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248520" y="2911320"/>
                <a:ext cx="2209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7" name=""/>
          <p:cNvGraphicFramePr/>
          <p:nvPr/>
        </p:nvGraphicFramePr>
        <p:xfrm>
          <a:off x="914400" y="3502080"/>
          <a:ext cx="7391520" cy="2288880"/>
        </p:xfrm>
        <a:graphic>
          <a:graphicData uri="http://schemas.openxmlformats.org/drawingml/2006/table">
            <a:tbl>
              <a:tblPr/>
              <a:tblGrid>
                <a:gridCol w="781200"/>
                <a:gridCol w="3598560"/>
                <a:gridCol w="1575000"/>
                <a:gridCol w="1436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M Ra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TV A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Peak freq. deviation (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Peak message freq. (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Deviation ratio (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Bandwidth 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= 2 </a:t>
                      </a:r>
                      <a:r>
                        <a:rPr b="1" i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000" spc="-1" strike="noStrike" baseline="-25000">
                          <a:solidFill>
                            <a:srgbClr val="cc00cc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(1+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Station Spa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7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8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5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8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27A-D62E-43C5-B6A3-184160254F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and analog versions may be used in sam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amplitude modulation is one method for up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bandwidth is twice message bandwidth (waste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drature amplitude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osine and sine to modulate two different message signals and subtracts resulting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essages in same transmission bandwidth (effic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DD6-FBB9-4815-AB4F-82ACBC3653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sinusoidal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ideband large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ure 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mplitude modulation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38F-D2EB-4171-A059-50DB4AD034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Radio Frequency Mod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essage signal:  stream of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sinusoidal modulation in digital signal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sinusoidal modulation in carrier circuits for upconversion to radio frequencies (RF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232160"/>
            <a:ext cx="30456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51280"/>
            <a:ext cx="144792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851280"/>
            <a:ext cx="167616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igital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892680"/>
            <a:ext cx="13716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D/A Conve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23216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505320"/>
            <a:ext cx="6324480" cy="1447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63868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318280"/>
            <a:ext cx="13716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Signal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654520"/>
            <a:ext cx="304920" cy="0"/>
          </a:xfrm>
          <a:prstGeom prst="line">
            <a:avLst/>
          </a:prstGeom>
          <a:ln w="1908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5334120"/>
            <a:ext cx="1143000" cy="703800"/>
          </a:xfrm>
          <a:prstGeom prst="rect">
            <a:avLst/>
          </a:prstGeom>
          <a:noFill/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arrier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654520"/>
            <a:ext cx="30456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334120"/>
            <a:ext cx="1676520" cy="703800"/>
          </a:xfrm>
          <a:prstGeom prst="rect">
            <a:avLst/>
          </a:prstGeom>
          <a:noFill/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Times New Roman"/>
              </a:rPr>
              <a:t>Transmission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5452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5334120"/>
            <a:ext cx="1143000" cy="703800"/>
          </a:xfrm>
          <a:prstGeom prst="rect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Carri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5654520"/>
            <a:ext cx="304560" cy="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5334120"/>
            <a:ext cx="1371600" cy="703800"/>
          </a:xfrm>
          <a:prstGeom prst="rect">
            <a:avLst/>
          </a:prstGeom>
          <a:noFill/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Signal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5638680"/>
            <a:ext cx="304920" cy="0"/>
          </a:xfrm>
          <a:prstGeom prst="line">
            <a:avLst/>
          </a:prstGeom>
          <a:ln w="1908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181480"/>
            <a:ext cx="3047760" cy="990720"/>
          </a:xfrm>
          <a:prstGeom prst="rect">
            <a:avLst/>
          </a:prstGeom>
          <a:noFill/>
          <a:ln w="19080">
            <a:solidFill>
              <a:srgbClr val="66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1563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61563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3124080" cy="990720"/>
          </a:xfrm>
          <a:prstGeom prst="rect">
            <a:avLst/>
          </a:prstGeom>
          <a:noFill/>
          <a:ln w="1908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064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6140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686800" y="573732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505320" y="61563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6320" y="5715000"/>
                <a:ext cx="457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28600" y="4343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4647960"/>
            <a:ext cx="3962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B80-BA74-42A9-9E01-77A9C02A95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ome characteristic of a carrier signal is varied in accordance with a modulating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mplitude, frequency, and phase modulation, modulated signals can be expressed 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amplitud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rri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phas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e Modulation handout (Appendix I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41400" y="3479760"/>
                <a:ext cx="3700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C21-58BB-4C45-9FE9-C8A0BDB3E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cos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lef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½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righ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y si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lef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ed right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caled by 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1160" y="1981080"/>
                <a:ext cx="35733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18120" y="1981080"/>
                <a:ext cx="37098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∗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j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93880" y="4014720"/>
                <a:ext cx="37288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160960" y="4014720"/>
                <a:ext cx="37321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434-A1AC-4A1F-9E49-DFE1BEC35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ilar derivation for modula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3048120"/>
            <a:ext cx="2362320" cy="1624680"/>
            <a:chOff x="685800" y="3048120"/>
            <a:chExt cx="2362320" cy="1624680"/>
          </a:xfrm>
        </p:grpSpPr>
        <p:sp>
          <p:nvSpPr>
            <p:cNvPr id="133" name=""/>
            <p:cNvSpPr/>
            <p:nvPr/>
          </p:nvSpPr>
          <p:spPr>
            <a:xfrm>
              <a:off x="2590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002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680" y="36576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3657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281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276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4267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2670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09960" y="3048120"/>
            <a:ext cx="5676840" cy="1853640"/>
            <a:chOff x="3009960" y="3048120"/>
            <a:chExt cx="5676840" cy="1853640"/>
          </a:xfrm>
        </p:grpSpPr>
        <p:sp>
          <p:nvSpPr>
            <p:cNvPr id="145" name=""/>
            <p:cNvSpPr/>
            <p:nvPr/>
          </p:nvSpPr>
          <p:spPr>
            <a:xfrm>
              <a:off x="3124440" y="42674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2240" y="411480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753160" y="35049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088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7228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77200" y="36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09960" y="426744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36576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64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440" y="426744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6200" y="449604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4400" y="426744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5720" y="3657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36576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26744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9240" y="419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4496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4040" y="320220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9400" y="319896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14800" y="2438280"/>
            <a:ext cx="3352680" cy="1828800"/>
            <a:chOff x="4114800" y="2438280"/>
            <a:chExt cx="3352680" cy="1828800"/>
          </a:xfrm>
        </p:grpSpPr>
        <p:sp>
          <p:nvSpPr>
            <p:cNvPr id="169" name=""/>
            <p:cNvSpPr/>
            <p:nvPr/>
          </p:nvSpPr>
          <p:spPr>
            <a:xfrm>
              <a:off x="4191120" y="365760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05720" y="3657600"/>
              <a:ext cx="533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24382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lower sideb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324480" y="2895480"/>
              <a:ext cx="609840" cy="990720"/>
              <a:chOff x="6324480" y="2895480"/>
              <a:chExt cx="609840" cy="9907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6324480" y="335268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324480" y="289548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495680" y="2895480"/>
              <a:ext cx="609840" cy="990720"/>
              <a:chOff x="4495680" y="2895480"/>
              <a:chExt cx="609840" cy="99072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4495680" y="3352680"/>
                <a:ext cx="609840" cy="53352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105520" y="2895480"/>
                <a:ext cx="0" cy="45720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457-F95F-40E3-8E04-C0C20BB54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934320" y="4495680"/>
            <a:ext cx="53316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886200"/>
            <a:ext cx="533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52960" y="3276720"/>
            <a:ext cx="5849280" cy="1980720"/>
            <a:chOff x="3252960" y="3276720"/>
            <a:chExt cx="5849280" cy="1980720"/>
          </a:xfrm>
        </p:grpSpPr>
        <p:sp>
          <p:nvSpPr>
            <p:cNvPr id="183" name=""/>
            <p:cNvSpPr/>
            <p:nvPr/>
          </p:nvSpPr>
          <p:spPr>
            <a:xfrm>
              <a:off x="3367080" y="44956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48640" y="43261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95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14920" y="327672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19840" y="3886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33960" y="37339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2960" y="44956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024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728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0024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0080" y="44956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3376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28840" y="47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7040" y="41403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48360" y="50929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504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4836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7840" y="41403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188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1760" y="39369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6680" y="34308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2040" y="3427560"/>
              <a:ext cx="157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F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95800" y="4495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00560" y="48880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9840" y="507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838080" y="3276720"/>
            <a:ext cx="2362320" cy="1624680"/>
            <a:chOff x="838080" y="3276720"/>
            <a:chExt cx="2362320" cy="1624680"/>
          </a:xfrm>
        </p:grpSpPr>
        <p:sp>
          <p:nvSpPr>
            <p:cNvPr id="209" name=""/>
            <p:cNvSpPr/>
            <p:nvPr/>
          </p:nvSpPr>
          <p:spPr>
            <a:xfrm>
              <a:off x="274320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4495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7524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388620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896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200" y="45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44956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44956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3276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4340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lower side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77120" y="4724280"/>
            <a:ext cx="761760" cy="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477120" y="3048120"/>
            <a:ext cx="0" cy="1676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724280" y="3124080"/>
            <a:ext cx="609840" cy="990720"/>
            <a:chOff x="4724280" y="3124080"/>
            <a:chExt cx="609840" cy="990720"/>
          </a:xfrm>
        </p:grpSpPr>
        <p:sp>
          <p:nvSpPr>
            <p:cNvPr id="224" name=""/>
            <p:cNvSpPr/>
            <p:nvPr/>
          </p:nvSpPr>
          <p:spPr>
            <a:xfrm flipV="1">
              <a:off x="4724280" y="3581280"/>
              <a:ext cx="609840" cy="5335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334120" y="3124080"/>
              <a:ext cx="0" cy="4572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3D4-EB1A-45B6-90C2-B1C3D678D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ouble sideband large carrier (DSC-LC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wave varied about mean value linearly with baseband messag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mplitude sensitiv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factor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ximum amplitud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velope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has about same shape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| &lt; 1 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ndwidth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92400" y="2765520"/>
                <a:ext cx="56419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0EC-2E30-49FC-804B-FB610512A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ed (AM) Ra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advantag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bandwidth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consumes most of the transmitted power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vanta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detectors (e.g. AM radio receivers for c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uses a simpl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nvelope detec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de (with forw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connec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038480" y="3657600"/>
            <a:ext cx="5257800" cy="2590920"/>
            <a:chOff x="4038480" y="3657600"/>
            <a:chExt cx="5257800" cy="2590920"/>
          </a:xfrm>
        </p:grpSpPr>
        <p:sp>
          <p:nvSpPr>
            <p:cNvPr id="232" name=""/>
            <p:cNvSpPr/>
            <p:nvPr/>
          </p:nvSpPr>
          <p:spPr>
            <a:xfrm>
              <a:off x="4759200" y="556272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95288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5334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67080" y="5867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55627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800240" y="4343400"/>
              <a:ext cx="305280" cy="990360"/>
              <a:chOff x="4800240" y="4343400"/>
              <a:chExt cx="305280" cy="990360"/>
            </a:xfrm>
          </p:grpSpPr>
          <p:sp>
            <p:nvSpPr>
              <p:cNvPr id="238" name=""/>
              <p:cNvSpPr/>
              <p:nvPr/>
            </p:nvSpPr>
            <p:spPr>
              <a:xfrm>
                <a:off x="4952880" y="44956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52880" y="50432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76920" y="43434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76920" y="5181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952880" y="4966920"/>
                <a:ext cx="1526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4800240" y="489096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00600" y="4814640"/>
                <a:ext cx="304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4800240" y="473832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800600" y="466236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632640" y="3657600"/>
              <a:ext cx="419040" cy="457200"/>
              <a:chOff x="6632640" y="3657600"/>
              <a:chExt cx="419040" cy="457200"/>
            </a:xfrm>
          </p:grpSpPr>
          <p:sp>
            <p:nvSpPr>
              <p:cNvPr id="248" name=""/>
              <p:cNvSpPr/>
              <p:nvPr/>
            </p:nvSpPr>
            <p:spPr>
              <a:xfrm rot="5400000">
                <a:off x="6613560" y="3676680"/>
                <a:ext cx="457200" cy="4190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51680" y="36954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4952880" y="3886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288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58160" y="3733920"/>
              <a:ext cx="990360" cy="304560"/>
              <a:chOff x="5258160" y="3733920"/>
              <a:chExt cx="990360" cy="30456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5929560" y="388656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10440" y="388656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5400000">
                <a:off x="6095880" y="381024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5257800" y="381024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549040" y="37342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24640" y="3733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700960" y="3733920"/>
                <a:ext cx="763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77640" y="3733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53240" y="3886560"/>
                <a:ext cx="763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08660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4582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305920" y="4343400"/>
              <a:ext cx="304560" cy="990360"/>
              <a:chOff x="8305920" y="4343400"/>
              <a:chExt cx="304560" cy="990360"/>
            </a:xfrm>
          </p:grpSpPr>
          <p:sp>
            <p:nvSpPr>
              <p:cNvPr id="267" name=""/>
              <p:cNvSpPr/>
              <p:nvPr/>
            </p:nvSpPr>
            <p:spPr>
              <a:xfrm>
                <a:off x="8457840" y="44956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457840" y="5043240"/>
                <a:ext cx="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81880" y="434340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81880" y="5181480"/>
                <a:ext cx="1519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8457840" y="496692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8305920" y="489096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305920" y="4814640"/>
                <a:ext cx="3045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8305920" y="4738320"/>
                <a:ext cx="304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305920" y="4662360"/>
                <a:ext cx="151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952880" y="62485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952880" y="5943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01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5820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391520" y="4343400"/>
              <a:ext cx="457200" cy="1066680"/>
              <a:chOff x="7391520" y="4343400"/>
              <a:chExt cx="457200" cy="1066680"/>
            </a:xfrm>
          </p:grpSpPr>
          <p:sp>
            <p:nvSpPr>
              <p:cNvPr id="281" name=""/>
              <p:cNvSpPr/>
              <p:nvPr/>
            </p:nvSpPr>
            <p:spPr>
              <a:xfrm>
                <a:off x="7391520" y="4800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4495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9152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20120" y="4952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43800" y="43434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43800" y="5257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334120" y="40384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4572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58200" y="46483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F26-7295-4769-A075-DEA93CE42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L. Evans</cp:lastModifiedBy>
  <cp:lastPrinted>2001-01-11T04:39:01Z</cp:lastPrinted>
  <dcterms:modified xsi:type="dcterms:W3CDTF">2011-06-28T14:30:04Z</dcterms:modified>
  <cp:revision>446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