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0E5-36E0-472E-BB5A-290240F1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C12-E080-4446-83BE-FEB7669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F3D-494C-4A27-BAE7-DDA7CD3A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220-444A-4E08-BD82-50CA50DC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1BE-DCE0-4860-B3F0-80A6B4E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96C-3E5E-4154-99E0-845CF1A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0E2-5F15-4A7B-8169-AF2D9137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0E6-3B26-4A45-9B51-E1D58CE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CFB-D6AA-4A82-BD40-4FB70E3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69E-7A0A-4041-BE3A-89C5863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CE3-972E-423B-B405-4C8A8C9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EE6-7CF9-4AAB-80D7-32E7A6D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256080"/>
            <a:ext cx="12985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79840"/>
            <a:ext cx="64767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4640" y="6257520"/>
            <a:ext cx="1089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- </a:t>
            </a:r>
            <a:fld id="{79D738A8-240D-413F-8AB5-2D69A56F5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Wireless OFDM System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2120" y="2135160"/>
            <a:ext cx="76197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f. Robert W. Heath Jr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3260880"/>
            <a:ext cx="81709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ireless Systems Innovations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ireless Networking and Communication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partment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3560" y="2759040"/>
            <a:ext cx="531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heath@ece.utexas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5386320"/>
            <a:ext cx="531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ce.utexas.edu/~rheath/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n OFDM Symbo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206360"/>
            <a:ext cx="1371600" cy="163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16635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19684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21160" y="134604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1160" y="16509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21160" y="1955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59320" y="27306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151128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181620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119376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149868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180324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42080" y="2527200"/>
            <a:ext cx="406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7920" y="26668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2425680"/>
            <a:ext cx="622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33cc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33c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212076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1359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13000" y="120636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49760" y="226044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8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876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1181160"/>
            <a:ext cx="114480" cy="1625400"/>
          </a:xfrm>
          <a:custGeom>
            <a:avLst/>
            <a:gdLst>
              <a:gd name="textAreaLeft" fmla="*/ 0 w 114480"/>
              <a:gd name="textAreaRight" fmla="*/ 41400 w 114480"/>
              <a:gd name="textAreaTop" fmla="*/ 42120 h 1625400"/>
              <a:gd name="textAreaBottom" fmla="*/ 1583280 h 16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1701720"/>
            <a:ext cx="15238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25480" y="3216240"/>
            <a:ext cx="7475400" cy="1581480"/>
            <a:chOff x="825480" y="3216240"/>
            <a:chExt cx="7475400" cy="1581480"/>
          </a:xfrm>
        </p:grpSpPr>
        <p:sp>
          <p:nvSpPr>
            <p:cNvPr id="347" name=""/>
            <p:cNvSpPr/>
            <p:nvPr/>
          </p:nvSpPr>
          <p:spPr>
            <a:xfrm>
              <a:off x="2432160" y="4492440"/>
              <a:ext cx="12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5480" y="4492440"/>
              <a:ext cx="120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5920" y="4448160"/>
              <a:ext cx="205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P: Cyclic 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5400000">
              <a:off x="2901960" y="3026880"/>
              <a:ext cx="190080" cy="2629080"/>
            </a:xfrm>
            <a:custGeom>
              <a:avLst/>
              <a:gdLst>
                <a:gd name="textAreaLeft" fmla="*/ 0 w 190080"/>
                <a:gd name="textAreaRight" fmla="*/ 68760 w 190080"/>
                <a:gd name="textAreaTop" fmla="*/ 68400 h 2629080"/>
                <a:gd name="textAreaBottom" fmla="*/ 2560680 h 26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5400000">
              <a:off x="1239840" y="4048200"/>
              <a:ext cx="202680" cy="596880"/>
            </a:xfrm>
            <a:custGeom>
              <a:avLst/>
              <a:gdLst>
                <a:gd name="textAreaLeft" fmla="*/ 0 w 202680"/>
                <a:gd name="textAreaRight" fmla="*/ 73080 w 20268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2920" y="381924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58880" y="3821040"/>
              <a:ext cx="2055960" cy="38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6920" y="381924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0"/>
              <a:endCxn id="352" idx="0"/>
            </p:cNvCxnSpPr>
            <p:nvPr/>
          </p:nvCxnSpPr>
          <p:spPr>
            <a:xfrm rot="5400000">
              <a:off x="2679120" y="2490480"/>
              <a:ext cx="2160" cy="2659680"/>
            </a:xfrm>
            <a:prstGeom prst="curvedConnector5">
              <a:avLst>
                <a:gd name="adj1" fmla="val -31900000"/>
                <a:gd name="adj2" fmla="val 49993"/>
                <a:gd name="adj3" fmla="val -3190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4311720" y="381924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35600" y="3821040"/>
              <a:ext cx="2062080" cy="38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97680" y="381924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84160" y="382104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2560" y="380844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(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58" idx="0"/>
              <a:endCxn id="356" idx="0"/>
            </p:cNvCxnSpPr>
            <p:nvPr/>
          </p:nvCxnSpPr>
          <p:spPr>
            <a:xfrm rot="5400000">
              <a:off x="5958720" y="2479320"/>
              <a:ext cx="2160" cy="2682000"/>
            </a:xfrm>
            <a:prstGeom prst="curvedConnector5">
              <a:avLst>
                <a:gd name="adj1" fmla="val -33500000"/>
                <a:gd name="adj2" fmla="val 49993"/>
                <a:gd name="adj3" fmla="val -33500000"/>
              </a:avLst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2" name=""/>
            <p:cNvSpPr/>
            <p:nvPr/>
          </p:nvSpPr>
          <p:spPr>
            <a:xfrm>
              <a:off x="7702560" y="3935160"/>
              <a:ext cx="598320" cy="0"/>
            </a:xfrm>
            <a:prstGeom prst="line">
              <a:avLst/>
            </a:prstGeom>
            <a:ln cap="rnd" w="1015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27240" y="3283920"/>
              <a:ext cx="118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06840" y="3257280"/>
              <a:ext cx="1184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3320" y="4951080"/>
            <a:ext cx="82486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 difference with DMT          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input symbols!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?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Bandpass transmission allows for complex wavefor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t: y(t) = Re{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+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) exp(j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sin(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0000" y="4952880"/>
            <a:ext cx="520920" cy="393840"/>
          </a:xfrm>
          <a:prstGeom prst="rightArrow">
            <a:avLst>
              <a:gd name="adj1" fmla="val 50000"/>
              <a:gd name="adj2" fmla="val 33067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25F-EE28-49D3-88E5-46A41F274E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87320" y="4125960"/>
            <a:ext cx="8136000" cy="212076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1000" y="4643280"/>
            <a:ext cx="48600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19440" y="4657680"/>
            <a:ext cx="90144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AM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12920" y="4672080"/>
            <a:ext cx="838440" cy="1523880"/>
          </a:xfrm>
          <a:prstGeom prst="rect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1480" y="1571760"/>
            <a:ext cx="4572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70200" y="1571760"/>
            <a:ext cx="1233360" cy="15238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ure amplitude modulation (QAM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21240" y="1571760"/>
            <a:ext cx="79344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43520" y="1571760"/>
            <a:ext cx="68580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68960" y="1571760"/>
            <a:ext cx="48096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9920" y="1571760"/>
            <a:ext cx="9144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A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17840" y="4657680"/>
            <a:ext cx="90036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14920" y="4657680"/>
            <a:ext cx="48096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4657680"/>
            <a:ext cx="83844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990720"/>
            <a:ext cx="8077320" cy="22860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3276360"/>
            <a:ext cx="22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79440" y="3732120"/>
            <a:ext cx="129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1123920"/>
            <a:ext cx="170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4000" y="1123920"/>
            <a:ext cx="207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59400" y="4216320"/>
            <a:ext cx="211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00480" y="4216320"/>
            <a:ext cx="174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23120" y="4632480"/>
            <a:ext cx="87624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66000" y="3492360"/>
            <a:ext cx="1993680" cy="45720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th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0120" y="3171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50760" y="1600200"/>
            <a:ext cx="91440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5080" y="224460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33760" y="2933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33760" y="1736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33760" y="18986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77000" y="223200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40480" y="2933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736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40480" y="189864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62880" y="229536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921360" y="5386320"/>
            <a:ext cx="371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07200" y="53848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21784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21784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217840" y="603900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65560" y="53452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93336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93336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933360" y="6045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19240" y="532764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704680" y="48625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704680" y="50007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704680" y="6045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27200" y="530532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479600" y="48625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479600" y="500076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479600" y="60451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213840"/>
            <a:ext cx="82677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n OFDM Modem 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3920" y="1909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3920" y="228744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376360"/>
            <a:ext cx="80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115480" y="1418040"/>
            <a:ext cx="803520" cy="918720"/>
            <a:chOff x="8115480" y="1418040"/>
            <a:chExt cx="803520" cy="918720"/>
          </a:xfrm>
        </p:grpSpPr>
        <p:sp>
          <p:nvSpPr>
            <p:cNvPr id="422" name=""/>
            <p:cNvSpPr/>
            <p:nvPr/>
          </p:nvSpPr>
          <p:spPr>
            <a:xfrm rot="10864200">
              <a:off x="8508600" y="142164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15480" y="233676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8724960" y="181548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197920" y="4505040"/>
            <a:ext cx="701640" cy="918000"/>
            <a:chOff x="8197920" y="4505040"/>
            <a:chExt cx="701640" cy="918000"/>
          </a:xfrm>
        </p:grpSpPr>
        <p:sp>
          <p:nvSpPr>
            <p:cNvPr id="426" name=""/>
            <p:cNvSpPr/>
            <p:nvPr/>
          </p:nvSpPr>
          <p:spPr>
            <a:xfrm rot="10864200">
              <a:off x="8541000" y="4507920"/>
              <a:ext cx="35460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97920" y="5423040"/>
              <a:ext cx="52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730000" y="49017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21840" y="1690560"/>
            <a:ext cx="722160" cy="1751040"/>
          </a:xfrm>
          <a:custGeom>
            <a:avLst/>
            <a:gdLst/>
            <a:ahLst/>
            <a:rect l="l" t="t" r="r" b="b"/>
            <a:pathLst>
              <a:path w="396" h="992">
                <a:moveTo>
                  <a:pt x="311" y="0"/>
                </a:moveTo>
                <a:cubicBezTo>
                  <a:pt x="344" y="188"/>
                  <a:pt x="396" y="261"/>
                  <a:pt x="303" y="400"/>
                </a:cubicBezTo>
                <a:cubicBezTo>
                  <a:pt x="286" y="469"/>
                  <a:pt x="250" y="513"/>
                  <a:pt x="191" y="552"/>
                </a:cubicBezTo>
                <a:cubicBezTo>
                  <a:pt x="157" y="609"/>
                  <a:pt x="119" y="648"/>
                  <a:pt x="71" y="696"/>
                </a:cubicBezTo>
                <a:cubicBezTo>
                  <a:pt x="60" y="707"/>
                  <a:pt x="39" y="728"/>
                  <a:pt x="39" y="728"/>
                </a:cubicBezTo>
                <a:cubicBezTo>
                  <a:pt x="0" y="844"/>
                  <a:pt x="23" y="759"/>
                  <a:pt x="23" y="9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70800" y="4025880"/>
            <a:ext cx="208080" cy="368280"/>
          </a:xfrm>
          <a:custGeom>
            <a:avLst/>
            <a:gdLst/>
            <a:ahLst/>
            <a:rect l="l" t="t" r="r" b="b"/>
            <a:pathLst>
              <a:path w="131" h="232">
                <a:moveTo>
                  <a:pt x="0" y="0"/>
                </a:moveTo>
                <a:cubicBezTo>
                  <a:pt x="46" y="16"/>
                  <a:pt x="93" y="32"/>
                  <a:pt x="112" y="56"/>
                </a:cubicBezTo>
                <a:cubicBezTo>
                  <a:pt x="131" y="80"/>
                  <a:pt x="112" y="115"/>
                  <a:pt x="112" y="144"/>
                </a:cubicBezTo>
                <a:cubicBezTo>
                  <a:pt x="112" y="173"/>
                  <a:pt x="111" y="215"/>
                  <a:pt x="112" y="23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95800" y="225756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84480" y="29462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84480" y="174960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84480" y="191124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84440" y="225252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92200" y="2941560"/>
            <a:ext cx="387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09840" y="1744560"/>
            <a:ext cx="369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1906560"/>
            <a:ext cx="404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F38-2E76-4717-81E6-CF6A24896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 Domain Equaliz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arrier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ex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, …,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040" y="2678040"/>
            <a:ext cx="412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equency domain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46440" y="2876400"/>
            <a:ext cx="622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56280" y="3029040"/>
            <a:ext cx="431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00880" y="2825640"/>
            <a:ext cx="431640" cy="43200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032520" y="3029040"/>
            <a:ext cx="317520" cy="2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816520" y="3231720"/>
            <a:ext cx="0" cy="46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47040" y="3676680"/>
            <a:ext cx="374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70360" y="2914560"/>
            <a:ext cx="165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603840" y="3016080"/>
            <a:ext cx="114480" cy="12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040" y="4290840"/>
            <a:ext cx="82551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ise enhancement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0440" y="5384880"/>
            <a:ext cx="2387520" cy="984240"/>
          </a:xfrm>
          <a:custGeom>
            <a:avLst/>
            <a:gdLst/>
            <a:ahLst/>
            <a:rect l="l" t="t" r="r" b="b"/>
            <a:pathLst>
              <a:path w="1504" h="620">
                <a:moveTo>
                  <a:pt x="0" y="544"/>
                </a:moveTo>
                <a:cubicBezTo>
                  <a:pt x="122" y="329"/>
                  <a:pt x="245" y="115"/>
                  <a:pt x="360" y="64"/>
                </a:cubicBezTo>
                <a:cubicBezTo>
                  <a:pt x="475" y="13"/>
                  <a:pt x="597" y="243"/>
                  <a:pt x="688" y="240"/>
                </a:cubicBezTo>
                <a:cubicBezTo>
                  <a:pt x="779" y="237"/>
                  <a:pt x="784" y="0"/>
                  <a:pt x="904" y="48"/>
                </a:cubicBezTo>
                <a:cubicBezTo>
                  <a:pt x="1024" y="96"/>
                  <a:pt x="1312" y="436"/>
                  <a:pt x="1408" y="528"/>
                </a:cubicBezTo>
                <a:cubicBezTo>
                  <a:pt x="1504" y="620"/>
                  <a:pt x="1468" y="588"/>
                  <a:pt x="1480" y="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254480" y="5308560"/>
            <a:ext cx="2362320" cy="996840"/>
          </a:xfrm>
          <a:custGeom>
            <a:avLst/>
            <a:gdLst/>
            <a:ahLst/>
            <a:rect l="l" t="t" r="r" b="b"/>
            <a:pathLst>
              <a:path w="1488" h="628">
                <a:moveTo>
                  <a:pt x="0" y="0"/>
                </a:moveTo>
                <a:cubicBezTo>
                  <a:pt x="106" y="289"/>
                  <a:pt x="213" y="579"/>
                  <a:pt x="320" y="600"/>
                </a:cubicBezTo>
                <a:cubicBezTo>
                  <a:pt x="427" y="621"/>
                  <a:pt x="547" y="127"/>
                  <a:pt x="640" y="128"/>
                </a:cubicBezTo>
                <a:cubicBezTo>
                  <a:pt x="733" y="129"/>
                  <a:pt x="739" y="628"/>
                  <a:pt x="880" y="608"/>
                </a:cubicBezTo>
                <a:cubicBezTo>
                  <a:pt x="1021" y="588"/>
                  <a:pt x="1387" y="108"/>
                  <a:pt x="1488" y="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7840" y="51811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5240" y="6311880"/>
            <a:ext cx="2501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127400" y="5333760"/>
            <a:ext cx="0" cy="118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6640" y="6477120"/>
            <a:ext cx="2895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04320" y="6337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7520" y="4952880"/>
            <a:ext cx="457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465800" y="4335480"/>
            <a:ext cx="2552400" cy="4474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51160" y="5346720"/>
            <a:ext cx="889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84360" y="63500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81680" y="6058080"/>
            <a:ext cx="111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85080" y="5410080"/>
            <a:ext cx="64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06960" y="6235560"/>
            <a:ext cx="965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616440" y="5562720"/>
            <a:ext cx="393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4C9-D32C-43C1-811D-F3DE62CF2F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MT vs. OFD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3680" y="995040"/>
            <a:ext cx="825480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M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changes very slowly ~ 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 gains known at 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loading (sending more bi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nels) increases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may change quickly ~ 1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ough time to convey gains to 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error correction mitigates problems on bad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73320" y="435600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61498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5437080"/>
            <a:ext cx="216000" cy="660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52340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3600" y="4998960"/>
            <a:ext cx="241200" cy="109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15000" y="49039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4865760"/>
            <a:ext cx="21600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4802040"/>
            <a:ext cx="25416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47703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4770360"/>
            <a:ext cx="21600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4840200"/>
            <a:ext cx="228600" cy="125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4916520"/>
            <a:ext cx="21600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6200" y="5018040"/>
            <a:ext cx="216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5151600"/>
            <a:ext cx="21600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5151600"/>
            <a:ext cx="241200" cy="946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5265720"/>
            <a:ext cx="21600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1800" y="5049720"/>
            <a:ext cx="216000" cy="1047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7642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89040" y="4548240"/>
            <a:ext cx="241560" cy="15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44467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31840" y="44085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0" y="44593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46562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64320" y="57038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697040" y="4619160"/>
            <a:ext cx="0" cy="1490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932120" y="44895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70080" y="43779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386080" y="4390920"/>
            <a:ext cx="0" cy="173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617920" y="45752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84652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08448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313080" y="52642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522600" y="51843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760920" y="5146200"/>
            <a:ext cx="0" cy="96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989520" y="5022360"/>
            <a:ext cx="0" cy="108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218120" y="491796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411800" y="4905000"/>
            <a:ext cx="2520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03920" y="47689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12280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361120" y="48164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589720" y="48610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827680" y="49208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4692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284880" y="52383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23200" y="54543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75040" y="3846600"/>
            <a:ext cx="288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MT: Send more data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168280" y="4014720"/>
            <a:ext cx="755640" cy="27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32120" y="4194000"/>
            <a:ext cx="58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DM: Try to code so bad subchannels can b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2640" y="4546440"/>
            <a:ext cx="660600" cy="105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86C-B9B4-45FD-90F6-CA3AACCF67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ded OFDM (COFDM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rror correction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cessa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OFDM syste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ward error correction (FEC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redundancy to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convolutional codes, block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s the effects of bad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overall throughput according to the coding rate k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tomatic repeat request (AR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error detecting ability to data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16-bit cyclic redundanc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tect errors in an OFDM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packets are retransmitted (hopefully the channel chan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used with 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us: Ineffective in broadca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CFA-9FC6-49CC-8A9B-2B17E4FD6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ypical Coded OFDM Encod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1714680"/>
            <a:ext cx="1676520" cy="8380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806560"/>
            <a:ext cx="1676520" cy="8384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04840" y="3987720"/>
            <a:ext cx="1676520" cy="838440"/>
          </a:xfrm>
          <a:prstGeom prst="rect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68480" y="25653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17720" y="3645000"/>
            <a:ext cx="0" cy="34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74840" y="1752480"/>
            <a:ext cx="514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ed-Solomon and/or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74840" y="3174840"/>
            <a:ext cx="424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sperse coded and un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78240" y="2247840"/>
            <a:ext cx="1955880" cy="33012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46720" y="2247840"/>
            <a:ext cx="1955880" cy="33012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ity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05640" y="267984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32280" y="4241880"/>
            <a:ext cx="222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 bits to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511960" y="3701880"/>
            <a:ext cx="2844720" cy="26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A8C-07F3-4CDC-9682-9E89DD627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xample: IEEE 802.11a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3680" y="478584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EEE 802.11 employs adaptive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rate &amp; modulation depends on distance from bas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data rate varies from 6 Mbps to 5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395360" y="1158840"/>
            <a:ext cx="6224760" cy="34606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851040" y="6324480"/>
            <a:ext cx="562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: IE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802.11a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46E-2E1D-4336-B1BC-1709D1A80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ypical Coded OFDM Decod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6240" y="1714680"/>
            <a:ext cx="2057400" cy="838080"/>
          </a:xfrm>
          <a:prstGeom prst="rect">
            <a:avLst/>
          </a:prstGeom>
          <a:solidFill>
            <a:srgbClr val="bbd7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-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54080" y="2806560"/>
            <a:ext cx="1765440" cy="8384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04840" y="3987720"/>
            <a:ext cx="1676520" cy="838440"/>
          </a:xfrm>
          <a:prstGeom prst="rect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68480" y="25653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17720" y="3645000"/>
            <a:ext cx="0" cy="34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92240" y="5181480"/>
            <a:ext cx="1676520" cy="838440"/>
          </a:xfrm>
          <a:prstGeom prst="rect">
            <a:avLst/>
          </a:prstGeom>
          <a:solidFill>
            <a:srgbClr val="0099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7720" y="4851360"/>
            <a:ext cx="0" cy="34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359160" y="1230120"/>
            <a:ext cx="405144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bol demapp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 soft estimate of each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s 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356000" y="4087800"/>
            <a:ext cx="2838600" cy="2543040"/>
            <a:chOff x="4356000" y="4087800"/>
            <a:chExt cx="2838600" cy="254304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4356000" y="4087800"/>
              <a:ext cx="2838600" cy="254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9" name=""/>
            <p:cNvGrpSpPr/>
            <p:nvPr/>
          </p:nvGrpSpPr>
          <p:grpSpPr>
            <a:xfrm>
              <a:off x="4813200" y="5054400"/>
              <a:ext cx="1523880" cy="253800"/>
              <a:chOff x="4813200" y="5054400"/>
              <a:chExt cx="1523880" cy="253800"/>
            </a:xfrm>
          </p:grpSpPr>
          <p:sp>
            <p:nvSpPr>
              <p:cNvPr id="560" name=""/>
              <p:cNvSpPr/>
              <p:nvPr/>
            </p:nvSpPr>
            <p:spPr>
              <a:xfrm>
                <a:off x="4813200" y="5168880"/>
                <a:ext cx="152280" cy="139320"/>
              </a:xfrm>
              <a:prstGeom prst="ellipse">
                <a:avLst/>
              </a:prstGeom>
              <a:solidFill>
                <a:srgbClr val="ff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78080" y="5054400"/>
                <a:ext cx="292320" cy="139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940280" y="5067360"/>
                <a:ext cx="1396800" cy="151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359160" y="2413080"/>
            <a:ext cx="4970520" cy="14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057-516C-4C5B-AF7F-89721ED290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46440" y="1171440"/>
            <a:ext cx="3954600" cy="2027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pectrum Shaping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3320" y="1065240"/>
            <a:ext cx="408276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CC manages spectru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cifies power spectral density mask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acent channel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-off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lications to OFD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tones on edge of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domain windowing ‘smoothes’ adjacen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359000"/>
            <a:ext cx="1054080" cy="1866960"/>
          </a:xfrm>
          <a:prstGeom prst="rect">
            <a:avLst/>
          </a:prstGeom>
          <a:noFill/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88200" y="723960"/>
            <a:ext cx="189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42080" y="2870280"/>
            <a:ext cx="125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0040" y="882720"/>
            <a:ext cx="187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acen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78440" y="1244520"/>
            <a:ext cx="12600" cy="838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79960" y="1130400"/>
            <a:ext cx="2184480" cy="72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6502320"/>
            <a:ext cx="341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: Std 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46440" y="6097680"/>
            <a:ext cx="3988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78480" y="4865760"/>
            <a:ext cx="8892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375240" y="3960720"/>
            <a:ext cx="0" cy="2152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64320" y="56912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67400" y="4865760"/>
            <a:ext cx="889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9560" y="4865760"/>
            <a:ext cx="88920" cy="1218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8480" y="4865760"/>
            <a:ext cx="889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40640" y="4865760"/>
            <a:ext cx="889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29560" y="4865760"/>
            <a:ext cx="889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5440" y="4870440"/>
            <a:ext cx="88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97600" y="4870440"/>
            <a:ext cx="88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86520" y="4870440"/>
            <a:ext cx="889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8680" y="4870440"/>
            <a:ext cx="88920" cy="1219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67600" y="4870440"/>
            <a:ext cx="88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3403440"/>
            <a:ext cx="187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917680" y="3860640"/>
            <a:ext cx="203400" cy="927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03840" y="3911760"/>
            <a:ext cx="254160" cy="86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51640" y="4827600"/>
            <a:ext cx="711000" cy="1268280"/>
          </a:xfrm>
          <a:custGeom>
            <a:avLst/>
            <a:gdLst/>
            <a:ahLst/>
            <a:rect l="l" t="t" r="r" b="b"/>
            <a:pathLst>
              <a:path w="448" h="799">
                <a:moveTo>
                  <a:pt x="0" y="799"/>
                </a:moveTo>
                <a:cubicBezTo>
                  <a:pt x="82" y="749"/>
                  <a:pt x="165" y="699"/>
                  <a:pt x="208" y="599"/>
                </a:cubicBezTo>
                <a:cubicBezTo>
                  <a:pt x="251" y="499"/>
                  <a:pt x="236" y="294"/>
                  <a:pt x="256" y="199"/>
                </a:cubicBezTo>
                <a:cubicBezTo>
                  <a:pt x="276" y="104"/>
                  <a:pt x="296" y="62"/>
                  <a:pt x="328" y="31"/>
                </a:cubicBezTo>
                <a:cubicBezTo>
                  <a:pt x="360" y="0"/>
                  <a:pt x="404" y="7"/>
                  <a:pt x="448" y="15"/>
                </a:cubicBezTo>
              </a:path>
            </a:pathLst>
          </a:custGeom>
          <a:noFill/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301760" y="4292640"/>
            <a:ext cx="2533680" cy="2409840"/>
            <a:chOff x="1301760" y="4292640"/>
            <a:chExt cx="2533680" cy="2409840"/>
          </a:xfrm>
        </p:grpSpPr>
        <p:pic>
          <p:nvPicPr>
            <p:cNvPr id="593" name="" descr=""/>
            <p:cNvPicPr/>
            <p:nvPr/>
          </p:nvPicPr>
          <p:blipFill>
            <a:blip r:embed="rId2"/>
            <a:stretch/>
          </p:blipFill>
          <p:spPr>
            <a:xfrm>
              <a:off x="1301760" y="4292640"/>
              <a:ext cx="25336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866960" y="5626080"/>
              <a:ext cx="147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357-9D87-445E-A9E1-1A72582307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deal Channel Estim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35080" y="887040"/>
            <a:ext cx="82548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hannels change frequently ~ 10 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quire frequent channel esti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systems use pilot tones – known symb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k 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 solv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j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k l/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o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=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j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k l /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significant compu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pilot ton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noise resi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throughput (pilots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31760" y="436896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3200" y="6110280"/>
            <a:ext cx="7619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45400" y="58309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16800" y="5716440"/>
            <a:ext cx="228600" cy="393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88200" y="56214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9600" y="5450040"/>
            <a:ext cx="215640" cy="660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1000" y="52466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2400" y="5011560"/>
            <a:ext cx="241200" cy="1098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73800" y="49165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45200" y="4878360"/>
            <a:ext cx="21564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16600" y="4815000"/>
            <a:ext cx="2538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88000" y="47829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59400" y="4782960"/>
            <a:ext cx="21564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30800" y="4795920"/>
            <a:ext cx="228600" cy="1314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02200" y="4853160"/>
            <a:ext cx="228600" cy="1257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73600" y="4929120"/>
            <a:ext cx="21564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45000" y="5030640"/>
            <a:ext cx="21564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6400" y="5164200"/>
            <a:ext cx="21564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87800" y="5164200"/>
            <a:ext cx="241200" cy="946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5278320"/>
            <a:ext cx="21564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30600" y="5062680"/>
            <a:ext cx="215640" cy="10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02000" y="47768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47840" y="4560840"/>
            <a:ext cx="241200" cy="15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44800" y="44593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0640" y="44211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87600" y="44719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59000" y="46688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30400" y="4890960"/>
            <a:ext cx="228600" cy="12193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060560" y="4154040"/>
            <a:ext cx="0" cy="196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23120" y="570384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-217800" y="47466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1252080" y="48780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455840" y="4632480"/>
            <a:ext cx="0" cy="1490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690560" y="45021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1928880" y="43905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144880" y="4403520"/>
            <a:ext cx="0" cy="173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376360" y="45878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04960" y="48290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84328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071880" y="52768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281400" y="51969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519360" y="5159520"/>
            <a:ext cx="0" cy="963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747960" y="5035680"/>
            <a:ext cx="0" cy="1085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976560" y="493092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4169880" y="4917600"/>
            <a:ext cx="2556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433760" y="47815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62360" y="47815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81600" y="48290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119560" y="48290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348160" y="48736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586480" y="49334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80536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719760" y="57146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43680" y="52509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281640" y="54669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500880" y="56102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48360" y="58384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83280" y="4432320"/>
            <a:ext cx="2832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931000" y="4826160"/>
            <a:ext cx="952560" cy="16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858000" y="4788000"/>
            <a:ext cx="66024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BDE-BD49-4397-AC26-5ED17EEDA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Systems &amp; Application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3680" y="3648240"/>
            <a:ext cx="8254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thogonal Frequency Division Multiplexing (OF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gital modula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ounterpart to discrete multiton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 in a variety of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igh-speed internet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6720" y="1111320"/>
          <a:ext cx="852516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111320"/>
                    <a:ext cx="852516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9E5-CEE4-4643-97DD-8879BFFC01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hannel Estimation Via Interpo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3680" y="1052280"/>
            <a:ext cx="82548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fficient approach is interpo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pilot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olate unknown values using interpolation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interpolation filter: more computation, timing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1dB loss in performance in practical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31760" y="436896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3200" y="6110280"/>
            <a:ext cx="7619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16800" y="5716440"/>
            <a:ext cx="228600" cy="393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02400" y="5011560"/>
            <a:ext cx="241200" cy="1098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16600" y="4815000"/>
            <a:ext cx="2538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02200" y="4853160"/>
            <a:ext cx="228600" cy="1257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87800" y="5164200"/>
            <a:ext cx="241200" cy="946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47840" y="4560840"/>
            <a:ext cx="241200" cy="1549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30400" y="4890960"/>
            <a:ext cx="228600" cy="12193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060560" y="4154040"/>
            <a:ext cx="0" cy="196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23120" y="566568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-217800" y="47466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1252080" y="4878000"/>
            <a:ext cx="324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76360" y="45878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281400" y="51969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169880" y="4917600"/>
            <a:ext cx="2556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19560" y="48290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805360" y="50796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19760" y="57146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206360" y="4622760"/>
            <a:ext cx="1117800" cy="2412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74920" y="4622760"/>
            <a:ext cx="863640" cy="6094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63760" y="4876920"/>
            <a:ext cx="901800" cy="342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165560" y="4775040"/>
            <a:ext cx="901800" cy="763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92560" y="4800600"/>
            <a:ext cx="723960" cy="216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29480" y="5067360"/>
            <a:ext cx="876240" cy="6732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345-F746-436D-9028-C5FE4CF0A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and Antenna Divers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reless channels suffer from multipath fad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enna diversity is a means of compensating for fad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ampl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ransmit Delay Diversit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29120" y="2484720"/>
            <a:ext cx="803520" cy="918720"/>
            <a:chOff x="4029120" y="2484720"/>
            <a:chExt cx="803520" cy="918720"/>
          </a:xfrm>
        </p:grpSpPr>
        <p:sp>
          <p:nvSpPr>
            <p:cNvPr id="687" name=""/>
            <p:cNvSpPr/>
            <p:nvPr/>
          </p:nvSpPr>
          <p:spPr>
            <a:xfrm rot="10864200">
              <a:off x="4422240" y="24883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29120" y="3403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638600" y="28821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29120" y="3742200"/>
            <a:ext cx="803520" cy="918720"/>
            <a:chOff x="4029120" y="3742200"/>
            <a:chExt cx="803520" cy="918720"/>
          </a:xfrm>
        </p:grpSpPr>
        <p:sp>
          <p:nvSpPr>
            <p:cNvPr id="691" name=""/>
            <p:cNvSpPr/>
            <p:nvPr/>
          </p:nvSpPr>
          <p:spPr>
            <a:xfrm rot="10864200">
              <a:off x="4422240" y="374580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29120" y="466092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638600" y="413964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58880" y="3041640"/>
            <a:ext cx="1981080" cy="72396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3800" y="4343400"/>
            <a:ext cx="888840" cy="6224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4" idx="3"/>
            <a:endCxn id="688" idx="0"/>
          </p:cNvCxnSpPr>
          <p:nvPr/>
        </p:nvCxnSpPr>
        <p:spPr>
          <a:xfrm flipV="1">
            <a:off x="2755440" y="3387240"/>
            <a:ext cx="1274040" cy="165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4" idx="3"/>
            <a:endCxn id="695" idx="1"/>
          </p:cNvCxnSpPr>
          <p:nvPr/>
        </p:nvCxnSpPr>
        <p:spPr>
          <a:xfrm>
            <a:off x="2755800" y="3403080"/>
            <a:ext cx="362520" cy="12517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7339320" y="2472120"/>
            <a:ext cx="817200" cy="931320"/>
            <a:chOff x="7339320" y="2472120"/>
            <a:chExt cx="817200" cy="931320"/>
          </a:xfrm>
        </p:grpSpPr>
        <p:sp>
          <p:nvSpPr>
            <p:cNvPr id="699" name=""/>
            <p:cNvSpPr/>
            <p:nvPr/>
          </p:nvSpPr>
          <p:spPr>
            <a:xfrm rot="10864200">
              <a:off x="7343280" y="24757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59640" y="3403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559640" y="2869560"/>
              <a:ext cx="0" cy="52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962600" y="2662200"/>
            <a:ext cx="1841400" cy="270000"/>
          </a:xfrm>
          <a:custGeom>
            <a:avLst/>
            <a:gdLst/>
            <a:ahLst/>
            <a:rect l="l" t="t" r="r" b="b"/>
            <a:pathLst>
              <a:path w="1160" h="170">
                <a:moveTo>
                  <a:pt x="0" y="91"/>
                </a:moveTo>
                <a:cubicBezTo>
                  <a:pt x="202" y="45"/>
                  <a:pt x="404" y="0"/>
                  <a:pt x="496" y="11"/>
                </a:cubicBezTo>
                <a:cubicBezTo>
                  <a:pt x="588" y="22"/>
                  <a:pt x="441" y="140"/>
                  <a:pt x="552" y="155"/>
                </a:cubicBezTo>
                <a:cubicBezTo>
                  <a:pt x="663" y="170"/>
                  <a:pt x="1055" y="111"/>
                  <a:pt x="1160" y="99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24440" y="3111480"/>
            <a:ext cx="2184480" cy="1015920"/>
          </a:xfrm>
          <a:custGeom>
            <a:avLst/>
            <a:gdLst/>
            <a:ahLst/>
            <a:rect l="l" t="t" r="r" b="b"/>
            <a:pathLst>
              <a:path w="1376" h="640">
                <a:moveTo>
                  <a:pt x="0" y="640"/>
                </a:moveTo>
                <a:cubicBezTo>
                  <a:pt x="176" y="505"/>
                  <a:pt x="352" y="371"/>
                  <a:pt x="512" y="328"/>
                </a:cubicBezTo>
                <a:cubicBezTo>
                  <a:pt x="672" y="285"/>
                  <a:pt x="816" y="439"/>
                  <a:pt x="960" y="384"/>
                </a:cubicBezTo>
                <a:cubicBezTo>
                  <a:pt x="1104" y="329"/>
                  <a:pt x="1240" y="164"/>
                  <a:pt x="137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35800" y="2349360"/>
            <a:ext cx="73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9800" y="3809880"/>
            <a:ext cx="73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6600" y="5211720"/>
            <a:ext cx="8254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channel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channel taps = more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oos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large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1D0-547C-43B4-8EF6-3C223409C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FDM and MIMO System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input multiple-output (MIMO) system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 transmit and multiple receive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system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on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ector inputs &amp; outputs!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e Wireless Sys. Innovations Lab Web page for more info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93760" y="2282040"/>
            <a:ext cx="6477120" cy="2556720"/>
            <a:chOff x="1193760" y="2282040"/>
            <a:chExt cx="6477120" cy="2556720"/>
          </a:xfrm>
        </p:grpSpPr>
        <p:grpSp>
          <p:nvGrpSpPr>
            <p:cNvPr id="710" name=""/>
            <p:cNvGrpSpPr/>
            <p:nvPr/>
          </p:nvGrpSpPr>
          <p:grpSpPr>
            <a:xfrm>
              <a:off x="3181320" y="2294640"/>
              <a:ext cx="803520" cy="918720"/>
              <a:chOff x="3181320" y="2294640"/>
              <a:chExt cx="803520" cy="918720"/>
            </a:xfrm>
          </p:grpSpPr>
          <p:sp>
            <p:nvSpPr>
              <p:cNvPr id="711" name=""/>
              <p:cNvSpPr/>
              <p:nvPr/>
            </p:nvSpPr>
            <p:spPr>
              <a:xfrm rot="10864200">
                <a:off x="3574440" y="2298240"/>
                <a:ext cx="406440" cy="431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321336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790800" y="2692080"/>
                <a:ext cx="0" cy="520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181320" y="3551760"/>
              <a:ext cx="803520" cy="918720"/>
              <a:chOff x="3181320" y="3551760"/>
              <a:chExt cx="803520" cy="918720"/>
            </a:xfrm>
          </p:grpSpPr>
          <p:sp>
            <p:nvSpPr>
              <p:cNvPr id="715" name=""/>
              <p:cNvSpPr/>
              <p:nvPr/>
            </p:nvSpPr>
            <p:spPr>
              <a:xfrm rot="10864200">
                <a:off x="3574440" y="3555360"/>
                <a:ext cx="406440" cy="431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81320" y="447048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90800" y="3949200"/>
                <a:ext cx="0" cy="520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24840" y="2282040"/>
              <a:ext cx="817200" cy="931320"/>
              <a:chOff x="5424840" y="2282040"/>
              <a:chExt cx="817200" cy="931320"/>
            </a:xfrm>
          </p:grpSpPr>
          <p:sp>
            <p:nvSpPr>
              <p:cNvPr id="719" name=""/>
              <p:cNvSpPr/>
              <p:nvPr/>
            </p:nvSpPr>
            <p:spPr>
              <a:xfrm rot="10864200">
                <a:off x="5428800" y="2285640"/>
                <a:ext cx="406440" cy="4320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45160" y="321336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5645160" y="2679840"/>
                <a:ext cx="0" cy="520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424840" y="3526560"/>
              <a:ext cx="817200" cy="931320"/>
              <a:chOff x="5424840" y="3526560"/>
              <a:chExt cx="817200" cy="931320"/>
            </a:xfrm>
          </p:grpSpPr>
          <p:sp>
            <p:nvSpPr>
              <p:cNvPr id="723" name=""/>
              <p:cNvSpPr/>
              <p:nvPr/>
            </p:nvSpPr>
            <p:spPr>
              <a:xfrm rot="10864200">
                <a:off x="5428800" y="3530160"/>
                <a:ext cx="406440" cy="4320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45160" y="4457880"/>
                <a:ext cx="5968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645160" y="3924360"/>
                <a:ext cx="0" cy="520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206720" y="2774880"/>
              <a:ext cx="1981080" cy="72396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93760" y="4083120"/>
              <a:ext cx="1981440" cy="72396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DM 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22960" y="2882880"/>
              <a:ext cx="1447920" cy="1955880"/>
            </a:xfrm>
            <a:prstGeom prst="rect">
              <a:avLst/>
            </a:prstGeom>
            <a:solidFill>
              <a:srgbClr val="0099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30800" y="3530520"/>
              <a:ext cx="914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CCC-76BF-437E-9BE0-94FFA6FB85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hy OFDM in Broadcast?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71000" y="1026720"/>
            <a:ext cx="8318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ables Single Frequency Network (SFN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ransmit antennas geographically sepa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same radio/TV channel frequency throughout a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rtificially large delay spread – OFDM has no problem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888840" y="2557440"/>
            <a:ext cx="5253120" cy="3549600"/>
            <a:chOff x="888840" y="2557440"/>
            <a:chExt cx="5253120" cy="3549600"/>
          </a:xfrm>
        </p:grpSpPr>
        <p:graphicFrame>
          <p:nvGraphicFramePr>
            <p:cNvPr id="733" name=""/>
            <p:cNvGraphicFramePr/>
            <p:nvPr/>
          </p:nvGraphicFramePr>
          <p:xfrm>
            <a:off x="888840" y="3164040"/>
            <a:ext cx="744840" cy="236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8840" y="3164040"/>
                      <a:ext cx="74484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5" name=""/>
            <p:cNvGraphicFramePr/>
            <p:nvPr/>
          </p:nvGraphicFramePr>
          <p:xfrm>
            <a:off x="5626080" y="2557440"/>
            <a:ext cx="515880" cy="16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26080" y="2557440"/>
                      <a:ext cx="515880" cy="16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7" name=""/>
            <p:cNvSpPr/>
            <p:nvPr/>
          </p:nvSpPr>
          <p:spPr>
            <a:xfrm>
              <a:off x="1530360" y="3716280"/>
              <a:ext cx="698400" cy="432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28760" y="4160880"/>
              <a:ext cx="88920" cy="60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30280" y="4782960"/>
              <a:ext cx="457200" cy="419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768560" y="2954160"/>
              <a:ext cx="888840" cy="939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654440" y="3881520"/>
              <a:ext cx="114480" cy="482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44600" y="4338720"/>
              <a:ext cx="609480" cy="59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2649600" y="5049360"/>
              <a:ext cx="1407960" cy="1057680"/>
              <a:chOff x="2649600" y="5049360"/>
              <a:chExt cx="1407960" cy="1057680"/>
            </a:xfrm>
          </p:grpSpPr>
          <p:graphicFrame>
            <p:nvGraphicFramePr>
              <p:cNvPr id="744" name=""/>
              <p:cNvGraphicFramePr/>
              <p:nvPr/>
            </p:nvGraphicFramePr>
            <p:xfrm>
              <a:off x="2649600" y="5108400"/>
              <a:ext cx="1407960" cy="998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49600" y="5108400"/>
                        <a:ext cx="1407960" cy="9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6" name=""/>
              <p:cNvSpPr/>
              <p:nvPr/>
            </p:nvSpPr>
            <p:spPr>
              <a:xfrm flipV="1">
                <a:off x="3890880" y="5049360"/>
                <a:ext cx="0" cy="444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V="1">
              <a:off x="1542960" y="2852640"/>
              <a:ext cx="3975120" cy="812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05000" y="3360600"/>
              <a:ext cx="9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5205240" y="4272120"/>
            <a:ext cx="300672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8A7-3C31-4AAA-8375-F013DF038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hy OFDM for High-Speed Internet Access?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gh-speed data transmis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dwidths -&gt; high rate, many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sampling periods -&gt; delay spread becomes a serious impai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ch 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R than voic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pro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dvantage of multipath through simple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c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ation requirements are much more 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re complex algorithms for time / frequency sy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-to-average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 lo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 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ignal peaks require higher power ampl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er cost grows nonlinearly with require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0B7-5409-46EB-B994-37BB4E304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ase Study: IEEE 802.11a Wireless LA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 paramet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: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ones used 52 (12 zero t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pilots 4 (data tones = 52-4 = 48 t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: 2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arrier spacing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 MHz / 64 = 312.5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symbol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.2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8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dura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387520" y="5076720"/>
            <a:ext cx="3486240" cy="1020240"/>
            <a:chOff x="2387520" y="5076720"/>
            <a:chExt cx="3486240" cy="1020240"/>
          </a:xfrm>
        </p:grpSpPr>
        <p:sp>
          <p:nvSpPr>
            <p:cNvPr id="755" name=""/>
            <p:cNvSpPr/>
            <p:nvPr/>
          </p:nvSpPr>
          <p:spPr>
            <a:xfrm>
              <a:off x="3994200" y="5749920"/>
              <a:ext cx="1206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87520" y="5749920"/>
              <a:ext cx="1206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5400000">
              <a:off x="4464000" y="4283280"/>
              <a:ext cx="190440" cy="2629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68400 h 2629080"/>
                <a:gd name="textAreaBottom" fmla="*/ 2560680 h 26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5400000">
              <a:off x="2801880" y="5306760"/>
              <a:ext cx="203040" cy="5968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04960" y="5076720"/>
              <a:ext cx="615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20920" y="5078160"/>
              <a:ext cx="205596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68960" y="5076720"/>
              <a:ext cx="604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6200" y="5078160"/>
              <a:ext cx="234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 y  m  b  o  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883-9148-4B1D-AC81-16ECCE5C27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ase Study: IEEE 802.11a WLA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5600880" y="1096920"/>
          <a:ext cx="3390840" cy="2263680"/>
        </p:xfrm>
        <a:graphic>
          <a:graphicData uri="http://schemas.openxmlformats.org/drawingml/2006/table">
            <a:tbl>
              <a:tblPr/>
              <a:tblGrid>
                <a:gridCol w="1650960"/>
                <a:gridCol w="1739880"/>
              </a:tblGrid>
              <a:tr h="1027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quency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nd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ximum Outpu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6dBi antenna gain)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15 – 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25 – 5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.725-5.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5" name=""/>
          <p:cNvSpPr/>
          <p:nvPr/>
        </p:nvSpPr>
        <p:spPr>
          <a:xfrm>
            <a:off x="457200" y="1219320"/>
            <a:ext cx="50292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: BPSK, QPSK, 16-QAM,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rate: 1 / 2, 2 / 3, 3 /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7 (64 states)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977760" y="3403440"/>
            <a:ext cx="6010560" cy="30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EB0-08E4-4A22-8625-1FF3C0772E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ireless Digital Communication Syste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2552760"/>
            <a:ext cx="520560" cy="52056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64200">
            <a:off x="6908400" y="1955160"/>
            <a:ext cx="40644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960" y="1231920"/>
            <a:ext cx="1359000" cy="8254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2362320"/>
            <a:ext cx="1359000" cy="8254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1800" y="2425680"/>
            <a:ext cx="1486080" cy="82548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84200" y="2057400"/>
            <a:ext cx="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2793960"/>
            <a:ext cx="34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1680" y="28195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15280" y="2870280"/>
            <a:ext cx="596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24760" y="2349000"/>
            <a:ext cx="0" cy="52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19720" y="3072960"/>
            <a:ext cx="0" cy="585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6840" y="3681360"/>
            <a:ext cx="1612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51240" y="2387520"/>
            <a:ext cx="1358640" cy="82548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5440" y="2806560"/>
            <a:ext cx="34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61080" y="3429000"/>
            <a:ext cx="2521080" cy="206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360" y="4097160"/>
            <a:ext cx="30988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frequenc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adio 88.5-107.7 MHz (0.2 MHz station spac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 cellular 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llular 1.8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651640"/>
            <a:ext cx="2171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sed cos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shaping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26800" y="1384200"/>
            <a:ext cx="233568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2840" y="1181160"/>
            <a:ext cx="233640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1015920"/>
            <a:ext cx="233640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5200" y="901800"/>
            <a:ext cx="2335680" cy="21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0840" y="1244520"/>
            <a:ext cx="175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8DF-C8EB-4EA5-99F1-216FA3A3F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ireless Digital Communication Syste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11720" y="4857840"/>
            <a:ext cx="520560" cy="520560"/>
          </a:xfrm>
          <a:prstGeom prst="flowChartSummingJunction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64200">
            <a:off x="1561680" y="4235040"/>
            <a:ext cx="40644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97680" y="3701880"/>
            <a:ext cx="1359000" cy="8258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18120" y="4730760"/>
            <a:ext cx="1523880" cy="82548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6440" y="4680000"/>
            <a:ext cx="1486080" cy="82548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2280" y="512460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40320" y="537804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65600" y="6191280"/>
            <a:ext cx="1612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(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5080" y="4768920"/>
            <a:ext cx="1359000" cy="8254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5111640"/>
            <a:ext cx="34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39520" y="4641840"/>
            <a:ext cx="1260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4680" y="5099040"/>
            <a:ext cx="749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42000" y="5149800"/>
            <a:ext cx="317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96080" y="4514760"/>
            <a:ext cx="0" cy="254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511320" y="1843560"/>
            <a:ext cx="943560" cy="867960"/>
            <a:chOff x="6511320" y="1843560"/>
            <a:chExt cx="943560" cy="867960"/>
          </a:xfrm>
        </p:grpSpPr>
        <p:sp>
          <p:nvSpPr>
            <p:cNvPr id="127" name=""/>
            <p:cNvSpPr/>
            <p:nvPr/>
          </p:nvSpPr>
          <p:spPr>
            <a:xfrm rot="10864200">
              <a:off x="6515280" y="1847160"/>
              <a:ext cx="40608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92760" y="2254320"/>
              <a:ext cx="129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05720" y="2711520"/>
              <a:ext cx="749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27280" y="1773720"/>
            <a:ext cx="803520" cy="918720"/>
            <a:chOff x="1727280" y="1773720"/>
            <a:chExt cx="803520" cy="918720"/>
          </a:xfrm>
        </p:grpSpPr>
        <p:sp>
          <p:nvSpPr>
            <p:cNvPr id="131" name=""/>
            <p:cNvSpPr/>
            <p:nvPr/>
          </p:nvSpPr>
          <p:spPr>
            <a:xfrm rot="10864200">
              <a:off x="2120400" y="177732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7280" y="269244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336760" y="217116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38480" y="2552760"/>
            <a:ext cx="1105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16560" y="133344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5160" y="123192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3440" y="1206360"/>
            <a:ext cx="126936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53160" y="1181160"/>
            <a:ext cx="9640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019920" y="1333440"/>
            <a:ext cx="96408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184800" y="1523880"/>
            <a:ext cx="96480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280" y="2476440"/>
            <a:ext cx="1015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07160" y="2476440"/>
            <a:ext cx="101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16800" y="3124080"/>
            <a:ext cx="11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12160" y="2806560"/>
            <a:ext cx="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8200" y="1346040"/>
            <a:ext cx="175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83160" y="3924360"/>
            <a:ext cx="175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64400" y="6197760"/>
            <a:ext cx="157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86280" y="6413400"/>
            <a:ext cx="71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097-D6D6-434A-BE35-BE46A389C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path Propagation – Simple Mode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49160" y="3208680"/>
            <a:ext cx="803520" cy="918720"/>
            <a:chOff x="749160" y="3208680"/>
            <a:chExt cx="803520" cy="918720"/>
          </a:xfrm>
        </p:grpSpPr>
        <p:sp>
          <p:nvSpPr>
            <p:cNvPr id="151" name=""/>
            <p:cNvSpPr/>
            <p:nvPr/>
          </p:nvSpPr>
          <p:spPr>
            <a:xfrm rot="10864200">
              <a:off x="1142280" y="3212280"/>
              <a:ext cx="40644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160" y="4127400"/>
              <a:ext cx="596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358640" y="3606120"/>
              <a:ext cx="0" cy="52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63600" y="3259440"/>
            <a:ext cx="943560" cy="867960"/>
            <a:chOff x="6663600" y="3259440"/>
            <a:chExt cx="943560" cy="867960"/>
          </a:xfrm>
        </p:grpSpPr>
        <p:sp>
          <p:nvSpPr>
            <p:cNvPr id="155" name=""/>
            <p:cNvSpPr/>
            <p:nvPr/>
          </p:nvSpPr>
          <p:spPr>
            <a:xfrm rot="10864200">
              <a:off x="6667560" y="3263040"/>
              <a:ext cx="406080" cy="431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45040" y="3670200"/>
              <a:ext cx="129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4127400"/>
              <a:ext cx="749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87800" y="1820880"/>
            <a:ext cx="685800" cy="1143000"/>
            <a:chOff x="3187800" y="1820880"/>
            <a:chExt cx="685800" cy="1143000"/>
          </a:xfrm>
        </p:grpSpPr>
        <p:sp>
          <p:nvSpPr>
            <p:cNvPr id="159" name=""/>
            <p:cNvSpPr/>
            <p:nvPr/>
          </p:nvSpPr>
          <p:spPr>
            <a:xfrm>
              <a:off x="3498840" y="2666880"/>
              <a:ext cx="61920" cy="297000"/>
            </a:xfrm>
            <a:custGeom>
              <a:avLst/>
              <a:gdLst/>
              <a:ahLst/>
              <a:rect l="l" t="t" r="r" b="b"/>
              <a:pathLst>
                <a:path w="76" h="373">
                  <a:moveTo>
                    <a:pt x="0" y="20"/>
                  </a:moveTo>
                  <a:lnTo>
                    <a:pt x="0" y="373"/>
                  </a:lnTo>
                  <a:lnTo>
                    <a:pt x="76" y="373"/>
                  </a:lnTo>
                  <a:lnTo>
                    <a:pt x="76" y="20"/>
                  </a:lnTo>
                  <a:lnTo>
                    <a:pt x="3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8840" y="2666880"/>
              <a:ext cx="61920" cy="297000"/>
            </a:xfrm>
            <a:custGeom>
              <a:avLst/>
              <a:gdLst/>
              <a:ahLst/>
              <a:rect l="l" t="t" r="r" b="b"/>
              <a:pathLst>
                <a:path w="76" h="373">
                  <a:moveTo>
                    <a:pt x="0" y="20"/>
                  </a:moveTo>
                  <a:lnTo>
                    <a:pt x="0" y="373"/>
                  </a:lnTo>
                  <a:lnTo>
                    <a:pt x="76" y="373"/>
                  </a:lnTo>
                  <a:lnTo>
                    <a:pt x="76" y="20"/>
                  </a:lnTo>
                  <a:lnTo>
                    <a:pt x="38" y="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7800" y="1820880"/>
              <a:ext cx="685800" cy="1023840"/>
            </a:xfrm>
            <a:custGeom>
              <a:avLst/>
              <a:gdLst/>
              <a:ahLst/>
              <a:rect l="l" t="t" r="r" b="b"/>
              <a:pathLst>
                <a:path w="864" h="1291">
                  <a:moveTo>
                    <a:pt x="394" y="1087"/>
                  </a:moveTo>
                  <a:lnTo>
                    <a:pt x="432" y="1067"/>
                  </a:lnTo>
                  <a:lnTo>
                    <a:pt x="864" y="1291"/>
                  </a:lnTo>
                  <a:lnTo>
                    <a:pt x="695" y="942"/>
                  </a:lnTo>
                  <a:lnTo>
                    <a:pt x="792" y="992"/>
                  </a:lnTo>
                  <a:lnTo>
                    <a:pt x="663" y="724"/>
                  </a:lnTo>
                  <a:lnTo>
                    <a:pt x="720" y="754"/>
                  </a:lnTo>
                  <a:lnTo>
                    <a:pt x="585" y="476"/>
                  </a:lnTo>
                  <a:lnTo>
                    <a:pt x="647" y="507"/>
                  </a:lnTo>
                  <a:lnTo>
                    <a:pt x="537" y="278"/>
                  </a:lnTo>
                  <a:lnTo>
                    <a:pt x="577" y="297"/>
                  </a:lnTo>
                  <a:lnTo>
                    <a:pt x="432" y="0"/>
                  </a:lnTo>
                  <a:lnTo>
                    <a:pt x="288" y="297"/>
                  </a:lnTo>
                  <a:lnTo>
                    <a:pt x="327" y="278"/>
                  </a:lnTo>
                  <a:lnTo>
                    <a:pt x="217" y="507"/>
                  </a:lnTo>
                  <a:lnTo>
                    <a:pt x="279" y="476"/>
                  </a:lnTo>
                  <a:lnTo>
                    <a:pt x="145" y="754"/>
                  </a:lnTo>
                  <a:lnTo>
                    <a:pt x="201" y="724"/>
                  </a:lnTo>
                  <a:lnTo>
                    <a:pt x="72" y="992"/>
                  </a:lnTo>
                  <a:lnTo>
                    <a:pt x="169" y="942"/>
                  </a:lnTo>
                  <a:lnTo>
                    <a:pt x="0" y="1291"/>
                  </a:lnTo>
                  <a:lnTo>
                    <a:pt x="394" y="108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7800" y="1820880"/>
              <a:ext cx="685800" cy="1023840"/>
            </a:xfrm>
            <a:custGeom>
              <a:avLst/>
              <a:gdLst/>
              <a:ahLst/>
              <a:rect l="l" t="t" r="r" b="b"/>
              <a:pathLst>
                <a:path w="864" h="1291">
                  <a:moveTo>
                    <a:pt x="394" y="1087"/>
                  </a:moveTo>
                  <a:lnTo>
                    <a:pt x="432" y="1067"/>
                  </a:lnTo>
                  <a:lnTo>
                    <a:pt x="864" y="1291"/>
                  </a:lnTo>
                  <a:lnTo>
                    <a:pt x="695" y="942"/>
                  </a:lnTo>
                  <a:lnTo>
                    <a:pt x="792" y="992"/>
                  </a:lnTo>
                  <a:lnTo>
                    <a:pt x="663" y="724"/>
                  </a:lnTo>
                  <a:lnTo>
                    <a:pt x="720" y="754"/>
                  </a:lnTo>
                  <a:lnTo>
                    <a:pt x="585" y="476"/>
                  </a:lnTo>
                  <a:lnTo>
                    <a:pt x="647" y="507"/>
                  </a:lnTo>
                  <a:lnTo>
                    <a:pt x="537" y="278"/>
                  </a:lnTo>
                  <a:lnTo>
                    <a:pt x="577" y="297"/>
                  </a:lnTo>
                  <a:lnTo>
                    <a:pt x="432" y="0"/>
                  </a:lnTo>
                  <a:lnTo>
                    <a:pt x="288" y="297"/>
                  </a:lnTo>
                  <a:lnTo>
                    <a:pt x="327" y="278"/>
                  </a:lnTo>
                  <a:lnTo>
                    <a:pt x="217" y="507"/>
                  </a:lnTo>
                  <a:lnTo>
                    <a:pt x="279" y="476"/>
                  </a:lnTo>
                  <a:lnTo>
                    <a:pt x="145" y="754"/>
                  </a:lnTo>
                  <a:lnTo>
                    <a:pt x="201" y="724"/>
                  </a:lnTo>
                  <a:lnTo>
                    <a:pt x="72" y="992"/>
                  </a:lnTo>
                  <a:lnTo>
                    <a:pt x="169" y="942"/>
                  </a:lnTo>
                  <a:lnTo>
                    <a:pt x="0" y="1291"/>
                  </a:lnTo>
                  <a:lnTo>
                    <a:pt x="394" y="108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78440" y="4640400"/>
            <a:ext cx="1369800" cy="685800"/>
            <a:chOff x="4978440" y="4640400"/>
            <a:chExt cx="1369800" cy="685800"/>
          </a:xfrm>
        </p:grpSpPr>
        <p:sp>
          <p:nvSpPr>
            <p:cNvPr id="164" name=""/>
            <p:cNvSpPr/>
            <p:nvPr/>
          </p:nvSpPr>
          <p:spPr>
            <a:xfrm>
              <a:off x="5046480" y="4845240"/>
              <a:ext cx="12330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46480" y="4845240"/>
              <a:ext cx="1233000" cy="48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8440" y="4675320"/>
              <a:ext cx="1369800" cy="582480"/>
            </a:xfrm>
            <a:custGeom>
              <a:avLst/>
              <a:gdLst/>
              <a:ahLst/>
              <a:rect l="l" t="t" r="r" b="b"/>
              <a:pathLst>
                <a:path w="1727" h="734">
                  <a:moveTo>
                    <a:pt x="0" y="129"/>
                  </a:moveTo>
                  <a:lnTo>
                    <a:pt x="1727" y="129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0" y="129"/>
                  </a:lnTo>
                  <a:close/>
                  <a:moveTo>
                    <a:pt x="173" y="302"/>
                  </a:moveTo>
                  <a:lnTo>
                    <a:pt x="346" y="302"/>
                  </a:lnTo>
                  <a:lnTo>
                    <a:pt x="346" y="258"/>
                  </a:lnTo>
                  <a:lnTo>
                    <a:pt x="173" y="258"/>
                  </a:lnTo>
                  <a:lnTo>
                    <a:pt x="173" y="302"/>
                  </a:lnTo>
                  <a:close/>
                  <a:moveTo>
                    <a:pt x="561" y="302"/>
                  </a:moveTo>
                  <a:lnTo>
                    <a:pt x="734" y="302"/>
                  </a:lnTo>
                  <a:lnTo>
                    <a:pt x="734" y="258"/>
                  </a:lnTo>
                  <a:lnTo>
                    <a:pt x="561" y="258"/>
                  </a:lnTo>
                  <a:lnTo>
                    <a:pt x="561" y="302"/>
                  </a:lnTo>
                  <a:close/>
                  <a:moveTo>
                    <a:pt x="993" y="302"/>
                  </a:moveTo>
                  <a:lnTo>
                    <a:pt x="1166" y="302"/>
                  </a:lnTo>
                  <a:lnTo>
                    <a:pt x="1166" y="258"/>
                  </a:lnTo>
                  <a:lnTo>
                    <a:pt x="993" y="258"/>
                  </a:lnTo>
                  <a:lnTo>
                    <a:pt x="993" y="302"/>
                  </a:lnTo>
                  <a:close/>
                  <a:moveTo>
                    <a:pt x="1381" y="302"/>
                  </a:moveTo>
                  <a:lnTo>
                    <a:pt x="1554" y="302"/>
                  </a:lnTo>
                  <a:lnTo>
                    <a:pt x="1554" y="258"/>
                  </a:lnTo>
                  <a:lnTo>
                    <a:pt x="1381" y="258"/>
                  </a:lnTo>
                  <a:lnTo>
                    <a:pt x="1381" y="302"/>
                  </a:lnTo>
                  <a:close/>
                  <a:moveTo>
                    <a:pt x="1381" y="431"/>
                  </a:moveTo>
                  <a:lnTo>
                    <a:pt x="1554" y="431"/>
                  </a:lnTo>
                  <a:lnTo>
                    <a:pt x="1554" y="389"/>
                  </a:lnTo>
                  <a:lnTo>
                    <a:pt x="1381" y="389"/>
                  </a:lnTo>
                  <a:lnTo>
                    <a:pt x="1381" y="431"/>
                  </a:lnTo>
                  <a:close/>
                  <a:moveTo>
                    <a:pt x="993" y="431"/>
                  </a:moveTo>
                  <a:lnTo>
                    <a:pt x="1166" y="431"/>
                  </a:lnTo>
                  <a:lnTo>
                    <a:pt x="1166" y="389"/>
                  </a:lnTo>
                  <a:lnTo>
                    <a:pt x="993" y="389"/>
                  </a:lnTo>
                  <a:lnTo>
                    <a:pt x="993" y="431"/>
                  </a:lnTo>
                  <a:close/>
                  <a:moveTo>
                    <a:pt x="561" y="431"/>
                  </a:moveTo>
                  <a:lnTo>
                    <a:pt x="734" y="431"/>
                  </a:lnTo>
                  <a:lnTo>
                    <a:pt x="734" y="389"/>
                  </a:lnTo>
                  <a:lnTo>
                    <a:pt x="561" y="389"/>
                  </a:lnTo>
                  <a:lnTo>
                    <a:pt x="561" y="431"/>
                  </a:lnTo>
                  <a:close/>
                  <a:moveTo>
                    <a:pt x="173" y="431"/>
                  </a:moveTo>
                  <a:lnTo>
                    <a:pt x="346" y="431"/>
                  </a:lnTo>
                  <a:lnTo>
                    <a:pt x="346" y="389"/>
                  </a:lnTo>
                  <a:lnTo>
                    <a:pt x="173" y="389"/>
                  </a:lnTo>
                  <a:lnTo>
                    <a:pt x="173" y="431"/>
                  </a:lnTo>
                  <a:close/>
                  <a:moveTo>
                    <a:pt x="173" y="562"/>
                  </a:moveTo>
                  <a:lnTo>
                    <a:pt x="346" y="562"/>
                  </a:lnTo>
                  <a:lnTo>
                    <a:pt x="346" y="518"/>
                  </a:lnTo>
                  <a:lnTo>
                    <a:pt x="173" y="518"/>
                  </a:lnTo>
                  <a:lnTo>
                    <a:pt x="173" y="562"/>
                  </a:lnTo>
                  <a:close/>
                  <a:moveTo>
                    <a:pt x="561" y="562"/>
                  </a:moveTo>
                  <a:lnTo>
                    <a:pt x="734" y="562"/>
                  </a:lnTo>
                  <a:lnTo>
                    <a:pt x="734" y="518"/>
                  </a:lnTo>
                  <a:lnTo>
                    <a:pt x="561" y="518"/>
                  </a:lnTo>
                  <a:lnTo>
                    <a:pt x="561" y="562"/>
                  </a:lnTo>
                  <a:close/>
                  <a:moveTo>
                    <a:pt x="993" y="562"/>
                  </a:moveTo>
                  <a:lnTo>
                    <a:pt x="1166" y="562"/>
                  </a:lnTo>
                  <a:lnTo>
                    <a:pt x="1166" y="518"/>
                  </a:lnTo>
                  <a:lnTo>
                    <a:pt x="993" y="518"/>
                  </a:lnTo>
                  <a:lnTo>
                    <a:pt x="993" y="562"/>
                  </a:lnTo>
                  <a:close/>
                  <a:moveTo>
                    <a:pt x="1381" y="562"/>
                  </a:moveTo>
                  <a:lnTo>
                    <a:pt x="1554" y="562"/>
                  </a:lnTo>
                  <a:lnTo>
                    <a:pt x="1554" y="518"/>
                  </a:lnTo>
                  <a:lnTo>
                    <a:pt x="1381" y="518"/>
                  </a:lnTo>
                  <a:lnTo>
                    <a:pt x="1381" y="562"/>
                  </a:lnTo>
                  <a:close/>
                  <a:moveTo>
                    <a:pt x="432" y="734"/>
                  </a:moveTo>
                  <a:lnTo>
                    <a:pt x="1295" y="734"/>
                  </a:lnTo>
                  <a:lnTo>
                    <a:pt x="1295" y="648"/>
                  </a:lnTo>
                  <a:lnTo>
                    <a:pt x="432" y="648"/>
                  </a:lnTo>
                  <a:lnTo>
                    <a:pt x="432" y="7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78440" y="4675320"/>
              <a:ext cx="1369800" cy="101520"/>
            </a:xfrm>
            <a:custGeom>
              <a:avLst/>
              <a:gdLst/>
              <a:ahLst/>
              <a:rect l="l" t="t" r="r" b="b"/>
              <a:pathLst>
                <a:path w="1727" h="129">
                  <a:moveTo>
                    <a:pt x="0" y="129"/>
                  </a:moveTo>
                  <a:lnTo>
                    <a:pt x="1727" y="129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14520" y="488016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22680" y="488016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65400" y="488016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73560" y="488016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73560" y="4983480"/>
              <a:ext cx="13752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5400" y="4983480"/>
              <a:ext cx="1378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2680" y="4983480"/>
              <a:ext cx="13752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14520" y="4983480"/>
              <a:ext cx="1378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14520" y="508500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2680" y="508500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65400" y="5085000"/>
              <a:ext cx="13788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3560" y="5085000"/>
              <a:ext cx="13752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1160" y="5189760"/>
              <a:ext cx="683640" cy="6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14520" y="5222880"/>
              <a:ext cx="1096560" cy="103320"/>
            </a:xfrm>
            <a:custGeom>
              <a:avLst/>
              <a:gdLst/>
              <a:ahLst/>
              <a:rect l="l" t="t" r="r" b="b"/>
              <a:pathLst>
                <a:path w="1381" h="130">
                  <a:moveTo>
                    <a:pt x="0" y="130"/>
                  </a:moveTo>
                  <a:lnTo>
                    <a:pt x="173" y="130"/>
                  </a:lnTo>
                  <a:lnTo>
                    <a:pt x="173" y="0"/>
                  </a:lnTo>
                  <a:lnTo>
                    <a:pt x="0" y="0"/>
                  </a:lnTo>
                  <a:lnTo>
                    <a:pt x="0" y="130"/>
                  </a:lnTo>
                  <a:close/>
                  <a:moveTo>
                    <a:pt x="1208" y="130"/>
                  </a:moveTo>
                  <a:lnTo>
                    <a:pt x="1381" y="130"/>
                  </a:lnTo>
                  <a:lnTo>
                    <a:pt x="1381" y="0"/>
                  </a:lnTo>
                  <a:lnTo>
                    <a:pt x="1208" y="0"/>
                  </a:lnTo>
                  <a:lnTo>
                    <a:pt x="1208" y="1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4520" y="5222880"/>
              <a:ext cx="13788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73560" y="5222880"/>
              <a:ext cx="13752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6480" y="4948200"/>
              <a:ext cx="123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46480" y="5051520"/>
              <a:ext cx="123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6480" y="5154840"/>
              <a:ext cx="123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8440" y="4640400"/>
              <a:ext cx="1369800" cy="204840"/>
            </a:xfrm>
            <a:custGeom>
              <a:avLst/>
              <a:gdLst/>
              <a:ahLst/>
              <a:rect l="l" t="t" r="r" b="b"/>
              <a:pathLst>
                <a:path w="1727" h="260">
                  <a:moveTo>
                    <a:pt x="0" y="260"/>
                  </a:moveTo>
                  <a:lnTo>
                    <a:pt x="1727" y="260"/>
                  </a:lnTo>
                  <a:lnTo>
                    <a:pt x="1727" y="173"/>
                  </a:lnTo>
                  <a:lnTo>
                    <a:pt x="0" y="173"/>
                  </a:lnTo>
                  <a:lnTo>
                    <a:pt x="0" y="260"/>
                  </a:lnTo>
                  <a:close/>
                  <a:moveTo>
                    <a:pt x="346" y="44"/>
                  </a:moveTo>
                  <a:lnTo>
                    <a:pt x="1381" y="44"/>
                  </a:lnTo>
                  <a:lnTo>
                    <a:pt x="1381" y="0"/>
                  </a:lnTo>
                  <a:lnTo>
                    <a:pt x="346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78440" y="4776840"/>
              <a:ext cx="1369800" cy="6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2760" y="4640400"/>
              <a:ext cx="820440" cy="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V="1">
            <a:off x="1892160" y="2463840"/>
            <a:ext cx="1600200" cy="77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67160" y="2476440"/>
            <a:ext cx="295920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0640" y="3352680"/>
            <a:ext cx="3987720" cy="1206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753160" y="3606840"/>
            <a:ext cx="774720" cy="977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9880" y="3327480"/>
            <a:ext cx="46101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0680" y="4633920"/>
            <a:ext cx="599436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)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0, …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path gain (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normalize relative delay of fir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fference in time-of-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981760" y="2165400"/>
            <a:ext cx="260352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88200" y="1460520"/>
            <a:ext cx="0" cy="7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56400" y="1879560"/>
            <a:ext cx="0" cy="292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924680" y="2006280"/>
            <a:ext cx="0" cy="190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23560" y="167004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5480" y="169560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71400" y="179712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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0200" y="2179800"/>
            <a:ext cx="2750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53120" y="2365200"/>
            <a:ext cx="2750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5240" y="2273400"/>
            <a:ext cx="1168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5240" y="2400480"/>
            <a:ext cx="1536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71000" y="357516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2400" y="238140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905280"/>
            <a:ext cx="235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2BF-3426-4E1F-97E5-00AE657E6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quivalent Propagation Channe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80760" y="2284200"/>
            <a:ext cx="5118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f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msy10"/>
              </a:rPr>
              <a:t>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cmsy10"/>
              </a:rPr>
              <a:t>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240" y="4129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7760" y="3060720"/>
            <a:ext cx="21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58080" y="3022560"/>
            <a:ext cx="218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79760" y="3429000"/>
            <a:ext cx="2184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57680" y="2908440"/>
            <a:ext cx="304560" cy="266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86480" y="2933640"/>
            <a:ext cx="0" cy="419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146280" y="2920680"/>
            <a:ext cx="228600" cy="127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701720"/>
            <a:ext cx="21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60840" y="2095560"/>
            <a:ext cx="35568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140000" y="1955880"/>
            <a:ext cx="154908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5160" y="6222960"/>
            <a:ext cx="838080" cy="241200"/>
          </a:xfrm>
          <a:prstGeom prst="rightArrow">
            <a:avLst>
              <a:gd name="adj1" fmla="val 50000"/>
              <a:gd name="adj2" fmla="val 86866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23920" y="4527720"/>
            <a:ext cx="74422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fective channel at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tion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 / receive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typically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and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changes with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estimate and re-estimat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402-D5A4-433E-A1B0-D1853A61E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mpact of Multipath: Delay Spread &amp; ISI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7600" y="2963880"/>
            <a:ext cx="2228760" cy="167148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187800" y="1689120"/>
            <a:ext cx="1841400" cy="1210680"/>
            <a:chOff x="3187800" y="1689120"/>
            <a:chExt cx="1841400" cy="1210680"/>
          </a:xfrm>
        </p:grpSpPr>
        <p:sp>
          <p:nvSpPr>
            <p:cNvPr id="227" name=""/>
            <p:cNvSpPr/>
            <p:nvPr/>
          </p:nvSpPr>
          <p:spPr>
            <a:xfrm>
              <a:off x="3187800" y="2387520"/>
              <a:ext cx="1841400" cy="9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200400" y="1689120"/>
              <a:ext cx="0" cy="71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68600" y="2108160"/>
              <a:ext cx="0" cy="29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9840" y="2387520"/>
              <a:ext cx="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2400480"/>
              <a:ext cx="0" cy="114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7400" y="2374920"/>
              <a:ext cx="12600" cy="11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6400" y="2552760"/>
              <a:ext cx="583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0320" y="2552760"/>
              <a:ext cx="58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111480" y="4152600"/>
            <a:ext cx="1841400" cy="1147320"/>
            <a:chOff x="3111480" y="4152600"/>
            <a:chExt cx="1841400" cy="1147320"/>
          </a:xfrm>
        </p:grpSpPr>
        <p:sp>
          <p:nvSpPr>
            <p:cNvPr id="236" name=""/>
            <p:cNvSpPr/>
            <p:nvPr/>
          </p:nvSpPr>
          <p:spPr>
            <a:xfrm>
              <a:off x="3111480" y="4851360"/>
              <a:ext cx="1841400" cy="9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24080" y="4152600"/>
              <a:ext cx="0" cy="71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292280" y="4571640"/>
              <a:ext cx="0" cy="29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520" y="4851360"/>
              <a:ext cx="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6760" y="4851360"/>
              <a:ext cx="0" cy="11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12080" y="4952880"/>
              <a:ext cx="214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10360" y="1122480"/>
            <a:ext cx="2322360" cy="174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65800" y="3573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876920" y="2108160"/>
            <a:ext cx="596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4508640"/>
            <a:ext cx="71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2000" y="4102200"/>
            <a:ext cx="44424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76440" y="2615760"/>
            <a:ext cx="558720" cy="54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2760" y="5816520"/>
            <a:ext cx="80388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delay spread = effective number of symbol periods occupied by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equalization to remove resulting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97160" y="6311880"/>
            <a:ext cx="838080" cy="241200"/>
          </a:xfrm>
          <a:prstGeom prst="rightArrow">
            <a:avLst>
              <a:gd name="adj1" fmla="val 50000"/>
              <a:gd name="adj2" fmla="val 86866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D88-7876-45E4-A1E5-2BA2234AC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ffective Delay Sprea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ay spread depends on difference in path length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fective delay spread: function of the maximum differenc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mpling perio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determines effect of delay sprea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22400" y="2070000"/>
          <a:ext cx="5479560" cy="1581120"/>
        </p:xfrm>
        <a:graphic>
          <a:graphicData uri="http://schemas.openxmlformats.org/drawingml/2006/table">
            <a:tbl>
              <a:tblPr/>
              <a:tblGrid>
                <a:gridCol w="1826640"/>
                <a:gridCol w="1826280"/>
                <a:gridCol w="182664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Delay Sp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c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  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ro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    km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022400" y="4280040"/>
          <a:ext cx="7048440" cy="1527120"/>
        </p:xfrm>
        <a:graphic>
          <a:graphicData uri="http://schemas.openxmlformats.org/drawingml/2006/table">
            <a:tbl>
              <a:tblPr/>
              <a:tblGrid>
                <a:gridCol w="1762200"/>
                <a:gridCol w="1761840"/>
                <a:gridCol w="1762200"/>
                <a:gridCol w="17622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ing 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nel t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.1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VB-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 broad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0640" y="6083280"/>
            <a:ext cx="448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waves travel ~ 1 ns /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332-2B19-483D-8134-9C783C52B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73320" y="4356000"/>
            <a:ext cx="6153120" cy="1790640"/>
          </a:xfrm>
          <a:custGeom>
            <a:avLst/>
            <a:gdLst/>
            <a:ahLst/>
            <a:rect l="l" t="t" r="r" b="b"/>
            <a:pathLst>
              <a:path w="3876" h="1128">
                <a:moveTo>
                  <a:pt x="14" y="1096"/>
                </a:moveTo>
                <a:cubicBezTo>
                  <a:pt x="20" y="986"/>
                  <a:pt x="0" y="845"/>
                  <a:pt x="70" y="752"/>
                </a:cubicBezTo>
                <a:cubicBezTo>
                  <a:pt x="109" y="636"/>
                  <a:pt x="72" y="504"/>
                  <a:pt x="102" y="384"/>
                </a:cubicBezTo>
                <a:cubicBezTo>
                  <a:pt x="124" y="296"/>
                  <a:pt x="175" y="263"/>
                  <a:pt x="238" y="200"/>
                </a:cubicBezTo>
                <a:cubicBezTo>
                  <a:pt x="327" y="111"/>
                  <a:pt x="393" y="19"/>
                  <a:pt x="526" y="0"/>
                </a:cubicBezTo>
                <a:cubicBezTo>
                  <a:pt x="626" y="12"/>
                  <a:pt x="707" y="27"/>
                  <a:pt x="798" y="64"/>
                </a:cubicBezTo>
                <a:cubicBezTo>
                  <a:pt x="835" y="120"/>
                  <a:pt x="814" y="101"/>
                  <a:pt x="854" y="128"/>
                </a:cubicBezTo>
                <a:cubicBezTo>
                  <a:pt x="859" y="136"/>
                  <a:pt x="862" y="146"/>
                  <a:pt x="870" y="152"/>
                </a:cubicBezTo>
                <a:cubicBezTo>
                  <a:pt x="877" y="157"/>
                  <a:pt x="888" y="154"/>
                  <a:pt x="894" y="160"/>
                </a:cubicBezTo>
                <a:cubicBezTo>
                  <a:pt x="922" y="188"/>
                  <a:pt x="942" y="224"/>
                  <a:pt x="966" y="256"/>
                </a:cubicBezTo>
                <a:cubicBezTo>
                  <a:pt x="978" y="271"/>
                  <a:pt x="1000" y="274"/>
                  <a:pt x="1014" y="288"/>
                </a:cubicBezTo>
                <a:cubicBezTo>
                  <a:pt x="1030" y="304"/>
                  <a:pt x="1062" y="336"/>
                  <a:pt x="1062" y="336"/>
                </a:cubicBezTo>
                <a:cubicBezTo>
                  <a:pt x="1080" y="390"/>
                  <a:pt x="1055" y="331"/>
                  <a:pt x="1094" y="376"/>
                </a:cubicBezTo>
                <a:cubicBezTo>
                  <a:pt x="1107" y="390"/>
                  <a:pt x="1112" y="410"/>
                  <a:pt x="1126" y="424"/>
                </a:cubicBezTo>
                <a:cubicBezTo>
                  <a:pt x="1134" y="432"/>
                  <a:pt x="1142" y="440"/>
                  <a:pt x="1150" y="448"/>
                </a:cubicBezTo>
                <a:cubicBezTo>
                  <a:pt x="1172" y="515"/>
                  <a:pt x="1192" y="582"/>
                  <a:pt x="1214" y="648"/>
                </a:cubicBezTo>
                <a:cubicBezTo>
                  <a:pt x="1217" y="672"/>
                  <a:pt x="1218" y="696"/>
                  <a:pt x="1222" y="720"/>
                </a:cubicBezTo>
                <a:cubicBezTo>
                  <a:pt x="1226" y="744"/>
                  <a:pt x="1218" y="777"/>
                  <a:pt x="1238" y="792"/>
                </a:cubicBezTo>
                <a:cubicBezTo>
                  <a:pt x="1251" y="802"/>
                  <a:pt x="1250" y="760"/>
                  <a:pt x="1254" y="744"/>
                </a:cubicBezTo>
                <a:cubicBezTo>
                  <a:pt x="1263" y="706"/>
                  <a:pt x="1269" y="686"/>
                  <a:pt x="1302" y="664"/>
                </a:cubicBezTo>
                <a:cubicBezTo>
                  <a:pt x="1341" y="606"/>
                  <a:pt x="1412" y="558"/>
                  <a:pt x="1478" y="536"/>
                </a:cubicBezTo>
                <a:cubicBezTo>
                  <a:pt x="1523" y="491"/>
                  <a:pt x="1557" y="505"/>
                  <a:pt x="1606" y="480"/>
                </a:cubicBezTo>
                <a:cubicBezTo>
                  <a:pt x="1661" y="452"/>
                  <a:pt x="1595" y="473"/>
                  <a:pt x="1662" y="456"/>
                </a:cubicBezTo>
                <a:cubicBezTo>
                  <a:pt x="1697" y="433"/>
                  <a:pt x="1737" y="419"/>
                  <a:pt x="1774" y="400"/>
                </a:cubicBezTo>
                <a:cubicBezTo>
                  <a:pt x="1808" y="383"/>
                  <a:pt x="1843" y="359"/>
                  <a:pt x="1878" y="344"/>
                </a:cubicBezTo>
                <a:cubicBezTo>
                  <a:pt x="1996" y="293"/>
                  <a:pt x="2128" y="287"/>
                  <a:pt x="2254" y="280"/>
                </a:cubicBezTo>
                <a:cubicBezTo>
                  <a:pt x="2440" y="243"/>
                  <a:pt x="2643" y="281"/>
                  <a:pt x="2830" y="304"/>
                </a:cubicBezTo>
                <a:cubicBezTo>
                  <a:pt x="2876" y="319"/>
                  <a:pt x="2909" y="342"/>
                  <a:pt x="2958" y="352"/>
                </a:cubicBezTo>
                <a:cubicBezTo>
                  <a:pt x="2966" y="357"/>
                  <a:pt x="2975" y="361"/>
                  <a:pt x="2982" y="368"/>
                </a:cubicBezTo>
                <a:cubicBezTo>
                  <a:pt x="2989" y="375"/>
                  <a:pt x="2990" y="386"/>
                  <a:pt x="2998" y="392"/>
                </a:cubicBezTo>
                <a:cubicBezTo>
                  <a:pt x="3042" y="428"/>
                  <a:pt x="3047" y="427"/>
                  <a:pt x="3086" y="440"/>
                </a:cubicBezTo>
                <a:cubicBezTo>
                  <a:pt x="3104" y="454"/>
                  <a:pt x="3127" y="462"/>
                  <a:pt x="3142" y="480"/>
                </a:cubicBezTo>
                <a:cubicBezTo>
                  <a:pt x="3174" y="518"/>
                  <a:pt x="3194" y="572"/>
                  <a:pt x="3230" y="608"/>
                </a:cubicBezTo>
                <a:cubicBezTo>
                  <a:pt x="3245" y="623"/>
                  <a:pt x="3264" y="633"/>
                  <a:pt x="3278" y="648"/>
                </a:cubicBezTo>
                <a:cubicBezTo>
                  <a:pt x="3326" y="700"/>
                  <a:pt x="3367" y="778"/>
                  <a:pt x="3430" y="816"/>
                </a:cubicBezTo>
                <a:cubicBezTo>
                  <a:pt x="3519" y="869"/>
                  <a:pt x="3599" y="936"/>
                  <a:pt x="3694" y="976"/>
                </a:cubicBezTo>
                <a:cubicBezTo>
                  <a:pt x="3711" y="983"/>
                  <a:pt x="3728" y="989"/>
                  <a:pt x="3742" y="1000"/>
                </a:cubicBezTo>
                <a:cubicBezTo>
                  <a:pt x="3742" y="1000"/>
                  <a:pt x="3812" y="1070"/>
                  <a:pt x="3830" y="1088"/>
                </a:cubicBezTo>
                <a:cubicBezTo>
                  <a:pt x="3840" y="1098"/>
                  <a:pt x="3860" y="1094"/>
                  <a:pt x="3870" y="1104"/>
                </a:cubicBezTo>
                <a:cubicBezTo>
                  <a:pt x="3876" y="1110"/>
                  <a:pt x="3870" y="1120"/>
                  <a:pt x="3870" y="1128"/>
                </a:cubicBezTo>
                <a:lnTo>
                  <a:pt x="14" y="1096"/>
                </a:lnTo>
                <a:close/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3680" y="963720"/>
            <a:ext cx="82548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broadband channel into narrowband sub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SI 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onstant gain in every subchannel and if ide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thogonal Frequency Division 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he fast 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for DAB, DVB-T, IEEE 802.11a, 802.16a, HyperLA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for fourth-generation mobile communic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6097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5900760"/>
            <a:ext cx="228600" cy="19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5437080"/>
            <a:ext cx="216000" cy="660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234040"/>
            <a:ext cx="2286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4998960"/>
            <a:ext cx="241200" cy="109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4903920"/>
            <a:ext cx="228600" cy="119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4865760"/>
            <a:ext cx="216000" cy="1231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802040"/>
            <a:ext cx="25416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770360"/>
            <a:ext cx="241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4770360"/>
            <a:ext cx="216000" cy="132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840200"/>
            <a:ext cx="228600" cy="1257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4916520"/>
            <a:ext cx="21600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5018040"/>
            <a:ext cx="216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5151600"/>
            <a:ext cx="216000" cy="946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5151600"/>
            <a:ext cx="241200" cy="946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5265720"/>
            <a:ext cx="216000" cy="83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5049720"/>
            <a:ext cx="216000" cy="1047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764240"/>
            <a:ext cx="228600" cy="1333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9040" y="4548240"/>
            <a:ext cx="241560" cy="15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446720"/>
            <a:ext cx="228600" cy="165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31840" y="4408560"/>
            <a:ext cx="254160" cy="168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4459320"/>
            <a:ext cx="228600" cy="163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4656240"/>
            <a:ext cx="22860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5099040"/>
            <a:ext cx="1765440" cy="3988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6002280"/>
            <a:ext cx="228600" cy="95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85000" y="566568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97040" y="4619160"/>
            <a:ext cx="0" cy="1490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32120" y="4489560"/>
            <a:ext cx="0" cy="161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70080" y="4377960"/>
            <a:ext cx="0" cy="1722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86080" y="4390920"/>
            <a:ext cx="0" cy="1735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617920" y="4575240"/>
            <a:ext cx="0" cy="15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84652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08448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13080" y="5264280"/>
            <a:ext cx="0" cy="836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522600" y="5184360"/>
            <a:ext cx="0" cy="91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760920" y="5146200"/>
            <a:ext cx="0" cy="96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89520" y="5022360"/>
            <a:ext cx="0" cy="1086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218120" y="4917960"/>
            <a:ext cx="0" cy="1201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411800" y="4905000"/>
            <a:ext cx="25200" cy="12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903920" y="4768920"/>
            <a:ext cx="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22800" y="4816440"/>
            <a:ext cx="0" cy="1284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361120" y="4816440"/>
            <a:ext cx="0" cy="1293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589720" y="4861080"/>
            <a:ext cx="0" cy="123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827680" y="4920840"/>
            <a:ext cx="0" cy="117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046920" y="5067000"/>
            <a:ext cx="0" cy="10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84880" y="5238360"/>
            <a:ext cx="1260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23200" y="5454360"/>
            <a:ext cx="0" cy="65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7418520" y="5892840"/>
            <a:ext cx="9360" cy="20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656480" y="5987880"/>
            <a:ext cx="0" cy="1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22800" y="459072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09920" y="387000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360" y="6249960"/>
            <a:ext cx="71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s are 312 kHz wide in 802.11a and HyperLA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270-0B2A-4039-BA22-806F03942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1T06:08:20Z</dcterms:created>
  <dc:creator>arslan</dc:creator>
  <dc:description/>
  <dc:language>en-US</dc:language>
  <cp:lastModifiedBy>Brian L. Evans</cp:lastModifiedBy>
  <cp:lastPrinted>2000-11-22T02:14:42Z</cp:lastPrinted>
  <dcterms:modified xsi:type="dcterms:W3CDTF">2009-12-01T15:05:46Z</dcterms:modified>
  <cp:revision>257</cp:revision>
  <dc:subject/>
  <dc:title>Combat Inter-Symbol Interference with Equ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adsl_new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