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A40-6792-4A40-B8AE-D7BCB0FD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D1E-9443-4A7A-8843-C473220C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17D-3D2E-4B6C-90D8-72C46683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9E6-09C3-495C-A87B-FBC48B64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E601-6BB7-43A6-9354-72B0739B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419E-CBFD-45D3-9B94-5E69BC27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AC19-14AF-42DD-8668-3C443F2D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F24F-7895-45EB-9490-F7CA947F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15E3-AA56-4AEA-A09A-CFF6DBFB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1CC9-CD7B-4AA2-AB61-6B3B2E8E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1CB4-ADB5-4CAB-A8C8-A6B3CE92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E0D-F883-4482-8701-223EF685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ADF0-F122-46D1-A4FF-8A60BB48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F5E1-62F6-45B5-8B1F-34B6B28B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CA46-D9E2-4145-8D30-71D7E6F6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F2B2-19A0-4993-8BC3-8CF5684B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FD60-DB19-4305-9745-1B32F736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4F8-3152-4E55-813A-0229F13C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A08-0B6F-4888-9638-2084F6C8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137-F894-4165-AB66-629E11E9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82D-4A6B-4FE8-8096-E841AA83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059-3FF1-427A-A45A-2285D6AD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C27-12EC-4CA1-AEEB-70890ED9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5CA-51DA-4F1B-9490-347EF2A0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 - </a:t>
            </a:r>
            <a:fld id="{854AD6BE-A9CE-4BB2-94C7-03601F68A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17DB860-442B-47DD-836E-DE08AD657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200400"/>
            <a:ext cx="822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Fall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6600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Spread Spectrum Communications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print PC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ech compression and coding in transmit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 message signal using spread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message bit, 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4 bits of a pseudo noise sequence with user’s code as initi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nd receiv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bit-by-bit using 2-PAM on a radio frequency carrier of 1.9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ech decompression and decoding in 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066680" y="2362320"/>
            <a:ext cx="7239240" cy="992880"/>
            <a:chOff x="1066680" y="2362320"/>
            <a:chExt cx="7239240" cy="992880"/>
          </a:xfrm>
        </p:grpSpPr>
        <p:sp>
          <p:nvSpPr>
            <p:cNvPr id="89" name=""/>
            <p:cNvSpPr/>
            <p:nvPr/>
          </p:nvSpPr>
          <p:spPr>
            <a:xfrm>
              <a:off x="1066680" y="2362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289548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2438280"/>
              <a:ext cx="1067040" cy="916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mple and quant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66680" y="2986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nalo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8120" y="289548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8120" y="2362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8120" y="2986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4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2438280"/>
              <a:ext cx="1219320" cy="916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nea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dictiv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57800" y="28954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986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9920" y="2438280"/>
              <a:ext cx="1218960" cy="916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ec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8880" y="28954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8880" y="2971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24382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7A2-6862-454A-AC96-B3BA4D8D11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ing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 equally probable bit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-1, 1}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28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nd single pulse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gnore noi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assume that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ann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as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en equaliz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03880" y="4419720"/>
                <a:ext cx="4206600" cy="18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matched filter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/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nary>
                        <m:r>
                          <m:t xml:space="preserve">d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energy per bi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Hence,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048120" y="2666880"/>
            <a:ext cx="1143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2743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743200"/>
            <a:ext cx="380880" cy="38088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7432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3"/>
            <a:endCxn id="106" idx="1"/>
          </p:cNvCxnSpPr>
          <p:nvPr/>
        </p:nvCxnSpPr>
        <p:spPr>
          <a:xfrm>
            <a:off x="2666520" y="2933280"/>
            <a:ext cx="381960" cy="1080"/>
          </a:xfrm>
          <a:prstGeom prst="straightConnector1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2"/>
          </p:cNvCxnSpPr>
          <p:nvPr/>
        </p:nvCxnSpPr>
        <p:spPr>
          <a:xfrm>
            <a:off x="4191120" y="2933280"/>
            <a:ext cx="381600" cy="1080"/>
          </a:xfrm>
          <a:prstGeom prst="straightConnector1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8" idx="6"/>
            <a:endCxn id="109" idx="1"/>
          </p:cNvCxnSpPr>
          <p:nvPr/>
        </p:nvCxnSpPr>
        <p:spPr>
          <a:xfrm>
            <a:off x="4952520" y="2933280"/>
            <a:ext cx="381960" cy="1080"/>
          </a:xfrm>
          <a:prstGeom prst="straightConnector1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114300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3"/>
            <a:endCxn id="107" idx="1"/>
          </p:cNvCxnSpPr>
          <p:nvPr/>
        </p:nvCxnSpPr>
        <p:spPr>
          <a:xfrm>
            <a:off x="1600200" y="2933280"/>
            <a:ext cx="457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7086600" y="2895480"/>
            <a:ext cx="76320" cy="76320"/>
          </a:xfrm>
          <a:prstGeom prst="ellipse">
            <a:avLst/>
          </a:prstGeom>
          <a:solidFill>
            <a:srgbClr val="ff0101"/>
          </a:solidFill>
          <a:ln w="93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132680" y="2666520"/>
            <a:ext cx="334800" cy="266760"/>
          </a:xfrm>
          <a:prstGeom prst="line">
            <a:avLst/>
          </a:prstGeom>
          <a:ln w="1260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93040" y="2933640"/>
            <a:ext cx="380880" cy="0"/>
          </a:xfrm>
          <a:prstGeom prst="line">
            <a:avLst/>
          </a:prstGeom>
          <a:ln w="1260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9" idx="3"/>
            <a:endCxn id="115" idx="2"/>
          </p:cNvCxnSpPr>
          <p:nvPr/>
        </p:nvCxnSpPr>
        <p:spPr>
          <a:xfrm>
            <a:off x="6553080" y="2933280"/>
            <a:ext cx="534240" cy="1080"/>
          </a:xfrm>
          <a:prstGeom prst="straightConnector1">
            <a:avLst/>
          </a:prstGeom>
          <a:ln w="12600">
            <a:solidFill>
              <a:srgbClr val="ff0101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7243920" y="2598840"/>
            <a:ext cx="152280" cy="341280"/>
          </a:xfrm>
          <a:custGeom>
            <a:avLst/>
            <a:gdLst/>
            <a:ahLst/>
            <a:rect l="l" t="t" r="r" b="b"/>
            <a:pathLst>
              <a:path w="96" h="215">
                <a:moveTo>
                  <a:pt x="0" y="0"/>
                </a:moveTo>
                <a:cubicBezTo>
                  <a:pt x="12" y="15"/>
                  <a:pt x="58" y="53"/>
                  <a:pt x="74" y="89"/>
                </a:cubicBezTo>
                <a:cubicBezTo>
                  <a:pt x="90" y="125"/>
                  <a:pt x="92" y="189"/>
                  <a:pt x="96" y="215"/>
                </a:cubicBezTo>
              </a:path>
            </a:pathLst>
          </a:custGeom>
          <a:noFill/>
          <a:ln w="9360">
            <a:solidFill>
              <a:srgbClr val="ff01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48720" y="2743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42900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0"/>
            <a:endCxn id="108" idx="4"/>
          </p:cNvCxnSpPr>
          <p:nvPr/>
        </p:nvCxnSpPr>
        <p:spPr>
          <a:xfrm flipV="1">
            <a:off x="4762080" y="3123360"/>
            <a:ext cx="1080" cy="305640"/>
          </a:xfrm>
          <a:prstGeom prst="straightConnector1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5" idx="0"/>
            <a:endCxn id="107" idx="2"/>
          </p:cNvCxnSpPr>
          <p:nvPr/>
        </p:nvCxnSpPr>
        <p:spPr>
          <a:xfrm flipV="1">
            <a:off x="2361960" y="3123360"/>
            <a:ext cx="1080" cy="305640"/>
          </a:xfrm>
          <a:prstGeom prst="straightConnector1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600200" y="342900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3733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34290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362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2362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380988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WG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1240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1240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1"/>
                </a:solidFill>
                <a:latin typeface="Times New Roman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31240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101"/>
                </a:solidFill>
                <a:latin typeface="Times New Roman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31240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3733560"/>
            <a:ext cx="0" cy="228600"/>
          </a:xfrm>
          <a:prstGeom prst="line">
            <a:avLst/>
          </a:prstGeom>
          <a:ln w="1908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90920" y="3733560"/>
            <a:ext cx="0" cy="228600"/>
          </a:xfrm>
          <a:prstGeom prst="line">
            <a:avLst/>
          </a:prstGeom>
          <a:ln w="1908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733920"/>
            <a:ext cx="457200" cy="0"/>
          </a:xfrm>
          <a:prstGeom prst="line">
            <a:avLst/>
          </a:prstGeom>
          <a:ln w="1908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A77-B9AF-4654-B3ED-085124BAC5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robability of Error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827000"/>
            <a:ext cx="8001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General case: one bit in isolation down chann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-1, 1}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lusters arou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which bit was sent: threshold a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s due to noise (when tails of Gaussians overl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hain of bits, assume each bit is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60560" y="2419200"/>
                <a:ext cx="52275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/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878280" y="3809880"/>
                <a:ext cx="480852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/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g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τ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G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g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τ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7" name=""/>
          <p:cNvGrpSpPr/>
          <p:nvPr/>
        </p:nvGrpSpPr>
        <p:grpSpPr>
          <a:xfrm>
            <a:off x="1139760" y="3886200"/>
            <a:ext cx="2441520" cy="1283760"/>
            <a:chOff x="1139760" y="3886200"/>
            <a:chExt cx="2441520" cy="1283760"/>
          </a:xfrm>
        </p:grpSpPr>
        <p:sp>
          <p:nvSpPr>
            <p:cNvPr id="148" name=""/>
            <p:cNvSpPr/>
            <p:nvPr/>
          </p:nvSpPr>
          <p:spPr>
            <a:xfrm>
              <a:off x="1142640" y="4694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209680" y="4160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7040" y="477036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3886200"/>
              <a:ext cx="609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39760" y="4389120"/>
              <a:ext cx="1069920" cy="277560"/>
            </a:xfrm>
            <a:custGeom>
              <a:avLst/>
              <a:gdLst/>
              <a:ahLst/>
              <a:rect l="l" t="t" r="r" b="b"/>
              <a:pathLst>
                <a:path w="674" h="175">
                  <a:moveTo>
                    <a:pt x="0" y="175"/>
                  </a:moveTo>
                  <a:cubicBezTo>
                    <a:pt x="29" y="171"/>
                    <a:pt x="118" y="175"/>
                    <a:pt x="174" y="146"/>
                  </a:cubicBezTo>
                  <a:cubicBezTo>
                    <a:pt x="230" y="117"/>
                    <a:pt x="280" y="0"/>
                    <a:pt x="335" y="0"/>
                  </a:cubicBezTo>
                  <a:cubicBezTo>
                    <a:pt x="390" y="0"/>
                    <a:pt x="448" y="119"/>
                    <a:pt x="504" y="146"/>
                  </a:cubicBezTo>
                  <a:cubicBezTo>
                    <a:pt x="561" y="174"/>
                    <a:pt x="639" y="162"/>
                    <a:pt x="674" y="1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09680" y="4389120"/>
              <a:ext cx="1058760" cy="277560"/>
            </a:xfrm>
            <a:custGeom>
              <a:avLst/>
              <a:gdLst/>
              <a:ahLst/>
              <a:rect l="l" t="t" r="r" b="b"/>
              <a:pathLst>
                <a:path w="667" h="175">
                  <a:moveTo>
                    <a:pt x="0" y="166"/>
                  </a:moveTo>
                  <a:cubicBezTo>
                    <a:pt x="29" y="163"/>
                    <a:pt x="117" y="174"/>
                    <a:pt x="172" y="146"/>
                  </a:cubicBezTo>
                  <a:cubicBezTo>
                    <a:pt x="228" y="118"/>
                    <a:pt x="278" y="0"/>
                    <a:pt x="333" y="0"/>
                  </a:cubicBezTo>
                  <a:cubicBezTo>
                    <a:pt x="388" y="0"/>
                    <a:pt x="446" y="117"/>
                    <a:pt x="502" y="146"/>
                  </a:cubicBezTo>
                  <a:cubicBezTo>
                    <a:pt x="558" y="175"/>
                    <a:pt x="633" y="169"/>
                    <a:pt x="667" y="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160" y="4617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2840" y="4617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47242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90560" y="4724280"/>
              <a:ext cx="380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360" y="4541760"/>
              <a:ext cx="304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590560" y="4808160"/>
                  <a:ext cx="30168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1454040" y="4808160"/>
                  <a:ext cx="45072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705720" y="4876920"/>
                <a:ext cx="1955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AFC-238A-4C8E-BB01-AED3CDFBE5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robability of Error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ability that tail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entered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s positive and tail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entered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negativ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33240" y="3041640"/>
                <a:ext cx="4451400" cy="29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0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0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0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0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216400" y="3041640"/>
                <a:ext cx="3546720" cy="23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cause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47A-1B17-48A1-A517-1A6D32FECB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pread Spectrum Communica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nhance modulator/demodulator to spread spectrum to make it look more like noise and convert it from narrowband to a wider ban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seudo-noise sequence generated by Galois Field (GF) binary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known in advance and must be synchro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15920" y="3214800"/>
            <a:ext cx="3429000" cy="1066680"/>
            <a:chOff x="1015920" y="3214800"/>
            <a:chExt cx="3429000" cy="1066680"/>
          </a:xfrm>
        </p:grpSpPr>
        <p:sp>
          <p:nvSpPr>
            <p:cNvPr id="169" name=""/>
            <p:cNvSpPr/>
            <p:nvPr/>
          </p:nvSpPr>
          <p:spPr>
            <a:xfrm>
              <a:off x="1015920" y="321480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-1, 1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25960" y="321480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-1, 1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4600" y="3214800"/>
              <a:ext cx="380880" cy="38088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69" idx="3"/>
              <a:endCxn id="171" idx="2"/>
            </p:cNvCxnSpPr>
            <p:nvPr/>
          </p:nvCxnSpPr>
          <p:spPr>
            <a:xfrm>
              <a:off x="2235240" y="3404880"/>
              <a:ext cx="280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6"/>
              <a:endCxn id="170" idx="1"/>
            </p:cNvCxnSpPr>
            <p:nvPr/>
          </p:nvCxnSpPr>
          <p:spPr>
            <a:xfrm>
              <a:off x="2895480" y="3404880"/>
              <a:ext cx="331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4" name=""/>
            <p:cNvSpPr/>
            <p:nvPr/>
          </p:nvSpPr>
          <p:spPr>
            <a:xfrm>
              <a:off x="2057400" y="3900600"/>
              <a:ext cx="1295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rate = 1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74" idx="0"/>
              <a:endCxn id="171" idx="4"/>
            </p:cNvCxnSpPr>
            <p:nvPr/>
          </p:nvCxnSpPr>
          <p:spPr>
            <a:xfrm flipV="1">
              <a:off x="2704680" y="35949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1092240" y="3595680"/>
              <a:ext cx="9907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te = 1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143000" y="4191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101"/>
                </a:solidFill>
                <a:latin typeface="Times New Roman"/>
              </a:rPr>
              <a:t>Pre-processing (dig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4191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101"/>
                </a:solidFill>
                <a:latin typeface="Times New Roman"/>
              </a:rPr>
              <a:t>Post-processing (dig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34120" y="3062160"/>
            <a:ext cx="2286000" cy="1218960"/>
            <a:chOff x="5334120" y="3062160"/>
            <a:chExt cx="2286000" cy="1218960"/>
          </a:xfrm>
        </p:grpSpPr>
        <p:sp>
          <p:nvSpPr>
            <p:cNvPr id="180" name=""/>
            <p:cNvSpPr/>
            <p:nvPr/>
          </p:nvSpPr>
          <p:spPr>
            <a:xfrm>
              <a:off x="5334120" y="321444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19920" y="3214440"/>
              <a:ext cx="381240" cy="38088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80" idx="3"/>
              <a:endCxn id="181" idx="2"/>
            </p:cNvCxnSpPr>
            <p:nvPr/>
          </p:nvCxnSpPr>
          <p:spPr>
            <a:xfrm>
              <a:off x="5715360" y="34045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81" idx="6"/>
              <a:endCxn id="184" idx="1"/>
            </p:cNvCxnSpPr>
            <p:nvPr/>
          </p:nvCxnSpPr>
          <p:spPr>
            <a:xfrm>
              <a:off x="6401160" y="34045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5867640" y="390024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5" idx="0"/>
              <a:endCxn id="181" idx="4"/>
            </p:cNvCxnSpPr>
            <p:nvPr/>
          </p:nvCxnSpPr>
          <p:spPr>
            <a:xfrm flipV="1">
              <a:off x="6210360" y="359460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7" name=""/>
            <p:cNvGrpSpPr/>
            <p:nvPr/>
          </p:nvGrpSpPr>
          <p:grpSpPr>
            <a:xfrm>
              <a:off x="6705720" y="3062160"/>
              <a:ext cx="609840" cy="685800"/>
              <a:chOff x="6705720" y="3062160"/>
              <a:chExt cx="609840" cy="685800"/>
            </a:xfrm>
          </p:grpSpPr>
          <p:sp>
            <p:nvSpPr>
              <p:cNvPr id="184" name=""/>
              <p:cNvSpPr/>
              <p:nvPr/>
            </p:nvSpPr>
            <p:spPr>
              <a:xfrm>
                <a:off x="6705720" y="3062160"/>
                <a:ext cx="609840" cy="68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8" name=""/>
                  <p:cNvSpPr txBox="1"/>
                  <p:nvPr/>
                </p:nvSpPr>
                <p:spPr>
                  <a:xfrm>
                    <a:off x="6759720" y="3081240"/>
                    <a:ext cx="503280" cy="64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/>
                            </m:d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9" name=""/>
            <p:cNvSpPr/>
            <p:nvPr/>
          </p:nvSpPr>
          <p:spPr>
            <a:xfrm>
              <a:off x="7315560" y="3443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319-D217-4A6A-BAA7-215774E097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pread Spectrum Communications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scaled in time by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 system has sam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generates sequences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1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uncorrelated noise (pseudo-nois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s and polynomial variable tak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values of 0 a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hardware implementations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ip-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32); 32 = 2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+ 1. Not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1.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18960" y="4952880"/>
            <a:ext cx="6476760" cy="1752840"/>
            <a:chOff x="1218960" y="4952880"/>
            <a:chExt cx="6476760" cy="1752840"/>
          </a:xfrm>
        </p:grpSpPr>
        <p:grpSp>
          <p:nvGrpSpPr>
            <p:cNvPr id="193" name=""/>
            <p:cNvGrpSpPr/>
            <p:nvPr/>
          </p:nvGrpSpPr>
          <p:grpSpPr>
            <a:xfrm>
              <a:off x="1447920" y="4952880"/>
              <a:ext cx="609480" cy="1066680"/>
              <a:chOff x="1447920" y="4952880"/>
              <a:chExt cx="609480" cy="1066680"/>
            </a:xfrm>
          </p:grpSpPr>
          <p:sp>
            <p:nvSpPr>
              <p:cNvPr id="194" name=""/>
              <p:cNvSpPr/>
              <p:nvPr/>
            </p:nvSpPr>
            <p:spPr>
              <a:xfrm>
                <a:off x="1447920" y="5257440"/>
                <a:ext cx="60948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47920" y="49528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5248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47920" y="57146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514600" y="4952880"/>
              <a:ext cx="609120" cy="1066680"/>
              <a:chOff x="2514600" y="4952880"/>
              <a:chExt cx="609120" cy="1066680"/>
            </a:xfrm>
          </p:grpSpPr>
          <p:sp>
            <p:nvSpPr>
              <p:cNvPr id="199" name=""/>
              <p:cNvSpPr/>
              <p:nvPr/>
            </p:nvSpPr>
            <p:spPr>
              <a:xfrm>
                <a:off x="2514600" y="5257440"/>
                <a:ext cx="60912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14600" y="4952880"/>
                <a:ext cx="609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1916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14600" y="5714640"/>
                <a:ext cx="609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3581280" y="4952880"/>
              <a:ext cx="609120" cy="1066680"/>
              <a:chOff x="3581280" y="4952880"/>
              <a:chExt cx="609120" cy="1066680"/>
            </a:xfrm>
          </p:grpSpPr>
          <p:sp>
            <p:nvSpPr>
              <p:cNvPr id="204" name=""/>
              <p:cNvSpPr/>
              <p:nvPr/>
            </p:nvSpPr>
            <p:spPr>
              <a:xfrm>
                <a:off x="3581280" y="5257440"/>
                <a:ext cx="60912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81280" y="4952880"/>
                <a:ext cx="609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8584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81280" y="5714640"/>
                <a:ext cx="609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952880" y="4952880"/>
              <a:ext cx="609120" cy="1066680"/>
              <a:chOff x="4952880" y="4952880"/>
              <a:chExt cx="609120" cy="1066680"/>
            </a:xfrm>
          </p:grpSpPr>
          <p:sp>
            <p:nvSpPr>
              <p:cNvPr id="209" name=""/>
              <p:cNvSpPr/>
              <p:nvPr/>
            </p:nvSpPr>
            <p:spPr>
              <a:xfrm>
                <a:off x="4952880" y="5257440"/>
                <a:ext cx="60912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52880" y="4952880"/>
                <a:ext cx="609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5744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52880" y="5714640"/>
                <a:ext cx="609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6019560" y="4952880"/>
              <a:ext cx="609480" cy="1066680"/>
              <a:chOff x="6019560" y="4952880"/>
              <a:chExt cx="609480" cy="1066680"/>
            </a:xfrm>
          </p:grpSpPr>
          <p:sp>
            <p:nvSpPr>
              <p:cNvPr id="214" name=""/>
              <p:cNvSpPr/>
              <p:nvPr/>
            </p:nvSpPr>
            <p:spPr>
              <a:xfrm>
                <a:off x="6019560" y="5257440"/>
                <a:ext cx="609480" cy="381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   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19560" y="49528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2412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19560" y="57146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194" idx="3"/>
              <a:endCxn id="199" idx="1"/>
            </p:cNvCxnSpPr>
            <p:nvPr/>
          </p:nvCxnSpPr>
          <p:spPr>
            <a:xfrm>
              <a:off x="2057040" y="5447880"/>
              <a:ext cx="457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199" idx="3"/>
              <a:endCxn id="204" idx="1"/>
            </p:cNvCxnSpPr>
            <p:nvPr/>
          </p:nvCxnSpPr>
          <p:spPr>
            <a:xfrm>
              <a:off x="3123720" y="5447880"/>
              <a:ext cx="457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stCxn id="204" idx="3"/>
              <a:endCxn id="209" idx="1"/>
            </p:cNvCxnSpPr>
            <p:nvPr/>
          </p:nvCxnSpPr>
          <p:spPr>
            <a:xfrm>
              <a:off x="4190760" y="5447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09" idx="3"/>
              <a:endCxn id="214" idx="1"/>
            </p:cNvCxnSpPr>
            <p:nvPr/>
          </p:nvCxnSpPr>
          <p:spPr>
            <a:xfrm>
              <a:off x="5562000" y="5447880"/>
              <a:ext cx="457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04" idx="3"/>
              <a:endCxn id="223" idx="0"/>
            </p:cNvCxnSpPr>
            <p:nvPr/>
          </p:nvCxnSpPr>
          <p:spPr>
            <a:xfrm>
              <a:off x="4190760" y="5447880"/>
              <a:ext cx="343440" cy="724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>
              <a:off x="7238880" y="5257800"/>
              <a:ext cx="456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" name=""/>
            <p:cNvCxnSpPr>
              <a:stCxn id="214" idx="3"/>
              <a:endCxn id="223" idx="6"/>
            </p:cNvCxnSpPr>
            <p:nvPr/>
          </p:nvCxnSpPr>
          <p:spPr>
            <a:xfrm flipH="1">
              <a:off x="4723560" y="5448240"/>
              <a:ext cx="1905480" cy="915120"/>
            </a:xfrm>
            <a:prstGeom prst="bentConnector3">
              <a:avLst>
                <a:gd name="adj1" fmla="val -1199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4" idx="3"/>
              <a:endCxn id="224" idx="1"/>
            </p:cNvCxnSpPr>
            <p:nvPr/>
          </p:nvCxnSpPr>
          <p:spPr>
            <a:xfrm>
              <a:off x="6629400" y="5447880"/>
              <a:ext cx="609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23" idx="2"/>
              <a:endCxn id="194" idx="1"/>
            </p:cNvCxnSpPr>
            <p:nvPr/>
          </p:nvCxnSpPr>
          <p:spPr>
            <a:xfrm rot="10800000">
              <a:off x="1447200" y="5447520"/>
              <a:ext cx="2896200" cy="915120"/>
            </a:xfrm>
            <a:prstGeom prst="bentConnector3">
              <a:avLst>
                <a:gd name="adj1" fmla="val 1078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4343400" y="6172200"/>
              <a:ext cx="380520" cy="380880"/>
            </a:xfrm>
            <a:prstGeom prst="flowChar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86200" y="6400800"/>
              <a:ext cx="53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64240" y="2789280"/>
                <a:ext cx="2274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D4C-15E1-4923-9F59-C7F655B83D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DMA QualComm Standard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267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800 &amp; 1900 MHz band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ach us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unique spread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s from 2 closest base stations (handoff is robu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verse link (from users to base station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sh cod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ry m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djust in user trans-mission: base receiver sees all users at equ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ward link (base station to user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 uses Walsh codes for each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ignals orthogonal: requires each user to be synchronized to xmitter, but not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power increases as number of users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E62-3322-4A1B-9376-9E88E39980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L. Evans</cp:lastModifiedBy>
  <cp:lastPrinted>1999-11-09T22:24:43Z</cp:lastPrinted>
  <dcterms:modified xsi:type="dcterms:W3CDTF">2010-06-27T04:03:54Z</dcterms:modified>
  <cp:revision>263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u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NT\Profiles\wade\Personal\bevans\ee37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