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72F-531F-433E-93CC-F9993632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B4E-A257-4E25-B0CD-02589F4B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D42-5016-4D81-B9F9-213942F0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322-9D38-4778-A301-D4A9F202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8CEE-8934-473E-B900-D5597B7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1DDD-CD50-4857-B581-7A8F2D91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BA9-71C1-4E51-B33D-AD010B9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6A2F-4467-455C-98C5-AD85389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58E7-48FE-41D9-8846-BA485BBC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CA0B-CA2C-4B96-AB76-2EF25078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480-B5D3-4ABA-9601-0247677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E33-07EA-4BE5-8B15-CE4CAE2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F9B-B1FC-41C1-8AC4-C93A5DF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ED79-914D-433C-967E-DE23617E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1AF4-299E-4799-BC15-D43D2992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DB1-F794-4BAC-A50D-15C528B6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08A2-FEE1-46D3-ADCF-F0BB6833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0FE-1C97-46E2-9F12-D6E05A8F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AF6-137E-4276-90EA-D896676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633-EE72-436D-95D8-55C600D6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335-C6D3-4443-8162-C870ED5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DDD-8497-4684-8011-0A788B9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E11-8861-4CA8-9FE7-D9609FB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FA9-D41E-444C-80A2-2858FEAF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- </a:t>
            </a:r>
            <a:fld id="{4FB24221-F39C-4BDD-ABDC-D216CC998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F265-828B-45B2-8D7F-52713C41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22                                                       http://courses.utexas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345S Real-Time Digital Signal Processing Lab           Sprin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eminar2.techonline.com/~adi/jun2001/" TargetMode="External"/><Relationship Id="rId2" Type="http://schemas.openxmlformats.org/officeDocument/2006/relationships/hyperlink" Target="http://seminar2.techonline.com/~adi/jun2001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dti.com/" TargetMode="External"/><Relationship Id="rId2" Type="http://schemas.openxmlformats.org/officeDocument/2006/relationships/hyperlink" Target="http://www.eembc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dti.com/pocket/pocket.htm" TargetMode="External"/><Relationship Id="rId2" Type="http://schemas.openxmlformats.org/officeDocument/2006/relationships/hyperlink" Target="http://www.ti.com/" TargetMode="External"/><Relationship Id="rId3" Type="http://schemas.openxmlformats.org/officeDocument/2006/relationships/hyperlink" Target="http://www.ti.com/sc/docs/dsps/dsphome.htm" TargetMode="External"/><Relationship Id="rId4" Type="http://schemas.openxmlformats.org/officeDocument/2006/relationships/hyperlink" Target="http://www.ti.com/sc/docs/dsps/dsphome.htm" TargetMode="External"/><Relationship Id="rId5" Type="http://schemas.openxmlformats.org/officeDocument/2006/relationships/hyperlink" Target="http://www.ti.com/sc/docs/dsps/develop/3party.htm" TargetMode="External"/><Relationship Id="rId6" Type="http://schemas.openxmlformats.org/officeDocument/2006/relationships/hyperlink" Target="http://www.agere.com/" TargetMode="External"/><Relationship Id="rId7" Type="http://schemas.openxmlformats.org/officeDocument/2006/relationships/hyperlink" Target="http://www.agere.com/" TargetMode="External"/><Relationship Id="rId8" Type="http://schemas.openxmlformats.org/officeDocument/2006/relationships/hyperlink" Target="http://www.lucent.com/micro/dsp/" TargetMode="External"/><Relationship Id="rId9" Type="http://schemas.openxmlformats.org/officeDocument/2006/relationships/hyperlink" Target="http://www.mot.com/" TargetMode="External"/><Relationship Id="rId10" Type="http://schemas.openxmlformats.org/officeDocument/2006/relationships/hyperlink" Target="http://www.mot.com/" TargetMode="External"/><Relationship Id="rId11" Type="http://schemas.openxmlformats.org/officeDocument/2006/relationships/hyperlink" Target="http://www.mot.com/" TargetMode="External"/><Relationship Id="rId12" Type="http://schemas.openxmlformats.org/officeDocument/2006/relationships/hyperlink" Target="http://www.mot.com/SPS/DSP/" TargetMode="External"/><Relationship Id="rId13" Type="http://schemas.openxmlformats.org/officeDocument/2006/relationships/hyperlink" Target="http://www.mot.com/SPS/DSP/developers/thirdparty.html" TargetMode="External"/><Relationship Id="rId14" Type="http://schemas.openxmlformats.org/officeDocument/2006/relationships/hyperlink" Target="http://www.analog.com/" TargetMode="External"/><Relationship Id="rId15" Type="http://schemas.openxmlformats.org/officeDocument/2006/relationships/hyperlink" Target="http://www.analog.com/SHARC_2154" TargetMode="External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odern Digital Signal Processors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700 Floating Point VLIW DSP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2-bit floating-point VLIW DS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in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s C6000 instruction set for floating point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ight functional units: single cycle through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Us are fixed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ALUs support fixed-point and floating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ultipliers support fixed-point and floating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ications include professional audio, home entertainment, wireless base stations, medical imaging, sonar imaging, and robotic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239-C7B4-462D-BC13-9CA5400B3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712 vs. C6713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6712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50 MHz clock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900 MFLO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 kB/4kB of L1 program/data memo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64 kB of L2 cach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200 MB/s on-chip data bus bandwidth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$13.50 each in volu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6713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25 MHz clock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350 MFLO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 kB/4kB of L1 program/data memo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56 kB of L2 cach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800 MB/s on-chip data bus bandwidth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$26.85 each in volu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19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rmation as of December 3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01B-88AB-4EE4-B4F6-F7DC229F7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MS320C6200 vs. Pentiu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8640" y="1290600"/>
          <a:ext cx="812664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290600"/>
                    <a:ext cx="81266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97320" y="5178600"/>
            <a:ext cx="77335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BDTImarks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: Berkeley Design Technology Inc. DSP benchm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results (larger means better) </a:t>
            </a:r>
            <a:r>
              <a:rPr b="0" lang="en-US" sz="1600" spc="-1" strike="noStrike">
                <a:solidFill>
                  <a:srgbClr val="0000ff"/>
                </a:solidFill>
                <a:latin typeface="NewCenturySchlbk"/>
              </a:rPr>
              <a:t>http://www.bdti.com/bdtimark/results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NewCenturySchlbk"/>
              </a:rPr>
              <a:t>http://www.ece.utexas.edu/~bevans/courses/ee382c/lectures/processor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49B-4C0B-4AC1-81BB-B2C8B8839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tarco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rtup company with two major investo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 (Semiconductor Product Sector, Austin, T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re Systems (formerly Lucent Technologies Microelectronics Group, Allentown, 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 developed 16-bit VLIW DS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1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00 MHz, 1200 MMACS or 3000 RISC MIPS at 0.2mW/ MMAC at 1.5V or 0.07 mW/MMAC at 0.9V (Jan. 2001 figu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1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00 MHz, 300 MMACs or 1200 RISC MIPS, one-half of the peak power consumption of SC140. (Jan. 2001 figu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875-6B96-4750-B58B-68C776D8AF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MS320C6200 vs. StarCore S140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4840" y="1292400"/>
          <a:ext cx="650232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292400"/>
                    <a:ext cx="65023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4080" y="5744520"/>
            <a:ext cx="7936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*   Does not count equivalent RISC operations for modulo address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** On the C62x, there is a performance penalty for 40-bit accumulatio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9C4-51A1-4A89-840A-4A766AC507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tarco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39800"/>
          <a:ext cx="8076960" cy="3922560"/>
        </p:xfrm>
        <a:graphic>
          <a:graphicData uri="http://schemas.openxmlformats.org/drawingml/2006/table">
            <a:tbl>
              <a:tblPr/>
              <a:tblGrid>
                <a:gridCol w="1980720"/>
                <a:gridCol w="1295640"/>
                <a:gridCol w="4800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Lucent StarPro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3 SC140 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ers and cellular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otorola MSC8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 SC140 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-generation wireless systems, IP telephony, modem banks, multi-channel DSL mod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otorola MSC8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4 SC140 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-density multi-channel multi-standard applications, e.g. in central offices of telephone companies and third-generation wireless bas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447920" y="5791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does Motorola’s DigitalDNA slogan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528-6EEB-48E2-B1FB-F2A682EB3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Devices ADSP-21161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2-bit floating-point Super Harvard Architecture (SHARC) DSP based on SIMD core (Sept. 6, 2000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gle-cycle throughput for fixed-point and floating-point arithmetic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00 MHz clock, 600 MFLOP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 Mbit dual-ported memory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800 Mbyte/s of on-chip data bus bandwidth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$35 each in volumes of 1,000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ications include high-end audio systems, wireless basestations, medical imaging, sonar imaging, and robotic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50C-11AD-4E55-AC9C-13A5E4694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l/Analog Devices Blackfin DSP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llaboration begun in Dec. 1999 in Austin, T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st member ADSP-21535 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June 20, 2001,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Webcast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6-bit fixed-point cor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formance: 1.5V, 300 MHz, 3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: 0.9V, 100 MHz, 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.4 GB on-chip I/O bandwidth at 300 MHz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ual multiply-accumulate un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x 16-bit multipl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-bit accu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 million MACs/second at 30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C07-7CFD-4EAC-8BB6-BC0D29C22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l/Analog Devices Blackfin DSP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8 video ALU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6-bit and 32-bit instruction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gister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32-bit address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32-bit data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ressability: 8, 16, and 32 bit data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-core peripherals: PCI, USB, 2 UARTs (one IrDA), A/D and LCD drivers, 3 timers, etc.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locked, eight-stage pipel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DA2-2F50-476C-8296-7E8643CCDA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SI Logic (Dallas, TX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SI Logic LSI401Z (Formerly ZSP164xx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-way, in-order superscala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DSP (16-bit instructions, 16-bit or 32-bit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2520" y="2903400"/>
          <a:ext cx="3967200" cy="34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903400"/>
                    <a:ext cx="396720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724280" y="2897280"/>
          <a:ext cx="3932280" cy="350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97280"/>
                    <a:ext cx="393228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E42-7466-4E43-A082-FD5862E9E1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Signal Processor Marke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st rapidly expanding sector of semiconductor market (30% growth rate 1990-2001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600 million cell phone subscribers worldwide (June 2001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Ps in more than 60% of existing cell ph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.7 million cell phone subscribers in 1Q00 in China, the single largest market (30%) in Asia/Pacific (Dataque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ow many digital signal processors (DSPs) are in each PC? Where are they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01D-E270-4A9F-AE84-5332D6AF89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enchmark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Berkeley Design Technology Inc.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DTImark200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DSP kernels in hand-optimize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single number (higher means faster) pe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ly on-chip memory (memory bandwidth is the major bottleneck in performance of embedded ap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EDN Embedded Microprocessor Benchmark Consortiu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EEMBC pronounced “embassy”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companies formed by Electronic Data News (ED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mark evaluates compiled C code on a variety of embedded processors (microcontrollers, DSP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domains: automotive-industrial, consumer, office automation, networking and tele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817-3EF3-4F7A-A1AF-6AA13E0A5E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ttery Technolog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Key limiting factor in handheld embedded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H is Nickel/metal-hydroxide. Used in electric vehicles (s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Spectr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c. 1997, p. 6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d, NiMH, and Li+ used in cellular ph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Larry Hayes, Motorola Semiconductor Product Sector in Phoenix, Arizona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90720" y="1981080"/>
          <a:ext cx="7315200" cy="23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152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FC7-A72C-495F-BF06-F551DD0E3E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SPs on the Market Toda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rkeley Design Tech. Inc. Pocket Guide to DSP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http://www.bdti.com/pocket/pocket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e han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3200400"/>
          <a:ext cx="8534520" cy="309708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143000"/>
                <a:gridCol w="45720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2"/>
                        </a:rPr>
                        <a:t>Texas In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3"/>
                        </a:rPr>
                        <a:t>www.ti.com/sc/docs/dsps/dsphome.</a:t>
                      </a: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4"/>
                        </a:rPr>
                        <a:t>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5"/>
                        </a:rPr>
                        <a:t>www.ti.com/sc/docs/dsps/develop/3party.ht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allas/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6"/>
                        </a:rPr>
                        <a:t>Agere</a:t>
                      </a: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7"/>
                        </a:rPr>
                        <a:t>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8"/>
                        </a:rPr>
                        <a:t>www.lucent.com/micro/dsp/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 third-party support li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llen-t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9"/>
                        </a:rPr>
                        <a:t>Moto</a:t>
                      </a: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10"/>
                        </a:rPr>
                        <a:t>-</a:t>
                      </a: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11"/>
                        </a:rPr>
                        <a:t>r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12"/>
                        </a:rPr>
                        <a:t>www.mot.com/SPS/DSP/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13"/>
                        </a:rPr>
                        <a:t>www.mot.com/SPS/DSP/developers/thirdparty.htm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hlinkClick r:id="rId14"/>
                        </a:rPr>
                        <a:t>Analog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a50021"/>
                          </a:solidFill>
                          <a:uFillTx/>
                          <a:latin typeface="Courier New"/>
                          <a:hlinkClick r:id="rId15"/>
                        </a:rPr>
                        <a:t>www.analog.com/SHARC_2154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ww.analog.com/publications/press/products/3rd_party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oston/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us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696080" y="237816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Times New Roman"/>
              </a:rPr>
              <a:t>Market</a:t>
            </a:r>
            <a:br>
              <a:rPr sz="2400"/>
            </a:br>
            <a:r>
              <a:rPr b="1" lang="en-US" sz="2400" spc="-1" strike="noStrike">
                <a:solidFill>
                  <a:srgbClr val="ff0101"/>
                </a:solidFill>
                <a:latin typeface="Times New Roman"/>
              </a:rPr>
              <a:t>Shar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1598760" y="43419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Four Producers of 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6668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SP Information / Third-Part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3086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ere Systems was formerly the Lucent Tech. Microelectronic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B1E-8F50-465C-8B54-525F68DC4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exas Instrumen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st commercially successful DS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Instruments TMS32010 in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ey Cragon (UT Austin) was a key part of desig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SP processors shipp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50 million in 1999 (estim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SP processor revenu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1 Billion of $4.4 Billion total (48% share)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7 Billion of $6.1 Billion total (44% share)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ern DSP family is TMS 320C6000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-bit instructions: Very Long Instruction Word (VLI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L modems, 3G basestations, video cod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2AF-C02A-4CA6-91F7-ED7B2CD79F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8120" y="1600200"/>
            <a:ext cx="5029200" cy="4419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1828800"/>
            <a:ext cx="15242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828800"/>
            <a:ext cx="1523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25780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1905480"/>
            <a:ext cx="16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rogram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980720"/>
            <a:ext cx="12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ata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0800" y="213336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or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5146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481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743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4852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9000" y="2971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04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2514600"/>
            <a:ext cx="75960" cy="228600"/>
          </a:xfrm>
          <a:prstGeom prst="upDownArrow">
            <a:avLst>
              <a:gd name="adj1" fmla="val 50000"/>
              <a:gd name="adj2" fmla="val 5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553080" y="28954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8195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2767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2670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47242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6553080" y="33526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553080" y="38098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553080" y="44193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6553080" y="48765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6553080" y="53337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50000" y="26665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Internal 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200400"/>
            <a:ext cx="22860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029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2004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114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1920" y="50288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ontro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16200000">
            <a:off x="4983480" y="394704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B0-B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16200000">
            <a:off x="3079800" y="39470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A0-A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2020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948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3244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2452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196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8160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9456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664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6640" y="54853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479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3429000"/>
            <a:ext cx="137160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2666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2920" y="2361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8280" y="2895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16520" y="3047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41760" y="3735000"/>
            <a:ext cx="97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8400" y="2824560"/>
            <a:ext cx="1162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Seri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Hos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Boot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w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Instruction Set Archite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370520"/>
            <a:ext cx="1743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Simplifie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200" y="5341680"/>
            <a:ext cx="235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C6200 fixed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C6400 fixed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C6700 float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59E-BCF4-4A71-9605-7437DBF3C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Instruction Set Architectur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ress 8/16/32 bit data + 64 bit data on C67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ad-store RISC architecture with 2 data path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32-bit registers per data path (A0-15 and B0-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instructions (C62x) and 79 instructions (C67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parallel data paths with 32-bit RISC un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nit - 32-bit address calculations (modulo, line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er unit - 16 bit x 16 bit with 32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unit - 40-bit (saturation) arithmetic &amp; co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r unit - 32-bit integer ALU and 40-bit 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ly executed based on registers A1-2 &amp; B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two 16-bit halfwords packed into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5F9-7E39-4081-951B-CA0C744F4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Functional Uni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M multiplication unit</a:t>
            </a: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it x 16 bit signed/unsigned packed/un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.L arithmetic logic unit</a:t>
            </a: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s and logic operations (and, or, and x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ation arithmetic and absolut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.S shifter un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manipulation (set, get, shift, rotate) and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and packed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.D data unit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/store 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and 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5AF-64B3-479C-87B6-BFE616C035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Register Accesses Restric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ach function unit has read/write por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 1 (2) units read/write A (B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 2 (1) can read one A (B) register p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0 bit words stored in adjacent even/odd regis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extended precision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40-bit result can be written p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0-bit read cannot occur in same cycle as 40-bit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simultaneous memory accesses cannot use registers of same register file as address poin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more than four reads per register per cyc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421-21D8-46FD-AD91-9A1CFCFB3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6000 Disadvantag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acceleration for variable length decod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computation for MPEG-2 decoding on C6x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ion available in C6400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Very deep pipel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branch is in the pipeline, interrupts are disabled: avoid branches by using conditional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rdware protection against pipeline hazards: programmer and software tools must guard agains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hardware looping or bit-reversed address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0-bit accumulation incurs performance penal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status register: must emulate status bits other than saturation bit (.L unit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CF3-2B01-4A2C-A07C-4A2276522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evans</cp:lastModifiedBy>
  <cp:lastPrinted>2001-01-11T04:38:15Z</cp:lastPrinted>
  <dcterms:modified xsi:type="dcterms:W3CDTF">2003-12-16T20:49:54Z</dcterms:modified>
  <cp:revision>235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7_Discrete_Time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