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09A-FAE7-4506-A2E6-006A8EAF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D3B-51EF-48BD-8AFF-BE97D6E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E39-7B89-4CC6-89E9-D1B36588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1F4-125E-4BBA-A17D-3DB27182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2E3-D4D8-4F29-AB69-B699F9D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FB2-B3C7-4122-9CEA-B1A56A4C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8C9-F813-4A1D-9CEB-9D72E206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3FF-43BA-438B-A43D-A45E9A8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EEE-28C4-454F-ABF9-487315C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DBC-D07A-47A8-A745-64F1B9E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F38-D2A5-4459-A334-3DFA26D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661-FD6B-4C5A-BF57-71474F7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The University of Texas at 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- </a:t>
            </a:r>
            <a:fld id="{819F4388-EA05-4368-90B6-A9636DD6D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ative Signal Processing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vi Bharg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atory of Comput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and Computer Engineering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2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851-5E2F-4754-8450-A585A8B511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ernative Dot-Produc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certain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OTPROD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37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AA1-57D5-4D37-A3F2-9D49D00939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ernative Dot-Product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eav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OTPROD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458200" cy="32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7A5-D409-4DA1-9202-0A14D9E29C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upport for NSP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 speed for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do too much, but getting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macros, annotations, and “intrins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know about any new registers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know about any new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EF3-3C59-4505-B95E-C713282F6F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mmon Concer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ing SIM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ing and unpacking SIMD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ffling data within th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zzling”, “scatter and gath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ut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load and store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ata types in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ing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DCB-17F4-4C31-93B3-D67B5823EF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New Instruc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maximum,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d Sum of absolute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-accu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: signed, data length,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s: reciprocal, reciprocal squar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C05-66EF-4B43-AFA2-6B569FDE32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Evolution of NSP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Instruction Set (V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NSP extension found on Sun’s Ultra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x86 NSP extensions, created for Intel’s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No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of FP SIMD instructions on AMD’s K6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i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CPU State for Motorola’s G4 Power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SIMD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x86 FP SIMD for Intel’s Pentium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C8B-D37F-424D-9F29-278420AE06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VIS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64-bit floating point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ormats “tailored for graphi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aturation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8-bit x 16-bit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assumptions about rounding &amp; number of significan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% increase in di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Macros and “MediaLib”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4C2-8C43-4D2A-A4DE-1A54BFE884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VIS Tailored for Graphic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pixels will be most comm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vispixels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334040" cy="1306800"/>
          </a:xfrm>
          <a:prstGeom prst="rect">
            <a:avLst/>
          </a:prstGeom>
          <a:ln w="0">
            <a:noFill/>
          </a:ln>
        </p:spPr>
      </p:pic>
      <p:pic>
        <p:nvPicPr>
          <p:cNvPr id="83" name="vispack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743360" cy="18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8B3-6846-4EC6-98D4-5DC7C0EC8F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UltraSPARC with VI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5" name="vispipes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189-7454-4035-96D6-F74FE62ACC3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K6-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new SIM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floating point SIMD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TCH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and intra-element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32-bit FP instructions in one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3DNow! instructions possible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 two cycles, throughput of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ased to the FP registers (like MM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654-FA91-4F14-874F-F8DE0113ED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new ways to support emerg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 have simila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tream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centage of comp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omputations (e.g. 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5EF-7DCA-455D-A128-988E28ADCA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the K6-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89" name="k6pipe" descr=""/>
          <p:cNvPicPr/>
          <p:nvPr/>
        </p:nvPicPr>
        <p:blipFill>
          <a:blip r:embed="rId1"/>
          <a:stretch/>
        </p:blipFill>
        <p:spPr>
          <a:xfrm>
            <a:off x="1143000" y="1467000"/>
            <a:ext cx="7086600" cy="40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2CF-C9CB-4FCA-B49F-7A19EDBAEC4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treaming SIMD Extens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 new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new 128-bit SSE registers (OS sup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wo SSE instructions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cycle through existing 64-bi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cro-ops per SS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ten two cycles or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scalar SS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tch to various levels of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allocating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increase in di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54C-2660-49A5-9539-011DBDDD05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entium II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3" name="p3-architectur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8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B3E-91B4-497F-9C1B-077FF636C78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3DNow! on the Athl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switching overhead back to F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nstructions have one cycle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mor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ore integer SIMD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more data manipulati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“unique” DSP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to Integer word conversion with sign ex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negative accu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FP mixed negative-positive accu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integer word to FP 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d swap double-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65B-F947-493E-9F25-FB492554E4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thl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97" name="k7-architecture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F7D-93AE-49B5-856A-C6986205E12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ive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2 new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-element: rotate, shift, max, min, su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s: log2, 2 raised to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SAD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32-entry, 128-bit vector register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and fixed-point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s have three source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8F2-9DEC-40E7-9940-5F442107AC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ltivec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ute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uffle data from any of the 32 byte locations in two operands to any of 16 byte locations in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ute instructions -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ub-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fixed-point - 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fixed-point - thre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- four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822-3CDC-4F49-8C0C-E40BFA0716F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pplications using 3DNow!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games and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 4, Diablo 2, Quake III, Unre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video card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ox, Diamond, ATI, nVidia, 3DLabs, 3d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 A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, DirectX, G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ly Speaking, LiveArt98, WinAMP, PicVideo, PC-Doctor, QuickTech, XingM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1BC-1606-40A3-9125-CCFE01BA0A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dditional Information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X talk and additional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mmxd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P talk outline and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ce.utexas.edu/~ravib/ns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B68-0460-47D1-8F7A-DAACA55079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arget Applications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telephony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channel mod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o cance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and video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array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private network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7DA-5952-4FDD-939F-1294405424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capabilities of general-purpos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 to the instruction se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s to the CPU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 Data Paralle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nstruction Multiple Data (SIM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operations using one function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689-FCC0-49D3-8B5E-F9F1D50314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SIMD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e register to store many piec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imd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419720" cy="28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EA5-DBAE-49D8-923B-6FE00FE790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acked Arithmeti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igned Packed Add with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ddusw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029200" cy="21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720-A1C4-46E0-B362-D06945CE7E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Packed Arithmetic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Accum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maddwd" descr=""/>
          <p:cNvPicPr/>
          <p:nvPr/>
        </p:nvPicPr>
        <p:blipFill>
          <a:blip r:embed="rId1"/>
          <a:stretch/>
        </p:blipFill>
        <p:spPr>
          <a:xfrm>
            <a:off x="2133720" y="2238480"/>
            <a:ext cx="492444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E01-A5A3-4C23-9BF0-649DACE87A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MX Exampl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Vector Dot-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OTPROD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83818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1E6-3FB0-4E59-A507-5C07A55F14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Dot-Product (cont.)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63" name="DOTPROD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5808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01F-9533-476A-8FA7-2709BA9F78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2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00:43:10Z</dcterms:created>
  <dc:creator>Ravi Bhargava</dc:creator>
  <dc:description/>
  <dc:language>en-US</dc:language>
  <cp:lastModifiedBy>bevans</cp:lastModifiedBy>
  <cp:lastPrinted>1999-11-22T06:05:31Z</cp:lastPrinted>
  <dcterms:modified xsi:type="dcterms:W3CDTF">2002-06-15T23:40:00Z</dcterms:modified>
  <cp:revision>12</cp:revision>
  <dc:subject/>
  <dc:title>Native Signal Processing</dc:title>
</cp:coreProperties>
</file>