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D512-8FBD-4417-833B-4B61E1B68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6D54-1C31-454F-BC4A-EF6C6F08F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B89E-3B03-4ADE-BA72-D42803CDD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2344-4493-425E-8988-0B0EA4FA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B96C-3234-41A5-8E79-7889CC0451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ADED-AF78-4DFC-985A-C2C7253DE9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6370-B45E-4951-9849-6C90E79781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0652-4048-44BC-B5FC-E1246D7EC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E0EE-4218-4AFB-AB89-E3287C6C06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B4E8-D246-451E-82EE-FE96568BFA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5E55-ACBE-4E43-A39A-7B97F780E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503D-9DED-456F-8585-14C03E078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3212-23EB-4746-9E67-94D034F964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045D-B46F-4EE4-9F9F-3654C4F7CC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4AB7-581E-4684-85EC-72B1ED46E4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EC46-39E3-4C35-875B-B7BEEDFA91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C03B-9E09-487C-91C1-F7B902833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601B-49BB-4496-A6B7-3D2E33DD5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0813-AE70-4E3F-B9B4-8752B749E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FF0D-8E89-457D-A1F0-41CFECC6B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CAAC-18AA-4FF2-90C4-2ECB082B5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319E-0FD3-4646-B0C1-6D084AD7D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11EF-1C02-4750-81D8-1AC5D6146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BD57-BFC6-42F5-9D6B-F1A93ED4A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88920">
            <a:solidFill>
              <a:srgbClr val="c6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12193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172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lecommunications and Signal Processing Se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 - </a:t>
            </a:r>
            <a:fld id="{FA805D87-7BF1-43AC-8EA7-744AEAAA9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88920">
            <a:solidFill>
              <a:srgbClr val="c6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lecommunications and Signal Processing Se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 - </a:t>
            </a:r>
            <a:fld id="{93E7D950-FDE3-4E35-BF6E-67EB48BE9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133720"/>
            <a:ext cx="7772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Ravi Bhargava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Lizy K. John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Brian L. Ev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6300"/>
                </a:solidFill>
                <a:latin typeface="Times New Roman"/>
              </a:rPr>
              <a:t>Ramesh Radhakrishnan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343400"/>
            <a:ext cx="76960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Department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* Laboratory of Comput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762120"/>
            <a:ext cx="79250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valuating MMX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sing DSP and Multimedia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581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vember 22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32CB-B03C-4394-A66A-6B5066ED17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 performance profil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for “hot spo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sections of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ntium with 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U pena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erformance cou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52680" y="7621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VTune 2.5.1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EB70-7D59-4233-9330-A196B6D3F1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54864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non-MMX to MMX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95480" y="7621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verall Result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5680" y="1398600"/>
          <a:ext cx="60973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9860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90720" y="1554120"/>
          <a:ext cx="7086600" cy="370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54120"/>
                    <a:ext cx="70866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6900-CCE5-47BE-A0A9-682B55A83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EG and G722 show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owd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linear speedup in MatV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data, 6.6X speed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 related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, Radar, JPEG, G7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unp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95480" y="7621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verall Result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6593-8ED9-449B-96F1-EB6FB40101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533412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MMX Instructions and MMX Instruction Mix. Speedup increasing from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7621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 Instruction Mi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554120"/>
          <a:ext cx="7086600" cy="37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54120"/>
                    <a:ext cx="70866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3983-00B4-45FF-A651-77EC33A37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set s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: FIR, Radar, G722, J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: IIR, Image, MatVec, F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s MMX %, speed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” P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50% MMX arithm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s to 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version: 40% MMX, less speed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14600" y="762120"/>
            <a:ext cx="4343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 Instruction Mi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4AA8-F06B-4962-9EBC-CCDA621335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5334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Non-MMX Assembly to 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3720" y="76212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Versus Optimized Code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1554120"/>
          <a:ext cx="7086600" cy="37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54120"/>
                    <a:ext cx="708660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4FCB-F106-4476-A63A-3718740736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MX version 1.98X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t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ed MMX code 1.6X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call overh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8X more in MMX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 Maintenance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for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equential data ac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0" y="762120"/>
            <a:ext cx="4648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loser Look at JPEG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43A5-DE3B-437D-B427-B4FD69079A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lowdown 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 and G7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, contiguo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able at a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function call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-coded assembly, in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19520" y="762120"/>
            <a:ext cx="3504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ome Problem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2970-5887-4A4A-AAE7-B3314E23EC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up available with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s: 1.25 to 6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 1.21 to 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 optimized FP: 1.25 to 1.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haracteristics of M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tatic instruction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dynamic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memory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50% of MMX is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438280" y="76212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ummary of Result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E23E-A9AF-455B-BDDE-2136B7C69B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concludes this portion of the tal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lides provide further information on: methodology, benchmarks, results, and additiona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2D95-2EB1-495C-8E6C-8F4E73639B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133720"/>
            <a:ext cx="792504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talk is a condensed version of a presentation given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31st International Symposium on Micro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MICRO-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llas,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ember 30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ravib/mmxds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762120"/>
            <a:ext cx="79250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valuating MMX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sing DSP and Multimedia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CFE9-8C23-4109-AFF4-0B4D9BDBD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al 1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om-lik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-line MMX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erformance Cou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8% MMX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. What is speed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4X more frame/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trends as bench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884A-38EB-4F02-85BA-9D12204A65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“Important”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Inputs and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S Effects Meas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057400" y="762120"/>
            <a:ext cx="5029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SP-like Environment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D814-BC48-45C2-AA20-F505A5281E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ctions use M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-bit and 16-bi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-specific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Processing Library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tion Primitives Library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Processing Library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28800" y="7621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tel Assembly Librarie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F511-DF3C-49F0-8928-C0F8CF4088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MX SNR: 31.05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 SNR: 31.04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: N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72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MX SNR: 5.46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 SNR: 5.18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pler 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C734-3CEA-42BE-B2F8-F3CCB69940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d Pro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D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4%  of execut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Block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x8 block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362320" y="762120"/>
            <a:ext cx="4419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 Example: JPEG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6807-70B3-410B-999D-24734645BE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D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only has 1D D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 different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nough data paralle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d fill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057400" y="76212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PEG: Inserting MM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10FB-5420-49E8-B855-A555EE455F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averages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ne input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MX: 32-bit 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: 16-bit fixe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length is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1B10-1E69-4536-AE30-53A286851D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ourie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s discrete Fourie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96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 FFT to MMX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MX: 32-bit 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X: 16-bit fixed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FF10-D880-4003-9FBC-E3D1024720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V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&amp; Vecto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2x512 matrix times 512-entry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t product of two 512-entry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versions: 16-bi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C04C-3B1B-4018-AE5F-A70C4FF398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terworth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orm, Band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length of 8, 17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high 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ersions u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A2DC-0ECE-4370-A6C7-6BB1D8E60B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 New assembly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ased to FP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S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mpil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9880" y="762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805E-E1DF-4CBB-8D92-0C1915F92C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pler Radar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complex echo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ing stationary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s power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frequency from peak of 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-point, in-place 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AFF3-4BB8-4C56-B94D-FDAAE18AED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722 Speech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signal: 16-bit, 16 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signal: 8-bit, 8 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kb speech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5A20-C4FD-413B-B305-EAEF1A04D0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 16, 32, 64-bit fixed-poin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ing, unpacking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d 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-bit multiply-accum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ation arithme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9880" y="76212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MX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87DA-70B1-46D9-A184-198D8FFB6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evaluation of M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speedup is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radeoffs are inv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, complexity, performance,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ation of MMX work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 mix, memory access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29000" y="7621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otivation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94C1-28B3-40A2-BFF6-2C691DF11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, general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ourier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, spectr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&amp;Vecto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Impulse Respons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, L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733920" y="762120"/>
            <a:ext cx="1752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Kernel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A16D-218D-49D0-87B6-1A51B2973F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EG Image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map Image to JPEG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D D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722 Speech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, Encoding of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P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Proc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olor Mani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pler Radar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rithmetic, F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00400" y="6858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pplication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BB60-4952-4A1F-A4C6-80D7AA0BC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non-MMX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P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MMX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up like non-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tel Assembly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Visual C++ 5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with VTune 2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8120" y="7621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thodology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3921-576E-4217-B4FF-CE5A85FFCA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 just function sw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input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point versus floating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versus 32-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ring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Arrangement of filter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-order versus column-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800" y="7621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reating MMX Benchmark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B8AE-B66D-4D42-B5A8-371F3C67E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23:36:37Z</dcterms:created>
  <dc:creator>Ravi Bhargava</dc:creator>
  <dc:description/>
  <dc:language>en-US</dc:language>
  <cp:lastModifiedBy>bevans</cp:lastModifiedBy>
  <cp:lastPrinted>1998-11-20T06:31:48Z</cp:lastPrinted>
  <dcterms:modified xsi:type="dcterms:W3CDTF">2002-06-15T23:51:26Z</dcterms:modified>
  <cp:revision>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sers\ravi\micro\docs\presen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