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918-F908-4A52-A677-1E6FC728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F61-FBCA-44B1-9220-91E3F6AF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DAC-7A67-466A-B3C5-8A32692E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AB0-40DA-42F8-9F87-2E11DFE8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6C9-3F04-4A42-B7F7-7CFC76C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214-6088-4BD4-83A2-327F1F5B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8E8-CC32-424B-8ADD-805F6224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2F9-D28B-48DD-A102-24BDA1CC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C69-F7EE-4119-A351-79D0AD84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9A1-282B-4FF4-8F77-0CF3E4CD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1DB-130B-40DD-A714-1A8427F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543-45DA-4545-8830-D7F6215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A4E3-FA15-44AB-88DF-E2D218ACF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015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276360" cy="71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usoid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to Digital Signal 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s an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ing and 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te Impulse Respons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nite Impulse Respons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ion and Pulse Sha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S320C6000 Digital Signal Processors (DS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version – Par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version – Par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Impair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Pulse Amplitude Modulation (P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ature Amplitude Modulation (QAM) 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M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Fourier 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SL Mod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alog Sinusoidal M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6240" y="1523520"/>
            <a:ext cx="337176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reless OFDM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pread Spectrum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odern D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tive 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gorithm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ystem-leve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for Midterm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s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ructional Staff/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rning Resourc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olu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Theorem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sed Cosine 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ion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-Shaped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Quiz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 Sequence Sp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 Timing Re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pped Delay Line on C6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-Pass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AM vs. P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 Ways To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 to Fourier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ng Random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505320" y="3981600"/>
            <a:ext cx="3124080" cy="447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09600" y="8715240"/>
            <a:ext cx="28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talics means available on Web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228600" y="874224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1:25:50Z</dcterms:created>
  <dc:creator>bevans</dc:creator>
  <dc:description/>
  <dc:language>en-US</dc:language>
  <cp:lastModifiedBy>Brian Evans</cp:lastModifiedBy>
  <dcterms:modified xsi:type="dcterms:W3CDTF">2014-01-10T12:01:37Z</dcterms:modified>
  <cp:revision>40</cp:revision>
  <dc:subject/>
  <dc:title>Linear Systems and Signals</dc:title>
</cp:coreProperties>
</file>