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B90D-D9D6-41C9-95F7-D54C22ACF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4935-B9B5-4B85-808E-E7575590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0FD9-D14A-49CD-969B-0FAC7928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E415-39D2-459C-B1CB-2A986108E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20F1-0B8C-4394-A8DA-BF0B0B96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2B81-CFB3-4B41-AFF3-62FA70F2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06F1-D211-48DC-BB5E-10E840E5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C031-B4D7-4747-AB31-4040039E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A072-359B-4FE2-8E9C-F85F2038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1658-6325-43EF-8822-3FE8E716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57C9-35F4-428D-ADF9-E600607D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A7A7-2CBB-4EA5-9860-00BA1055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6F3C-ED16-4655-9DE4-4DD55EBA4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34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-Time Digital Signal Processing Labora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. Brian L. Ev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. of Electrical and Computer Engineer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iversity of Texas at Aust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tin, TX 787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600200" y="489276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vans@ece.utexas.ed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ce.utexas.edu/~bev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200400" y="60958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ing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276720" y="457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 445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1:25:50Z</dcterms:created>
  <dc:creator>bevans</dc:creator>
  <dc:description/>
  <dc:language>en-US</dc:language>
  <cp:lastModifiedBy>Brian Evans</cp:lastModifiedBy>
  <dcterms:modified xsi:type="dcterms:W3CDTF">2014-01-06T17:25:06Z</dcterms:modified>
  <cp:revision>27</cp:revision>
  <dc:subject/>
  <dc:title>Linear Systems and Signals</dc:title>
</cp:coreProperties>
</file>