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35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6.png" ContentType="image/png"/>
  <Override PartName="/ppt/media/image17.jpeg" ContentType="image/jpeg"/>
  <Override PartName="/ppt/media/image11.wmf" ContentType="image/x-wmf"/>
  <Override PartName="/ppt/media/image5.png" ContentType="image/png"/>
  <Override PartName="/ppt/media/image28.png" ContentType="image/png"/>
  <Override PartName="/ppt/media/image38.jpeg" ContentType="image/jpeg"/>
  <Override PartName="/ppt/media/image29.jpeg" ContentType="image/jpeg"/>
  <Override PartName="/ppt/media/image33.wmf" ContentType="image/x-wmf"/>
  <Override PartName="/ppt/media/image34.wmf" ContentType="image/x-wmf"/>
  <Override PartName="/ppt/media/image36.png" ContentType="image/png"/>
  <Override PartName="/ppt/media/image25.jpeg" ContentType="image/jpeg"/>
  <Override PartName="/ppt/media/image32.png" ContentType="image/png"/>
  <Override PartName="/ppt/media/image12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0791-B7B5-4A10-81AE-CD9A4B51B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B22B-368F-43B0-9E9F-8E8F3E77C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84EA-6431-4FC1-919F-67AAE8201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D856-E6E5-4B3E-B0A7-DD74766AC8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C73C-5B9A-4133-9965-B1FB993B6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F2D1-9D81-4AF4-8A04-CEC51A689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A7FB-492E-456C-A519-74D62442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E316-626A-4616-8D68-363838C86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4C65-977D-4861-9222-BF8F18A64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A8EF-1BFB-4017-B0AB-7FF30A157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C0DD-9EF6-4E4A-81BF-BE0C093AE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AE63-EE1D-4E27-B58B-FCB4C90DE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DE714B3F-A288-4F01-9724-500954BAB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14.jpeg"/><Relationship Id="rId13" Type="http://schemas.openxmlformats.org/officeDocument/2006/relationships/image" Target="../media/image26.pn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   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91440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0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Cotelco IP Media Phone.jpg"/>
          <p:cNvPicPr/>
          <p:nvPr/>
        </p:nvPicPr>
        <p:blipFill>
          <a:blip r:embed="rId1"/>
          <a:srcRect l="0" t="19199" r="0" b="19199"/>
          <a:stretch/>
        </p:blipFill>
        <p:spPr>
          <a:xfrm>
            <a:off x="3809880" y="1211400"/>
            <a:ext cx="2362320" cy="1455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Signal Processors In Produ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7F184887-2D50-4339-8BD0-9582B1877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Yamaha RX-V371BL 5.1-Channel AV Receiver.jpg"/>
          <p:cNvPicPr/>
          <p:nvPr/>
        </p:nvPicPr>
        <p:blipFill>
          <a:blip r:embed="rId2"/>
          <a:srcRect l="0" t="25598" r="0" b="25598"/>
          <a:stretch/>
        </p:blipFill>
        <p:spPr>
          <a:xfrm>
            <a:off x="554040" y="2209680"/>
            <a:ext cx="234144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47"/>
          <p:cNvSpPr/>
          <p:nvPr/>
        </p:nvSpPr>
        <p:spPr>
          <a:xfrm>
            <a:off x="5335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nsumer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Plantronics DSP400 Headset.jpg"/>
          <p:cNvPicPr/>
          <p:nvPr/>
        </p:nvPicPr>
        <p:blipFill>
          <a:blip r:embed="rId3"/>
          <a:stretch/>
        </p:blipFill>
        <p:spPr>
          <a:xfrm>
            <a:off x="1600200" y="1523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47"/>
          <p:cNvSpPr/>
          <p:nvPr/>
        </p:nvSpPr>
        <p:spPr>
          <a:xfrm>
            <a:off x="609480" y="6014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-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Avid 9900-65162-12 4x6 Recording with DSP.jpg"/>
          <p:cNvPicPr/>
          <p:nvPr/>
        </p:nvPicPr>
        <p:blipFill>
          <a:blip r:embed="rId4"/>
          <a:srcRect l="0" t="25598" r="0" b="22399"/>
          <a:stretch/>
        </p:blipFill>
        <p:spPr>
          <a:xfrm>
            <a:off x="857160" y="3992400"/>
            <a:ext cx="1886040" cy="98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Behringer NU3000DSP 3000W Amp DSP Control.jpg"/>
          <p:cNvPicPr/>
          <p:nvPr/>
        </p:nvPicPr>
        <p:blipFill>
          <a:blip r:embed="rId5"/>
          <a:srcRect l="0" t="38410" r="0" b="38410"/>
          <a:stretch/>
        </p:blipFill>
        <p:spPr>
          <a:xfrm>
            <a:off x="673200" y="5462640"/>
            <a:ext cx="2070000" cy="480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2"/>
          <p:cNvSpPr/>
          <p:nvPr/>
        </p:nvSpPr>
        <p:spPr>
          <a:xfrm>
            <a:off x="19051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33520" y="4678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ing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eDigital 2Mpixel IP Camera Using TI Davinci Processor.jpg"/>
          <p:cNvPicPr/>
          <p:nvPr/>
        </p:nvPicPr>
        <p:blipFill>
          <a:blip r:embed="rId6"/>
          <a:stretch/>
        </p:blipFill>
        <p:spPr>
          <a:xfrm>
            <a:off x="3200400" y="2209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312408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1240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9" descr="Polycom QDX 6000.png"/>
          <p:cNvPicPr/>
          <p:nvPr/>
        </p:nvPicPr>
        <p:blipFill>
          <a:blip r:embed="rId7"/>
          <a:stretch/>
        </p:blipFill>
        <p:spPr>
          <a:xfrm>
            <a:off x="4419720" y="2514600"/>
            <a:ext cx="2438280" cy="1712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0"/>
          <p:cNvSpPr/>
          <p:nvPr/>
        </p:nvSpPr>
        <p:spPr>
          <a:xfrm>
            <a:off x="3200400" y="3733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7"/>
          <p:cNvSpPr/>
          <p:nvPr/>
        </p:nvSpPr>
        <p:spPr>
          <a:xfrm>
            <a:off x="28954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2" descr="iPhone 5.jpg"/>
          <p:cNvPicPr/>
          <p:nvPr/>
        </p:nvPicPr>
        <p:blipFill>
          <a:blip r:embed="rId8"/>
          <a:stretch/>
        </p:blipFill>
        <p:spPr>
          <a:xfrm>
            <a:off x="457200" y="1295280"/>
            <a:ext cx="1047600" cy="119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TI Audi Collaboration for In-Car Entertainment.png"/>
          <p:cNvPicPr/>
          <p:nvPr/>
        </p:nvPicPr>
        <p:blipFill>
          <a:blip r:embed="rId9"/>
          <a:srcRect l="6621" t="0" r="21517" b="11780"/>
          <a:stretch/>
        </p:blipFill>
        <p:spPr>
          <a:xfrm>
            <a:off x="3200400" y="4548240"/>
            <a:ext cx="2022480" cy="1395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4"/>
          <p:cNvSpPr/>
          <p:nvPr/>
        </p:nvSpPr>
        <p:spPr>
          <a:xfrm>
            <a:off x="320040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-car 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47"/>
          <p:cNvSpPr/>
          <p:nvPr/>
        </p:nvSpPr>
        <p:spPr>
          <a:xfrm>
            <a:off x="6477120" y="5862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6" descr="smart-meter-g002.jpg"/>
          <p:cNvPicPr/>
          <p:nvPr/>
        </p:nvPicPr>
        <p:blipFill>
          <a:blip r:embed="rId10"/>
          <a:srcRect l="10286" t="0" r="13715" b="0"/>
          <a:stretch/>
        </p:blipFill>
        <p:spPr>
          <a:xfrm>
            <a:off x="7391520" y="1371600"/>
            <a:ext cx="115092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7"/>
          <p:cNvSpPr/>
          <p:nvPr/>
        </p:nvSpPr>
        <p:spPr>
          <a:xfrm>
            <a:off x="6781680" y="2373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wer 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9" descr="Motorola 3360 DSL Modem.jpg"/>
          <p:cNvPicPr/>
          <p:nvPr/>
        </p:nvPicPr>
        <p:blipFill>
          <a:blip r:embed="rId11"/>
          <a:srcRect l="0" t="22829" r="0" b="24585"/>
          <a:stretch/>
        </p:blipFill>
        <p:spPr>
          <a:xfrm>
            <a:off x="7238880" y="2982960"/>
            <a:ext cx="1828800" cy="961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0"/>
          <p:cNvSpPr/>
          <p:nvPr/>
        </p:nvSpPr>
        <p:spPr>
          <a:xfrm>
            <a:off x="6934320" y="3821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L 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1" descr="Motorola Droid Razr.jpg"/>
          <p:cNvPicPr/>
          <p:nvPr/>
        </p:nvPicPr>
        <p:blipFill>
          <a:blip r:embed="rId12"/>
          <a:stretch/>
        </p:blipFill>
        <p:spPr>
          <a:xfrm>
            <a:off x="7467480" y="4800600"/>
            <a:ext cx="736560" cy="1100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Kindle Fire HD.gif"/>
          <p:cNvPicPr/>
          <p:nvPr/>
        </p:nvPicPr>
        <p:blipFill>
          <a:blip r:embed="rId13"/>
          <a:srcRect l="0" t="15361" r="0" b="0"/>
          <a:stretch/>
        </p:blipFill>
        <p:spPr>
          <a:xfrm>
            <a:off x="5257800" y="4495680"/>
            <a:ext cx="1447920" cy="1008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4"/>
          <p:cNvSpPr/>
          <p:nvPr/>
        </p:nvSpPr>
        <p:spPr>
          <a:xfrm>
            <a:off x="5257800" y="54975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2" descr="HTC Droid Phone.jpg"/>
          <p:cNvPicPr/>
          <p:nvPr/>
        </p:nvPicPr>
        <p:blipFill>
          <a:blip r:embed="rId14"/>
          <a:srcRect l="33392" t="0" r="30609" b="8170"/>
          <a:stretch/>
        </p:blipFill>
        <p:spPr>
          <a:xfrm>
            <a:off x="8267760" y="4435560"/>
            <a:ext cx="647640" cy="112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2362320" y="6118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7047EC32-D0BF-4850-A87B-6F128E7D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quired Textbook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oftware Receiver Design,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ct. 201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of digital 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algorithms into Matlab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919840" y="3108240"/>
            <a:ext cx="167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Bill Sethares (Wiscons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267080" y="3087720"/>
            <a:ext cx="19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Rick Johnson (Corn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6" descr="fac-klein"/>
          <p:cNvPicPr/>
          <p:nvPr/>
        </p:nvPicPr>
        <p:blipFill>
          <a:blip r:embed="rId1"/>
          <a:srcRect l="11925" t="0" r="11925" b="0"/>
          <a:stretch/>
        </p:blipFill>
        <p:spPr>
          <a:xfrm>
            <a:off x="7597800" y="1574640"/>
            <a:ext cx="1165320" cy="1533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sethares_william"/>
          <p:cNvPicPr/>
          <p:nvPr/>
        </p:nvPicPr>
        <p:blipFill>
          <a:blip r:embed="rId2"/>
          <a:srcRect l="6400" t="0" r="6400" b="21599"/>
          <a:stretch/>
        </p:blipFill>
        <p:spPr>
          <a:xfrm>
            <a:off x="6146640" y="1574640"/>
            <a:ext cx="1244880" cy="149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Richard-Johnson"/>
          <p:cNvPicPr/>
          <p:nvPr/>
        </p:nvPicPr>
        <p:blipFill>
          <a:blip r:embed="rId3"/>
          <a:srcRect l="6400" t="0" r="6400" b="32001"/>
          <a:stretch/>
        </p:blipFill>
        <p:spPr>
          <a:xfrm>
            <a:off x="4664160" y="1574640"/>
            <a:ext cx="1244520" cy="1457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7467480" y="3098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ndy Klein (W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2" descr="thadwelch"/>
          <p:cNvPicPr/>
          <p:nvPr/>
        </p:nvPicPr>
        <p:blipFill>
          <a:blip r:embed="rId4"/>
          <a:stretch/>
        </p:blipFill>
        <p:spPr>
          <a:xfrm>
            <a:off x="441360" y="4060800"/>
            <a:ext cx="1158840" cy="1447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0" y="5568840"/>
            <a:ext cx="19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had Welch (Boise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5" descr="Cameron-Wrightweb"/>
          <p:cNvPicPr/>
          <p:nvPr/>
        </p:nvPicPr>
        <p:blipFill>
          <a:blip r:embed="rId5"/>
          <a:srcRect l="3429" t="7660" r="3429" b="10213"/>
          <a:stretch/>
        </p:blipFill>
        <p:spPr>
          <a:xfrm>
            <a:off x="1905120" y="4083120"/>
            <a:ext cx="1241280" cy="1471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528920" y="5584680"/>
            <a:ext cx="190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ameron Wright (Wyo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7" descr="morrow_michael"/>
          <p:cNvPicPr/>
          <p:nvPr/>
        </p:nvPicPr>
        <p:blipFill>
          <a:blip r:embed="rId6"/>
          <a:stretch/>
        </p:blipFill>
        <p:spPr>
          <a:xfrm>
            <a:off x="3352680" y="4060800"/>
            <a:ext cx="1086120" cy="1447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124080" y="5584680"/>
            <a:ext cx="15242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ichael Morrow (Wiscons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2824200" y="4038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495680" y="396252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al-Time Digital Signal Processing from Matlab to C with the TMS320C6x DSP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Dec.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algorithms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00721616-9D32-4D7B-8B52-AC0664B4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upplemental (Optional) Textbook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J. H. McClellan, R. W. Schafer &amp; M. A. Yoder,</a:t>
            </a:r>
            <a:br>
              <a:rPr sz="2800"/>
            </a:b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: A Multimedia Approac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1998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 theory and algorithms at sophomo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users.ece.gatech.edu/~dspfirs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. P. Lathi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inear Systems &amp; Signal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. J. Robert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s and System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ppenheim &amp; Willsky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s an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 for pre-requisite signals &amp; system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eve Smith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he Scientist and Engineer’s</a:t>
            </a:r>
            <a:br>
              <a:rPr sz="2800"/>
            </a:b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uide to Digital Signal Processing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1997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in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dspguid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238880" y="2019240"/>
            <a:ext cx="167652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 Schafer’s 1975 book seminal for DSP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2" descr="j0299125"/>
          <p:cNvPicPr/>
          <p:nvPr/>
        </p:nvPicPr>
        <p:blipFill>
          <a:blip r:embed="rId1"/>
          <a:stretch/>
        </p:blipFill>
        <p:spPr>
          <a:xfrm>
            <a:off x="7848720" y="3689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8D359EDD-7F80-42AC-803A-02695B29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lated BS ECE Technical Cor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</a:rPr>
              <a:t>Signal/image proces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. Sig. Proc.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Image &amp; Vide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04920" y="4191120"/>
            <a:ext cx="396216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 with the highest workload at UT Aus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91120" y="1355760"/>
            <a:ext cx="48528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</a:rPr>
              <a:t>Communication/network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. Sig. Proc.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Communications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cc"/>
                </a:solidFill>
                <a:uFillTx/>
                <a:latin typeface="Times New Roman"/>
              </a:rPr>
              <a:t>Embedde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&amp; 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. Sig. Proc.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ystem Design (FPG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VLSI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04920" y="5100480"/>
            <a:ext cx="396216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graduate students may take grad courses upon request and at their own ri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36359B35-E8A2-4AA6-9A77-92EB003A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rad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lculation of numeric grad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% midterm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% midterm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% homework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owest grade of 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% pre-lab quizz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owest grade of s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% lab repor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op lowest grade of se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1% for each midterm ex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design tradeoffs in signal quality vs.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n-lecture discussion and homework/lab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s, open notes, open computer (but no networ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zens of old exams (most with solutions) in course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dates on course descriptor and lectur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6680160" y="1523880"/>
            <a:ext cx="22860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GPA has been ~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29"/>
          <p:cNvSpPr/>
          <p:nvPr/>
        </p:nvSpPr>
        <p:spPr>
          <a:xfrm>
            <a:off x="6222960" y="232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yEdu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30"/>
          <p:cNvSpPr/>
          <p:nvPr/>
        </p:nvSpPr>
        <p:spPr>
          <a:xfrm>
            <a:off x="7642080" y="2978280"/>
            <a:ext cx="129564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final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C1650DEA-C08E-4E53-85FC-DB910F1CF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rad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4% homework – eight assignment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rop lowe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 theory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signal processing concepts into Matlab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design tradeoffs in signal quality vs.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5% pre-lab quizzes – for labs 2-7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rop lowe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questions on course Blackboard site taken individ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9% lab reports – for labs 1-7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rop lowe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dividu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labs 1 and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eam of 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labs 2-6 and receive same base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ance/participation in lab section required and g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urse ranks in graduate school recommend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4B1BB327-3030-47F0-A71C-2AB2DA93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C7FFC405-D603-4E25-AEB0-C76E8D3B8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ximizing Your Numeric Gra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ttend every lectur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mportant information not on slides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 2010 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lete every homewor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bmit only your own wor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solutions on all homework assignments, lab 1/7 reports and all pre-lab quiz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team on lab 2-6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e sources for all other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4120" y="1866960"/>
          <a:ext cx="3581280" cy="3475080"/>
        </p:xfrm>
        <a:graphic>
          <a:graphicData uri="http://schemas.openxmlformats.org/drawingml/2006/table">
            <a:tbl>
              <a:tblPr/>
              <a:tblGrid>
                <a:gridCol w="990360"/>
                <a:gridCol w="1219320"/>
                <a:gridCol w="1371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Lowest Gr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Lecture Abs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Zeros on home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03"/>
          <p:cNvSpPr/>
          <p:nvPr/>
        </p:nvSpPr>
        <p:spPr>
          <a:xfrm>
            <a:off x="5334120" y="1447920"/>
            <a:ext cx="358128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ring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29"/>
          <p:cNvSpPr/>
          <p:nvPr/>
        </p:nvSpPr>
        <p:spPr>
          <a:xfrm>
            <a:off x="182520" y="5516640"/>
            <a:ext cx="8763120" cy="116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y 2006, William Swanson, CEO of Raytheon … was docked approximately US $1 million in pay by the company after it was revealed he had plagiarized 16 of the 33 rules in his popular 2004 book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wanson's Unwritten Rules of Manag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”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pt. 8, 2006, issue of IEEE's The Institute electronic newslett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munication System Stru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formation sourc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music, images, video, and data (message sig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ower concentrated near DC (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band sig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seband processing in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message signal (e.g. AM/FM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dd redundancy to message bit stream to aid receiver in detecting and possibly correcting bi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88" name="Group 2052"/>
          <p:cNvGrpSpPr/>
          <p:nvPr/>
        </p:nvGrpSpPr>
        <p:grpSpPr>
          <a:xfrm>
            <a:off x="76320" y="4800600"/>
            <a:ext cx="9067680" cy="1465560"/>
            <a:chOff x="76320" y="4800600"/>
            <a:chExt cx="9067680" cy="1465560"/>
          </a:xfrm>
        </p:grpSpPr>
        <p:sp>
          <p:nvSpPr>
            <p:cNvPr id="189" name="Text Box 2053"/>
            <p:cNvSpPr/>
            <p:nvPr/>
          </p:nvSpPr>
          <p:spPr>
            <a:xfrm>
              <a:off x="76320" y="5318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54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055"/>
            <p:cNvSpPr/>
            <p:nvPr/>
          </p:nvSpPr>
          <p:spPr>
            <a:xfrm>
              <a:off x="685800" y="493704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056"/>
            <p:cNvSpPr/>
            <p:nvPr/>
          </p:nvSpPr>
          <p:spPr>
            <a:xfrm>
              <a:off x="2057400" y="527364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057"/>
            <p:cNvSpPr/>
            <p:nvPr/>
          </p:nvSpPr>
          <p:spPr>
            <a:xfrm>
              <a:off x="2362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058"/>
            <p:cNvSpPr/>
            <p:nvPr/>
          </p:nvSpPr>
          <p:spPr>
            <a:xfrm>
              <a:off x="3505320" y="527364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059"/>
            <p:cNvSpPr/>
            <p:nvPr/>
          </p:nvSpPr>
          <p:spPr>
            <a:xfrm>
              <a:off x="3809880" y="495288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060"/>
            <p:cNvSpPr/>
            <p:nvPr/>
          </p:nvSpPr>
          <p:spPr>
            <a:xfrm>
              <a:off x="5486400" y="527364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061"/>
            <p:cNvSpPr/>
            <p:nvPr/>
          </p:nvSpPr>
          <p:spPr>
            <a:xfrm>
              <a:off x="5791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062"/>
            <p:cNvSpPr/>
            <p:nvPr/>
          </p:nvSpPr>
          <p:spPr>
            <a:xfrm>
              <a:off x="6934320" y="527364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063"/>
            <p:cNvSpPr/>
            <p:nvPr/>
          </p:nvSpPr>
          <p:spPr>
            <a:xfrm>
              <a:off x="7238880" y="495288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064"/>
            <p:cNvSpPr/>
            <p:nvPr/>
          </p:nvSpPr>
          <p:spPr>
            <a:xfrm>
              <a:off x="86104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065"/>
            <p:cNvSpPr/>
            <p:nvPr/>
          </p:nvSpPr>
          <p:spPr>
            <a:xfrm>
              <a:off x="533520" y="480060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066"/>
            <p:cNvSpPr/>
            <p:nvPr/>
          </p:nvSpPr>
          <p:spPr>
            <a:xfrm>
              <a:off x="9907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2067"/>
            <p:cNvSpPr/>
            <p:nvPr/>
          </p:nvSpPr>
          <p:spPr>
            <a:xfrm>
              <a:off x="5867280" y="5867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068"/>
            <p:cNvSpPr/>
            <p:nvPr/>
          </p:nvSpPr>
          <p:spPr>
            <a:xfrm>
              <a:off x="5562720" y="480060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2069"/>
            <p:cNvSpPr/>
            <p:nvPr/>
          </p:nvSpPr>
          <p:spPr>
            <a:xfrm>
              <a:off x="3429000" y="569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070"/>
            <p:cNvSpPr/>
            <p:nvPr/>
          </p:nvSpPr>
          <p:spPr>
            <a:xfrm>
              <a:off x="5334120" y="5775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071"/>
                <p:cNvSpPr txBox="1"/>
                <p:nvPr/>
              </p:nvSpPr>
              <p:spPr>
                <a:xfrm>
                  <a:off x="8715240" y="5380200"/>
                  <a:ext cx="4287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Text Box 2072"/>
            <p:cNvSpPr/>
            <p:nvPr/>
          </p:nvSpPr>
          <p:spPr>
            <a:xfrm>
              <a:off x="35053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441BBCCF-18A7-450A-9FD9-6B47B0F44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munication System Stru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rrier circuits in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convert baseband signal into transmiss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pply bandpass filter to enforce transmiss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76320" y="4800600"/>
            <a:ext cx="9067680" cy="1465560"/>
            <a:chOff x="76320" y="4800600"/>
            <a:chExt cx="9067680" cy="1465560"/>
          </a:xfrm>
        </p:grpSpPr>
        <p:sp>
          <p:nvSpPr>
            <p:cNvPr id="214" name="Text Box 5"/>
            <p:cNvSpPr/>
            <p:nvPr/>
          </p:nvSpPr>
          <p:spPr>
            <a:xfrm>
              <a:off x="76320" y="5318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685800" y="493704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2057400" y="527364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2362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0"/>
            <p:cNvSpPr/>
            <p:nvPr/>
          </p:nvSpPr>
          <p:spPr>
            <a:xfrm>
              <a:off x="3505320" y="527364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3809880" y="495288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5486400" y="527364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5791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6934320" y="527364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5"/>
            <p:cNvSpPr/>
            <p:nvPr/>
          </p:nvSpPr>
          <p:spPr>
            <a:xfrm>
              <a:off x="7238880" y="495288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6"/>
            <p:cNvSpPr/>
            <p:nvPr/>
          </p:nvSpPr>
          <p:spPr>
            <a:xfrm>
              <a:off x="86104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533520" y="480060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9907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9"/>
            <p:cNvSpPr/>
            <p:nvPr/>
          </p:nvSpPr>
          <p:spPr>
            <a:xfrm>
              <a:off x="5867280" y="5867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5562720" y="480060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3429000" y="569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5334120" y="5775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23"/>
                <p:cNvSpPr txBox="1"/>
                <p:nvPr/>
              </p:nvSpPr>
              <p:spPr>
                <a:xfrm>
                  <a:off x="8715240" y="5380200"/>
                  <a:ext cx="4287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Text Box 24"/>
            <p:cNvSpPr/>
            <p:nvPr/>
          </p:nvSpPr>
          <p:spPr>
            <a:xfrm>
              <a:off x="35053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61"/>
          <p:cNvSpPr/>
          <p:nvPr/>
        </p:nvSpPr>
        <p:spPr>
          <a:xfrm>
            <a:off x="8686800" y="34290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5"/>
          <p:cNvGrpSpPr/>
          <p:nvPr/>
        </p:nvGrpSpPr>
        <p:grpSpPr>
          <a:xfrm>
            <a:off x="914400" y="2360520"/>
            <a:ext cx="7733880" cy="1908720"/>
            <a:chOff x="914400" y="2360520"/>
            <a:chExt cx="7733880" cy="1908720"/>
          </a:xfrm>
        </p:grpSpPr>
        <p:sp>
          <p:nvSpPr>
            <p:cNvPr id="236" name="Text Box 48"/>
            <p:cNvSpPr/>
            <p:nvPr/>
          </p:nvSpPr>
          <p:spPr>
            <a:xfrm>
              <a:off x="2895480" y="34275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990360" y="35798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 flipV="1">
              <a:off x="1904760" y="27417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1371240" y="297036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243828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137124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4"/>
            <p:cNvSpPr/>
            <p:nvPr/>
          </p:nvSpPr>
          <p:spPr>
            <a:xfrm>
              <a:off x="1752480" y="359424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5"/>
            <p:cNvSpPr/>
            <p:nvPr/>
          </p:nvSpPr>
          <p:spPr>
            <a:xfrm>
              <a:off x="1904760" y="2589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6"/>
            <p:cNvSpPr/>
            <p:nvPr/>
          </p:nvSpPr>
          <p:spPr>
            <a:xfrm>
              <a:off x="2209680" y="357984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7"/>
            <p:cNvSpPr/>
            <p:nvPr/>
          </p:nvSpPr>
          <p:spPr>
            <a:xfrm>
              <a:off x="1066680" y="357984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58"/>
            <p:cNvSpPr/>
            <p:nvPr/>
          </p:nvSpPr>
          <p:spPr>
            <a:xfrm>
              <a:off x="1066680" y="236052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0"/>
            <p:cNvSpPr/>
            <p:nvPr/>
          </p:nvSpPr>
          <p:spPr>
            <a:xfrm>
              <a:off x="3428640" y="357984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2"/>
            <p:cNvSpPr/>
            <p:nvPr/>
          </p:nvSpPr>
          <p:spPr>
            <a:xfrm flipV="1">
              <a:off x="6057720" y="2817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5905440" y="365616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4"/>
            <p:cNvSpPr/>
            <p:nvPr/>
          </p:nvSpPr>
          <p:spPr>
            <a:xfrm>
              <a:off x="5676840" y="236052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5"/>
            <p:cNvSpPr/>
            <p:nvPr/>
          </p:nvSpPr>
          <p:spPr>
            <a:xfrm>
              <a:off x="5981400" y="2970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6"/>
            <p:cNvSpPr/>
            <p:nvPr/>
          </p:nvSpPr>
          <p:spPr>
            <a:xfrm>
              <a:off x="6095880" y="28177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7"/>
            <p:cNvSpPr/>
            <p:nvPr/>
          </p:nvSpPr>
          <p:spPr>
            <a:xfrm>
              <a:off x="3314520" y="3579840"/>
              <a:ext cx="102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8"/>
            <p:cNvSpPr/>
            <p:nvPr/>
          </p:nvSpPr>
          <p:spPr>
            <a:xfrm>
              <a:off x="3962160" y="297036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9"/>
            <p:cNvSpPr/>
            <p:nvPr/>
          </p:nvSpPr>
          <p:spPr>
            <a:xfrm>
              <a:off x="502884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70"/>
            <p:cNvSpPr/>
            <p:nvPr/>
          </p:nvSpPr>
          <p:spPr>
            <a:xfrm>
              <a:off x="396216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71"/>
            <p:cNvSpPr/>
            <p:nvPr/>
          </p:nvSpPr>
          <p:spPr>
            <a:xfrm>
              <a:off x="4571640" y="357984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2"/>
            <p:cNvSpPr/>
            <p:nvPr/>
          </p:nvSpPr>
          <p:spPr>
            <a:xfrm>
              <a:off x="4495680" y="3503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73"/>
            <p:cNvSpPr/>
            <p:nvPr/>
          </p:nvSpPr>
          <p:spPr>
            <a:xfrm>
              <a:off x="4190760" y="3808440"/>
              <a:ext cx="64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74"/>
            <p:cNvSpPr/>
            <p:nvPr/>
          </p:nvSpPr>
          <p:spPr>
            <a:xfrm>
              <a:off x="6438600" y="357984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>
              <a:off x="7010280" y="297036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6"/>
            <p:cNvSpPr/>
            <p:nvPr/>
          </p:nvSpPr>
          <p:spPr>
            <a:xfrm>
              <a:off x="807696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7"/>
            <p:cNvSpPr/>
            <p:nvPr/>
          </p:nvSpPr>
          <p:spPr>
            <a:xfrm>
              <a:off x="7010280" y="2970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78"/>
            <p:cNvSpPr/>
            <p:nvPr/>
          </p:nvSpPr>
          <p:spPr>
            <a:xfrm>
              <a:off x="7619760" y="357984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9"/>
            <p:cNvSpPr/>
            <p:nvPr/>
          </p:nvSpPr>
          <p:spPr>
            <a:xfrm>
              <a:off x="7543440" y="3503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80"/>
            <p:cNvSpPr/>
            <p:nvPr/>
          </p:nvSpPr>
          <p:spPr>
            <a:xfrm>
              <a:off x="7238880" y="3808440"/>
              <a:ext cx="72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81"/>
            <p:cNvSpPr/>
            <p:nvPr/>
          </p:nvSpPr>
          <p:spPr>
            <a:xfrm>
              <a:off x="6708600" y="2514600"/>
              <a:ext cx="16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82"/>
            <p:cNvSpPr/>
            <p:nvPr/>
          </p:nvSpPr>
          <p:spPr>
            <a:xfrm>
              <a:off x="3693960" y="2511360"/>
              <a:ext cx="157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93"/>
            <p:cNvSpPr/>
            <p:nvPr/>
          </p:nvSpPr>
          <p:spPr>
            <a:xfrm>
              <a:off x="914400" y="3870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aseban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4"/>
            <p:cNvSpPr/>
            <p:nvPr/>
          </p:nvSpPr>
          <p:spPr>
            <a:xfrm>
              <a:off x="4952880" y="3870360"/>
              <a:ext cx="23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pconverte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96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BC41E704-C3BE-486C-AE1C-5416CD61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munication System Stru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– wired or wireles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ing signals spread and attenuate over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sting improves signal strength and reduces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ircuits downconvert bandpass signal to 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processing extracts/enhances messag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6320" y="4800600"/>
            <a:ext cx="9067680" cy="1465560"/>
            <a:chOff x="76320" y="4800600"/>
            <a:chExt cx="9067680" cy="1465560"/>
          </a:xfrm>
        </p:grpSpPr>
        <p:sp>
          <p:nvSpPr>
            <p:cNvPr id="276" name="Text Box 5"/>
            <p:cNvSpPr/>
            <p:nvPr/>
          </p:nvSpPr>
          <p:spPr>
            <a:xfrm>
              <a:off x="76320" y="5318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>
              <a:off x="3808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685800" y="493704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>
              <a:off x="2057400" y="527364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2362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3505320" y="527364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3809880" y="495288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2"/>
            <p:cNvSpPr/>
            <p:nvPr/>
          </p:nvSpPr>
          <p:spPr>
            <a:xfrm>
              <a:off x="5486400" y="527364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5791320" y="495288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6934320" y="527364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7238880" y="495288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8610480" y="525780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533520" y="480060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8"/>
            <p:cNvSpPr/>
            <p:nvPr/>
          </p:nvSpPr>
          <p:spPr>
            <a:xfrm>
              <a:off x="9907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5867280" y="5867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0"/>
            <p:cNvSpPr/>
            <p:nvPr/>
          </p:nvSpPr>
          <p:spPr>
            <a:xfrm>
              <a:off x="5562720" y="480060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1"/>
            <p:cNvSpPr/>
            <p:nvPr/>
          </p:nvSpPr>
          <p:spPr>
            <a:xfrm>
              <a:off x="3429000" y="5699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5334120" y="5775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3"/>
                <p:cNvSpPr txBox="1"/>
                <p:nvPr/>
              </p:nvSpPr>
              <p:spPr>
                <a:xfrm>
                  <a:off x="8715240" y="5380200"/>
                  <a:ext cx="42876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Text Box 24"/>
            <p:cNvSpPr/>
            <p:nvPr/>
          </p:nvSpPr>
          <p:spPr>
            <a:xfrm>
              <a:off x="3505320" y="58672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 Box 25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1BACDCDF-3760-498A-9738-13943A04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D66333CE-7850-44FF-A7A8-117C4BE30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structional staf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al-time digital signal proces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urse overview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munication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gle carrier trans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ulticarrier transceiv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ingle Carrier Transceiv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/implement trans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ifferent algorithms for each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algorithms into real-tim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implementations using signal generators &amp; oscillo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1024"/>
          <p:cNvGraphicFramePr/>
          <p:nvPr/>
        </p:nvGraphicFramePr>
        <p:xfrm>
          <a:off x="331920" y="3349800"/>
          <a:ext cx="8789760" cy="37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3349800"/>
                    <a:ext cx="878976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241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22" descr=""/>
          <p:cNvPicPr/>
          <p:nvPr/>
        </p:nvPicPr>
        <p:blipFill>
          <a:blip r:embed="rId3"/>
          <a:stretch/>
        </p:blipFill>
        <p:spPr>
          <a:xfrm>
            <a:off x="6934320" y="1295280"/>
            <a:ext cx="19810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E8A5D687-0752-4323-ADAA-6DBDF8ECC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labview1"/>
          <p:cNvPicPr/>
          <p:nvPr/>
        </p:nvPicPr>
        <p:blipFill>
          <a:blip r:embed="rId1"/>
          <a:stretch/>
        </p:blipFill>
        <p:spPr>
          <a:xfrm>
            <a:off x="380880" y="1376280"/>
            <a:ext cx="8488440" cy="5329440"/>
          </a:xfrm>
          <a:prstGeom prst="rect">
            <a:avLst/>
          </a:prstGeom>
          <a:ln w="0">
            <a:noFill/>
          </a:ln>
        </p:spPr>
      </p:pic>
      <p:sp>
        <p:nvSpPr>
          <p:cNvPr id="306" name="Line 4"/>
          <p:cNvSpPr/>
          <p:nvPr/>
        </p:nvSpPr>
        <p:spPr>
          <a:xfrm>
            <a:off x="1982880" y="1967040"/>
            <a:ext cx="22680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447920" y="1206360"/>
            <a:ext cx="10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4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Rat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 flipH="1">
            <a:off x="3946680" y="3209760"/>
            <a:ext cx="93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87760" y="2408400"/>
            <a:ext cx="10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6 QAM 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789440" y="3505320"/>
            <a:ext cx="125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3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Tx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6095880" y="263844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Lab 2 Bandpass</a:t>
            </a:r>
            <a:br>
              <a:rPr sz="1600"/>
            </a:br>
            <a:r>
              <a:rPr b="1" lang="en-US" sz="1600" spc="-1" strike="noStrike">
                <a:solidFill>
                  <a:srgbClr val="56007d"/>
                </a:solidFill>
                <a:latin typeface="Arial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>
            <a:off x="5706720" y="3922560"/>
            <a:ext cx="36828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 flipH="1" flipV="1">
            <a:off x="5653080" y="3446280"/>
            <a:ext cx="4428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 flipH="1">
            <a:off x="6635520" y="3408480"/>
            <a:ext cx="8244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3"/>
          <p:cNvSpPr/>
          <p:nvPr/>
        </p:nvSpPr>
        <p:spPr>
          <a:xfrm flipV="1">
            <a:off x="5927760" y="3913200"/>
            <a:ext cx="15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2895480" y="6095880"/>
            <a:ext cx="46483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VIEW demo by Zukang Shen (UT Aust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ab 1: QAM Transmitter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2362320" y="1295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ece.utexas.edu/~bevans/courses/realtime/demon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2819520" y="1828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Reference design in Lab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065D7A05-C703-4569-BE3F-C803463F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ab 1: QAM Transmitter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323" name="Picture 3" descr="snap8"/>
          <p:cNvPicPr/>
          <p:nvPr/>
        </p:nvPicPr>
        <p:blipFill>
          <a:blip r:embed="rId1"/>
          <a:stretch/>
        </p:blipFill>
        <p:spPr>
          <a:xfrm>
            <a:off x="609480" y="4572000"/>
            <a:ext cx="3957840" cy="21178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4"/>
          <p:cNvSpPr/>
          <p:nvPr/>
        </p:nvSpPr>
        <p:spPr>
          <a:xfrm>
            <a:off x="590400" y="23623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-6480" y="1276200"/>
            <a:ext cx="19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VIEW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838080" y="38098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8229600" y="29908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7773840" y="1773360"/>
            <a:ext cx="13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9" descr="snap11"/>
          <p:cNvPicPr/>
          <p:nvPr/>
        </p:nvPicPr>
        <p:blipFill>
          <a:blip r:embed="rId2"/>
          <a:stretch/>
        </p:blipFill>
        <p:spPr>
          <a:xfrm>
            <a:off x="1720800" y="1251000"/>
            <a:ext cx="6051600" cy="30160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0"/>
          <p:cNvSpPr/>
          <p:nvPr/>
        </p:nvSpPr>
        <p:spPr>
          <a:xfrm>
            <a:off x="331920" y="29559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1" descr="snap6"/>
          <p:cNvPicPr/>
          <p:nvPr/>
        </p:nvPicPr>
        <p:blipFill>
          <a:blip r:embed="rId3"/>
          <a:stretch/>
        </p:blipFill>
        <p:spPr>
          <a:xfrm>
            <a:off x="5238720" y="4041720"/>
            <a:ext cx="3610080" cy="2664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2"/>
          <p:cNvSpPr/>
          <p:nvPr/>
        </p:nvSpPr>
        <p:spPr>
          <a:xfrm>
            <a:off x="1424160" y="4137120"/>
            <a:ext cx="4173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VIEW demo by Zukang Shen (UT Aust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Got Anything Faster?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ulticarrier modulation divides broadband (wideband) channel into narrowband subchanne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Fourier series computed by fast Fourier transform (F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for ADSL (1995) &amp; VDSL (2003) wired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for IEEE 802.11a/g wireless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for IEEE 802.16d/e (Wimax) and cellular (3G/4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4"/>
          <p:cNvSpPr/>
          <p:nvPr/>
        </p:nvSpPr>
        <p:spPr>
          <a:xfrm>
            <a:off x="1366920" y="4111560"/>
            <a:ext cx="6629400" cy="190512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4176" h="1200">
                <a:moveTo>
                  <a:pt x="0" y="1200"/>
                </a:moveTo>
                <a:cubicBezTo>
                  <a:pt x="36" y="600"/>
                  <a:pt x="72" y="0"/>
                  <a:pt x="768" y="0"/>
                </a:cubicBezTo>
                <a:cubicBezTo>
                  <a:pt x="1464" y="0"/>
                  <a:pt x="3608" y="1000"/>
                  <a:pt x="4176" y="1200"/>
                </a:cubicBezTo>
              </a:path>
            </a:pathLst>
          </a:custGeom>
          <a:solidFill>
            <a:srgbClr val="ccccf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985680" y="60166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6700680" y="5527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6472080" y="5445000"/>
            <a:ext cx="228600" cy="571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6243480" y="5356080"/>
            <a:ext cx="228600" cy="660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014880" y="5248440"/>
            <a:ext cx="228600" cy="76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5786280" y="5153040"/>
            <a:ext cx="2286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5557680" y="5064120"/>
            <a:ext cx="228600" cy="952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5329080" y="4975200"/>
            <a:ext cx="228600" cy="1041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100480" y="4879800"/>
            <a:ext cx="228600" cy="113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4871880" y="4791240"/>
            <a:ext cx="228600" cy="1225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4643280" y="4702320"/>
            <a:ext cx="228600" cy="131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414680" y="4619520"/>
            <a:ext cx="228600" cy="1397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4186080" y="4530600"/>
            <a:ext cx="228600" cy="148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3957480" y="4467240"/>
            <a:ext cx="228600" cy="15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3728880" y="4384800"/>
            <a:ext cx="228600" cy="1631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3500280" y="4308480"/>
            <a:ext cx="228600" cy="1708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3271680" y="4245120"/>
            <a:ext cx="228600" cy="17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3043080" y="4194000"/>
            <a:ext cx="228600" cy="182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2814480" y="4137120"/>
            <a:ext cx="228600" cy="1879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2585880" y="4124160"/>
            <a:ext cx="228600" cy="1892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2357280" y="4111560"/>
            <a:ext cx="2286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2128680" y="4149720"/>
            <a:ext cx="228600" cy="186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1900080" y="4238640"/>
            <a:ext cx="228600" cy="177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1671480" y="4410000"/>
            <a:ext cx="228600" cy="160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2"/>
          <p:cNvSpPr/>
          <p:nvPr/>
        </p:nvSpPr>
        <p:spPr>
          <a:xfrm>
            <a:off x="1442880" y="4797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33"/>
          <p:cNvSpPr/>
          <p:nvPr/>
        </p:nvSpPr>
        <p:spPr>
          <a:xfrm>
            <a:off x="7081920" y="4957920"/>
            <a:ext cx="1765080" cy="398880"/>
          </a:xfrm>
          <a:solidFill>
            <a:srgbClr val="00cc99"/>
          </a:solidFill>
          <a:ln w="316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4"/>
          <p:cNvSpPr/>
          <p:nvPr/>
        </p:nvSpPr>
        <p:spPr>
          <a:xfrm flipV="1">
            <a:off x="1373040" y="3870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6"/>
          <p:cNvSpPr/>
          <p:nvPr/>
        </p:nvSpPr>
        <p:spPr>
          <a:xfrm>
            <a:off x="7709040" y="55468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7"/>
          <p:cNvSpPr/>
          <p:nvPr/>
        </p:nvSpPr>
        <p:spPr>
          <a:xfrm rot="16200000">
            <a:off x="94680" y="4653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8"/>
          <p:cNvSpPr/>
          <p:nvPr/>
        </p:nvSpPr>
        <p:spPr>
          <a:xfrm flipH="1" flipV="1">
            <a:off x="1564920" y="4784400"/>
            <a:ext cx="324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1768320" y="4398840"/>
            <a:ext cx="0" cy="1617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0"/>
          <p:cNvSpPr/>
          <p:nvPr/>
        </p:nvSpPr>
        <p:spPr>
          <a:xfrm flipV="1">
            <a:off x="2003400" y="4230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1"/>
          <p:cNvSpPr/>
          <p:nvPr/>
        </p:nvSpPr>
        <p:spPr>
          <a:xfrm flipV="1">
            <a:off x="2241720" y="4145040"/>
            <a:ext cx="0" cy="1874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2"/>
          <p:cNvSpPr/>
          <p:nvPr/>
        </p:nvSpPr>
        <p:spPr>
          <a:xfrm flipV="1">
            <a:off x="2470320" y="4106880"/>
            <a:ext cx="0" cy="19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3"/>
          <p:cNvSpPr/>
          <p:nvPr/>
        </p:nvSpPr>
        <p:spPr>
          <a:xfrm flipV="1">
            <a:off x="2689200" y="4125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4"/>
          <p:cNvSpPr/>
          <p:nvPr/>
        </p:nvSpPr>
        <p:spPr>
          <a:xfrm flipV="1">
            <a:off x="2917800" y="4125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45"/>
          <p:cNvSpPr/>
          <p:nvPr/>
        </p:nvSpPr>
        <p:spPr>
          <a:xfrm flipV="1">
            <a:off x="3156120" y="4173120"/>
            <a:ext cx="0" cy="185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46"/>
          <p:cNvSpPr/>
          <p:nvPr/>
        </p:nvSpPr>
        <p:spPr>
          <a:xfrm flipV="1">
            <a:off x="3384720" y="4230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594240" y="4316400"/>
            <a:ext cx="0" cy="170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3832200" y="4392720"/>
            <a:ext cx="0" cy="1636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9"/>
          <p:cNvSpPr/>
          <p:nvPr/>
        </p:nvSpPr>
        <p:spPr>
          <a:xfrm flipV="1">
            <a:off x="4060800" y="4458960"/>
            <a:ext cx="0" cy="1569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50"/>
          <p:cNvSpPr/>
          <p:nvPr/>
        </p:nvSpPr>
        <p:spPr>
          <a:xfrm flipV="1">
            <a:off x="4289400" y="4506840"/>
            <a:ext cx="0" cy="153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1"/>
          <p:cNvSpPr/>
          <p:nvPr/>
        </p:nvSpPr>
        <p:spPr>
          <a:xfrm flipV="1">
            <a:off x="4508640" y="4620960"/>
            <a:ext cx="0" cy="1407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2"/>
          <p:cNvSpPr/>
          <p:nvPr/>
        </p:nvSpPr>
        <p:spPr>
          <a:xfrm flipV="1">
            <a:off x="4746600" y="4687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3"/>
          <p:cNvSpPr/>
          <p:nvPr/>
        </p:nvSpPr>
        <p:spPr>
          <a:xfrm flipV="1">
            <a:off x="4975200" y="4801680"/>
            <a:ext cx="0" cy="1227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4"/>
          <p:cNvSpPr/>
          <p:nvPr/>
        </p:nvSpPr>
        <p:spPr>
          <a:xfrm flipV="1">
            <a:off x="5194440" y="4888080"/>
            <a:ext cx="0" cy="1131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5"/>
          <p:cNvSpPr/>
          <p:nvPr/>
        </p:nvSpPr>
        <p:spPr>
          <a:xfrm flipV="1">
            <a:off x="5432400" y="4963680"/>
            <a:ext cx="0" cy="1065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6"/>
          <p:cNvSpPr/>
          <p:nvPr/>
        </p:nvSpPr>
        <p:spPr>
          <a:xfrm flipV="1">
            <a:off x="5661000" y="5059440"/>
            <a:ext cx="0" cy="960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7"/>
          <p:cNvSpPr/>
          <p:nvPr/>
        </p:nvSpPr>
        <p:spPr>
          <a:xfrm flipV="1">
            <a:off x="5899320" y="5145120"/>
            <a:ext cx="0" cy="87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58"/>
          <p:cNvSpPr/>
          <p:nvPr/>
        </p:nvSpPr>
        <p:spPr>
          <a:xfrm flipV="1">
            <a:off x="6118200" y="5240160"/>
            <a:ext cx="0" cy="789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60"/>
          <p:cNvSpPr/>
          <p:nvPr/>
        </p:nvSpPr>
        <p:spPr>
          <a:xfrm flipV="1">
            <a:off x="6356520" y="5335200"/>
            <a:ext cx="0" cy="6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61"/>
          <p:cNvSpPr/>
          <p:nvPr/>
        </p:nvSpPr>
        <p:spPr>
          <a:xfrm flipV="1">
            <a:off x="6594480" y="5449680"/>
            <a:ext cx="0" cy="579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2"/>
          <p:cNvSpPr/>
          <p:nvPr/>
        </p:nvSpPr>
        <p:spPr>
          <a:xfrm flipV="1">
            <a:off x="6813720" y="5516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66"/>
          <p:cNvSpPr/>
          <p:nvPr/>
        </p:nvSpPr>
        <p:spPr>
          <a:xfrm>
            <a:off x="6094440" y="4479480"/>
            <a:ext cx="1082520" cy="305280"/>
          </a:xfrm>
          <a:solidFill>
            <a:srgbClr val="00cc99"/>
          </a:solidFill>
          <a:ln w="316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7"/>
          <p:cNvSpPr/>
          <p:nvPr/>
        </p:nvSpPr>
        <p:spPr>
          <a:xfrm>
            <a:off x="4876920" y="4011120"/>
            <a:ext cx="1082520" cy="305280"/>
          </a:xfrm>
          <a:solidFill>
            <a:srgbClr val="00cc99"/>
          </a:solidFill>
          <a:ln w="316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8"/>
          <p:cNvSpPr/>
          <p:nvPr/>
        </p:nvSpPr>
        <p:spPr>
          <a:xfrm>
            <a:off x="663480" y="6080040"/>
            <a:ext cx="726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DSL/VDSL subchannel is 4.3 kHz wide (ab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voiceband channel) and carries a QAM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2256D83C-9C6A-4EA2-8902-D3AC15CE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bjectiv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intuition for signal process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signal processing concepts in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digital communication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liverables and takeaway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s of signal quality vs. implementation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/implement voiceband transceiver in re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/validat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e of technolog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for algorith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DSPs and Code Composer Studio for real-time 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VIEW for test and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7010280" y="1676520"/>
            <a:ext cx="190512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g into network of 1,400+ course alum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791320" y="4476600"/>
            <a:ext cx="312408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software/hardware used lead in usage in their respective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D49215A4-19CF-4F03-A492-553EA0B6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structional Staff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s research in digital communic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image processing &amp; 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current projects on next two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: M 12:00-12:30pm, W 12:00-12:30p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12:30-2:30pm (ENS 43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ffee hours F 12:00-2:00pm starting Jan. 17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eaching assistants (lab sections/office hours below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pic>
        <p:nvPicPr>
          <p:cNvPr id="48" name="Picture 50" descr="MPj04035400000[1]"/>
          <p:cNvPicPr/>
          <p:nvPr/>
        </p:nvPicPr>
        <p:blipFill>
          <a:blip r:embed="rId1"/>
          <a:srcRect l="35156" t="7032" r="4688" b="0"/>
          <a:stretch/>
        </p:blipFill>
        <p:spPr>
          <a:xfrm>
            <a:off x="7523280" y="2952720"/>
            <a:ext cx="1374480" cy="131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Evans Sept 2008 Picture Halfsized"/>
          <p:cNvPicPr/>
          <p:nvPr/>
        </p:nvPicPr>
        <p:blipFill>
          <a:blip r:embed="rId2"/>
          <a:srcRect l="8468" t="8461" r="8468" b="36664"/>
          <a:stretch/>
        </p:blipFill>
        <p:spPr>
          <a:xfrm>
            <a:off x="7526160" y="1440000"/>
            <a:ext cx="1389240" cy="1379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190512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hao J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898640" y="5257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&amp; F lab se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 3:30-5:30p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9:30-10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952880" y="4876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s. Zeina Si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952880" y="5257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&amp; T lab se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   3:00- 4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 5:30-  7:0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ZeinaSinnoThumbnail.jpg"/>
          <p:cNvPicPr/>
          <p:nvPr/>
        </p:nvPicPr>
        <p:blipFill>
          <a:blip r:embed="rId3"/>
          <a:srcRect l="0" t="0" r="12414" b="8711"/>
          <a:stretch/>
        </p:blipFill>
        <p:spPr>
          <a:xfrm>
            <a:off x="7543800" y="4952880"/>
            <a:ext cx="1290600" cy="143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haoJia.jpg"/>
          <p:cNvPicPr/>
          <p:nvPr/>
        </p:nvPicPr>
        <p:blipFill>
          <a:blip r:embed="rId4"/>
          <a:srcRect l="0" t="0" r="6261" b="5760"/>
          <a:stretch/>
        </p:blipFill>
        <p:spPr>
          <a:xfrm>
            <a:off x="514440" y="4952880"/>
            <a:ext cx="1314360" cy="143676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8573E951-5238-4195-9435-27975EECD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mpleted Research Proje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185760" y="5889600"/>
            <a:ext cx="89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P    Digital Signal Processor                  FPGA  Field Programmable Gate Ar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E     Long-Term Evolution (cellular)        PXI      PCI Extensions for 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3"/>
          <p:cNvSpPr/>
          <p:nvPr/>
        </p:nvSpPr>
        <p:spPr>
          <a:xfrm>
            <a:off x="5715000" y="1219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PhD and 9 MS alum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tructional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1" descr="ESPLogo"/>
          <p:cNvPicPr/>
          <p:nvPr/>
        </p:nvPicPr>
        <p:blipFill>
          <a:blip r:embed="rId1"/>
          <a:stretch/>
        </p:blipFill>
        <p:spPr>
          <a:xfrm>
            <a:off x="0" y="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ESPLogo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6320" y="1619280"/>
          <a:ext cx="8915400" cy="4267080"/>
        </p:xfrm>
        <a:graphic>
          <a:graphicData uri="http://schemas.openxmlformats.org/drawingml/2006/table">
            <a:tbl>
              <a:tblPr/>
              <a:tblGrid>
                <a:gridCol w="1600200"/>
                <a:gridCol w="2286000"/>
                <a:gridCol w="1523880"/>
                <a:gridCol w="1828800"/>
                <a:gridCol w="1676520"/>
              </a:tblGrid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W re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S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equ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SP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scale, 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2x2 test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LabVIEW/P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&amp;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max/L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resource allo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SP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scale, 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water com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space-time comm. large rec. arr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Lake Travis test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 Applied Res. La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mage acqui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SP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Ric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mage halft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, Xer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video halft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. design auto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fixed point con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FP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distributed com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/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Navy s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y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4D084F6A-B23B-4BB8-BED6-90EAC87BF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urrent Research Projec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5715000" y="1219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PhD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tructional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1" descr="ESPLogo"/>
          <p:cNvPicPr/>
          <p:nvPr/>
        </p:nvPicPr>
        <p:blipFill>
          <a:blip r:embed="rId1"/>
          <a:stretch/>
        </p:blipFill>
        <p:spPr>
          <a:xfrm>
            <a:off x="0" y="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ESPLogo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52280" y="1600200"/>
          <a:ext cx="8839440" cy="3992400"/>
        </p:xfrm>
        <a:graphic>
          <a:graphicData uri="http://schemas.openxmlformats.org/drawingml/2006/table">
            <a:tbl>
              <a:tblPr/>
              <a:tblGrid>
                <a:gridCol w="1295640"/>
                <a:gridCol w="2819160"/>
                <a:gridCol w="1613160"/>
                <a:gridCol w="1739880"/>
                <a:gridCol w="1371600"/>
              </a:tblGrid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rib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W re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line com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nterference reduction;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testb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Freescale, TI mod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scale, IBM, 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-F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nterference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NI FP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time-based analog-to-digital co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IBM 45n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TSMC 18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ular (L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cloud radio access net. baseband 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aw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held cam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reducing rolling shutter arti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Andr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5d04"/>
                          </a:solidFill>
                          <a:latin typeface="Arial"/>
                        </a:rPr>
                        <a:t>reliability patte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62"/>
          <p:cNvSpPr/>
          <p:nvPr/>
        </p:nvSpPr>
        <p:spPr>
          <a:xfrm>
            <a:off x="185760" y="5715000"/>
            <a:ext cx="89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A    Electronic Design Automation         FPGA  Field Programmable Gate Ar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TE     Long-Term Evolution (cellular)        TSMC  Taiwan Semicond. Manufac.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0B9FC1F6-85A9-4741-8CF1-51F1D5C64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al-Time Digital Signal Process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al-time syste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Prof. Yale Patt, UT Austin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 delivery of data by a specific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 process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http://www.signalprocessingsociety.org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, transformation, extraction, interpretation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 with associated architectures and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related to proces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mbedde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application-specific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“behind the scenes” (e.g. speech compre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BD9B3C8A-8D9C-45EE-86F0-F531DEE8C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HTC Droid Phone.jpg"/>
          <p:cNvPicPr/>
          <p:nvPr/>
        </p:nvPicPr>
        <p:blipFill>
          <a:blip r:embed="rId1"/>
          <a:srcRect l="33392" t="0" r="30609" b="8170"/>
          <a:stretch/>
        </p:blipFill>
        <p:spPr>
          <a:xfrm>
            <a:off x="8115480" y="4800600"/>
            <a:ext cx="647640" cy="112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BD00017_"/>
          <p:cNvPicPr/>
          <p:nvPr/>
        </p:nvPicPr>
        <p:blipFill>
          <a:blip r:embed="rId2"/>
          <a:stretch/>
        </p:blipFill>
        <p:spPr>
          <a:xfrm>
            <a:off x="8061480" y="1600200"/>
            <a:ext cx="701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urse Overview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bjectiv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intuition for signal processing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 design tradeoff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 quality vs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ementation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cture: breadth (3 hours/week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l processing (DSP)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l processor (DSP)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aboratory: depth (3 hours/week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DSP concepts int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/implement data trans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/validat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851520" y="1414440"/>
            <a:ext cx="213372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of signal qualit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complex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5"/>
          <p:cNvGraphicFramePr/>
          <p:nvPr/>
        </p:nvGraphicFramePr>
        <p:xfrm>
          <a:off x="6346800" y="2514600"/>
          <a:ext cx="264492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2514600"/>
                    <a:ext cx="26449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25"/>
          <p:cNvSpPr/>
          <p:nvPr/>
        </p:nvSpPr>
        <p:spPr>
          <a:xfrm>
            <a:off x="5562720" y="5105520"/>
            <a:ext cx="350496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SL receiver design: bit rate (Mbps) vs. multiplic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equalizer train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Data from Figs. 6 &amp; 7 in B. L. Evan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, “Unification and Evaluation of Equalization  Structures…”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EEE Trans. Sig. Pro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, 200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6880320" y="484020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7772400" y="484020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8686800" y="484020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e-Requisites and Co-Requisit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e-Requisit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tion to Program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, arrays and circular buffers, asympto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, transfer functions, frequency responses,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. to Embedded Syste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embly and C languages, microprocessor organization, quan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-Requisit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ussian and uniform distributions, sum of random variables, statistical independence, random processes,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ineering Commun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chnical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Mj02837920000[1]"/>
          <p:cNvPicPr/>
          <p:nvPr/>
        </p:nvPicPr>
        <p:blipFill>
          <a:blip r:embed="rId1"/>
          <a:stretch/>
        </p:blipFill>
        <p:spPr>
          <a:xfrm>
            <a:off x="8077320" y="1676520"/>
            <a:ext cx="838080" cy="8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Cj04059400000[1]"/>
          <p:cNvPicPr/>
          <p:nvPr/>
        </p:nvPicPr>
        <p:blipFill>
          <a:blip r:embed="rId2"/>
          <a:stretch/>
        </p:blipFill>
        <p:spPr>
          <a:xfrm>
            <a:off x="8077320" y="3498840"/>
            <a:ext cx="852480" cy="84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Cj03115300000[1]"/>
          <p:cNvPicPr/>
          <p:nvPr/>
        </p:nvPicPr>
        <p:blipFill>
          <a:blip r:embed="rId3"/>
          <a:stretch/>
        </p:blipFill>
        <p:spPr>
          <a:xfrm>
            <a:off x="8186760" y="4495680"/>
            <a:ext cx="804960" cy="83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MCj03115660000[1]"/>
          <p:cNvPicPr/>
          <p:nvPr/>
        </p:nvPicPr>
        <p:blipFill>
          <a:blip r:embed="rId4"/>
          <a:stretch/>
        </p:blipFill>
        <p:spPr>
          <a:xfrm>
            <a:off x="8305920" y="5486400"/>
            <a:ext cx="610920" cy="685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7467480" y="2743200"/>
            <a:ext cx="1447920" cy="457200"/>
            <a:chOff x="7467480" y="2743200"/>
            <a:chExt cx="1447920" cy="457200"/>
          </a:xfrm>
        </p:grpSpPr>
        <p:sp>
          <p:nvSpPr>
            <p:cNvPr id="95" name="Rectangle 6"/>
            <p:cNvSpPr/>
            <p:nvPr/>
          </p:nvSpPr>
          <p:spPr>
            <a:xfrm>
              <a:off x="7862400" y="2745000"/>
              <a:ext cx="658080" cy="45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7467480" y="2998080"/>
              <a:ext cx="3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Object 8"/>
                <p:cNvSpPr txBox="1"/>
                <p:nvPr/>
              </p:nvSpPr>
              <p:spPr>
                <a:xfrm>
                  <a:off x="7858800" y="2743200"/>
                  <a:ext cx="5979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d>
                            <m:dPr>
                              <m:begChr m:val="("/>
                              <m:endChr m:val=")"/>
                            </m:dPr>
                            <m:e/>
                          </m:d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Line 9"/>
            <p:cNvSpPr/>
            <p:nvPr/>
          </p:nvSpPr>
          <p:spPr>
            <a:xfrm>
              <a:off x="8520480" y="2998080"/>
              <a:ext cx="3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76A8B8A0-1B25-4F6C-8F98-F85D4D835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etailed Topic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gnal processing algorithms/applic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s, convolution and sampl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s &amp; freq. respon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design &amp; implementation, signal-to-nois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communication algorithms/applic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modulation/demodulat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s &amp;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modulation/demodulation, pulse shaping, pseudo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quality: matched filtering, bit error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gnal processor (DSP) architectur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 language, interfacing, pipelin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ard architecture, addressing modes, real-time pr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MCj00902430000[1]"/>
          <p:cNvPicPr/>
          <p:nvPr/>
        </p:nvPicPr>
        <p:blipFill>
          <a:blip r:embed="rId1"/>
          <a:stretch/>
        </p:blipFill>
        <p:spPr>
          <a:xfrm>
            <a:off x="8023320" y="48006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rse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1" descr="Motorola Droid Razr.jpg"/>
          <p:cNvPicPr/>
          <p:nvPr/>
        </p:nvPicPr>
        <p:blipFill>
          <a:blip r:embed="rId2"/>
          <a:stretch/>
        </p:blipFill>
        <p:spPr>
          <a:xfrm>
            <a:off x="8102520" y="2023920"/>
            <a:ext cx="736560" cy="110016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-</a:t>
            </a:r>
            <a:fld id="{E095B12C-199B-47DB-9B38-7DC9C7A97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1:20Z</cp:lastPrinted>
  <dcterms:modified xsi:type="dcterms:W3CDTF">2014-01-23T14:37:06Z</dcterms:modified>
  <cp:revision>559</cp:revision>
  <dc:subject>EE 345S Lecture 0</dc:subject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1_Introduc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