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2CB-BFD8-4BFD-8FB8-69678313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FED-904B-4494-9A98-8CA39A9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AFE-518C-499F-91B1-97D3803C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6FC-F5B1-4B50-A995-F6F39CEA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0AE0-4BDD-49E4-89EB-A6918AF8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2798-A334-4F2A-A1F6-6826489A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65D-DCAE-4528-9177-C362E1AF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83E5-F061-4A92-B251-BFCD82C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0CD9-5B0D-4EBE-8509-A20A2B1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6C1B-D3A6-4E7D-ADBB-484C659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F0C0-AF7C-44DA-9038-C013408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600-FF09-4483-A956-A2BADDEA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FA06-7060-4E82-A54C-EE6FC6C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CD1D-FFA1-4274-83B4-C82F7F3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E8D1-6A5B-4410-8100-E3EA8A73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5B6-C963-4FF0-A2C2-D6153B7F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F6B-4763-4988-9E03-F33786E6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549-3F6C-4335-91D5-640E9D3A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2FD-500F-4DBC-B5A1-F0CE96F7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79B-1B0E-4E1B-BD89-055746F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0AD-B95D-4520-9BB8-384A0A4E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646-7805-4D6B-956E-FBE01EB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3AC-81DF-4DDB-920A-433E4B5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B5F-3695-4B94-A4B1-B896D6C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4FABF601-8B09-4DBF-8765-4E9145B03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9AE211-020A-4CFB-88E2-585F40670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i.com/lit/ds/symlink/tlv320aic23b.pdf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235D83B4-6DBA-4901-AEF9-5A4570863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out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ignal plus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is difference of output and inpu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-to-noise ratio (SNR) deriv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p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idrise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oes not overload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error (noise) is uniform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quantization leve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arge enoug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1143000" y="4784760"/>
            <a:ext cx="2895480" cy="551160"/>
            <a:chOff x="1143000" y="4784760"/>
            <a:chExt cx="2895480" cy="551160"/>
          </a:xfrm>
        </p:grpSpPr>
        <p:sp>
          <p:nvSpPr>
            <p:cNvPr id="223" name="Line 5"/>
            <p:cNvSpPr/>
            <p:nvPr/>
          </p:nvSpPr>
          <p:spPr>
            <a:xfrm>
              <a:off x="1219320" y="5013360"/>
              <a:ext cx="83808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2057400" y="4784760"/>
              <a:ext cx="1143000" cy="51012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66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6600ff"/>
                  </a:solidFill>
                  <a:latin typeface="Times New Roman"/>
                </a:rPr>
                <a:t>[ </a:t>
              </a:r>
              <a:r>
                <a:rPr b="0" lang="en-US" sz="2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· </a:t>
              </a:r>
              <a:r>
                <a:rPr b="0" lang="en-US" sz="2400" spc="-1" strike="noStrike">
                  <a:solidFill>
                    <a:srgbClr val="6600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>
              <a:off x="3200400" y="5013360"/>
              <a:ext cx="83808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1143000" y="4937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9"/>
            <p:cNvSpPr/>
            <p:nvPr/>
          </p:nvSpPr>
          <p:spPr>
            <a:xfrm>
              <a:off x="3276720" y="4937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Object 0"/>
              <p:cNvSpPr txBox="1"/>
              <p:nvPr/>
            </p:nvSpPr>
            <p:spPr>
              <a:xfrm>
                <a:off x="1295280" y="5987880"/>
                <a:ext cx="26672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"/>
              <p:cNvSpPr txBox="1"/>
              <p:nvPr/>
            </p:nvSpPr>
            <p:spPr>
              <a:xfrm>
                <a:off x="6934320" y="5267160"/>
                <a:ext cx="10666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5D3F661E-42AB-4176-A877-9FBF04CE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rministic sig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pectrum is square of absolute value of magnitude response (phase is ign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 in Fourier domain is convolution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ion in Fourier domain is reversal &amp; conjugation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9104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tocorrelation of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value (when it exists) i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ven symmetric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024"/>
              <p:cNvSpPr txBox="1"/>
              <p:nvPr/>
            </p:nvSpPr>
            <p:spPr>
              <a:xfrm>
                <a:off x="1066680" y="3524400"/>
                <a:ext cx="3581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25"/>
              <p:cNvSpPr txBox="1"/>
              <p:nvPr/>
            </p:nvSpPr>
            <p:spPr>
              <a:xfrm>
                <a:off x="1066680" y="5638680"/>
                <a:ext cx="4038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26"/>
              <p:cNvSpPr txBox="1"/>
              <p:nvPr/>
            </p:nvSpPr>
            <p:spPr>
              <a:xfrm>
                <a:off x="5638680" y="1905120"/>
                <a:ext cx="274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7" name="Group 1032"/>
          <p:cNvGrpSpPr/>
          <p:nvPr/>
        </p:nvGrpSpPr>
        <p:grpSpPr>
          <a:xfrm>
            <a:off x="6172200" y="3860640"/>
            <a:ext cx="2286000" cy="1316880"/>
            <a:chOff x="6172200" y="3860640"/>
            <a:chExt cx="2286000" cy="1316880"/>
          </a:xfrm>
        </p:grpSpPr>
        <p:sp>
          <p:nvSpPr>
            <p:cNvPr id="238" name="Line 1033"/>
            <p:cNvSpPr/>
            <p:nvPr/>
          </p:nvSpPr>
          <p:spPr>
            <a:xfrm>
              <a:off x="6858000" y="419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034"/>
            <p:cNvSpPr/>
            <p:nvPr/>
          </p:nvSpPr>
          <p:spPr>
            <a:xfrm>
              <a:off x="6172200" y="4806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35"/>
            <p:cNvSpPr/>
            <p:nvPr/>
          </p:nvSpPr>
          <p:spPr>
            <a:xfrm>
              <a:off x="6858000" y="4349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036"/>
            <p:cNvSpPr/>
            <p:nvPr/>
          </p:nvSpPr>
          <p:spPr>
            <a:xfrm>
              <a:off x="6858000" y="434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037"/>
            <p:cNvSpPr/>
            <p:nvPr/>
          </p:nvSpPr>
          <p:spPr>
            <a:xfrm>
              <a:off x="6248520" y="480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38"/>
            <p:cNvSpPr/>
            <p:nvPr/>
          </p:nvSpPr>
          <p:spPr>
            <a:xfrm>
              <a:off x="7772400" y="48067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039"/>
            <p:cNvSpPr/>
            <p:nvPr/>
          </p:nvSpPr>
          <p:spPr>
            <a:xfrm>
              <a:off x="7772400" y="434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1040"/>
            <p:cNvSpPr/>
            <p:nvPr/>
          </p:nvSpPr>
          <p:spPr>
            <a:xfrm>
              <a:off x="8153640" y="48067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1041"/>
            <p:cNvSpPr/>
            <p:nvPr/>
          </p:nvSpPr>
          <p:spPr>
            <a:xfrm>
              <a:off x="7696440" y="412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42"/>
            <p:cNvSpPr/>
            <p:nvPr/>
          </p:nvSpPr>
          <p:spPr>
            <a:xfrm>
              <a:off x="6324840" y="3860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043"/>
            <p:cNvSpPr/>
            <p:nvPr/>
          </p:nvSpPr>
          <p:spPr>
            <a:xfrm>
              <a:off x="6477120" y="48067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044"/>
            <p:cNvSpPr/>
            <p:nvPr/>
          </p:nvSpPr>
          <p:spPr>
            <a:xfrm>
              <a:off x="7467840" y="4806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045"/>
          <p:cNvGrpSpPr/>
          <p:nvPr/>
        </p:nvGrpSpPr>
        <p:grpSpPr>
          <a:xfrm>
            <a:off x="5334120" y="5060880"/>
            <a:ext cx="3200400" cy="1316880"/>
            <a:chOff x="5334120" y="5060880"/>
            <a:chExt cx="3200400" cy="1316880"/>
          </a:xfrm>
        </p:grpSpPr>
        <p:sp>
          <p:nvSpPr>
            <p:cNvPr id="251" name="Line 1046"/>
            <p:cNvSpPr/>
            <p:nvPr/>
          </p:nvSpPr>
          <p:spPr>
            <a:xfrm>
              <a:off x="6858000" y="5397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47"/>
            <p:cNvSpPr/>
            <p:nvPr/>
          </p:nvSpPr>
          <p:spPr>
            <a:xfrm>
              <a:off x="5334120" y="600696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48"/>
            <p:cNvSpPr/>
            <p:nvPr/>
          </p:nvSpPr>
          <p:spPr>
            <a:xfrm flipH="1">
              <a:off x="5943600" y="5537160"/>
              <a:ext cx="9144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049"/>
            <p:cNvSpPr/>
            <p:nvPr/>
          </p:nvSpPr>
          <p:spPr>
            <a:xfrm>
              <a:off x="5334120" y="60069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50"/>
            <p:cNvSpPr/>
            <p:nvPr/>
          </p:nvSpPr>
          <p:spPr>
            <a:xfrm>
              <a:off x="7772400" y="6006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051"/>
            <p:cNvSpPr/>
            <p:nvPr/>
          </p:nvSpPr>
          <p:spPr>
            <a:xfrm>
              <a:off x="8229600" y="6006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52"/>
            <p:cNvSpPr/>
            <p:nvPr/>
          </p:nvSpPr>
          <p:spPr>
            <a:xfrm>
              <a:off x="6324840" y="5060880"/>
              <a:ext cx="1066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053"/>
            <p:cNvSpPr/>
            <p:nvPr/>
          </p:nvSpPr>
          <p:spPr>
            <a:xfrm>
              <a:off x="5562720" y="600696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54"/>
            <p:cNvSpPr/>
            <p:nvPr/>
          </p:nvSpPr>
          <p:spPr>
            <a:xfrm>
              <a:off x="7543800" y="600696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55"/>
            <p:cNvSpPr/>
            <p:nvPr/>
          </p:nvSpPr>
          <p:spPr>
            <a:xfrm>
              <a:off x="6782040" y="5537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56"/>
            <p:cNvSpPr/>
            <p:nvPr/>
          </p:nvSpPr>
          <p:spPr>
            <a:xfrm>
              <a:off x="6858000" y="5537160"/>
              <a:ext cx="9144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057"/>
            <p:cNvSpPr/>
            <p:nvPr/>
          </p:nvSpPr>
          <p:spPr>
            <a:xfrm>
              <a:off x="6858000" y="528948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F4AD944B-FBFA-4A3E-95FE-6AA03662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-sided random sig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 may not exist, but power spectrum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zero-mean Gaussian random 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36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stimate noise pow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in Matla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028"/>
              <p:cNvSpPr txBox="1"/>
              <p:nvPr/>
            </p:nvSpPr>
            <p:spPr>
              <a:xfrm>
                <a:off x="533520" y="4259160"/>
                <a:ext cx="4233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6400800" y="1554120"/>
                <a:ext cx="2286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Text Box 1030"/>
          <p:cNvSpPr/>
          <p:nvPr/>
        </p:nvSpPr>
        <p:spPr>
          <a:xfrm>
            <a:off x="804960" y="5637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6384;    % finite no. of samp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Noise = randn(N,1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( abs(fft(gaussianNoise)) .^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031" descr="noise"/>
          <p:cNvPicPr/>
          <p:nvPr/>
        </p:nvPicPr>
        <p:blipFill>
          <a:blip r:embed="rId1"/>
          <a:stretch/>
        </p:blipFill>
        <p:spPr>
          <a:xfrm>
            <a:off x="4419720" y="4664160"/>
            <a:ext cx="2819160" cy="2117520"/>
          </a:xfrm>
          <a:prstGeom prst="rect">
            <a:avLst/>
          </a:prstGeom>
          <a:ln w="0">
            <a:noFill/>
          </a:ln>
        </p:spPr>
      </p:pic>
      <p:sp>
        <p:nvSpPr>
          <p:cNvPr id="270" name="Line 1032"/>
          <p:cNvSpPr/>
          <p:nvPr/>
        </p:nvSpPr>
        <p:spPr>
          <a:xfrm>
            <a:off x="4495680" y="5737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33"/>
          <p:cNvSpPr/>
          <p:nvPr/>
        </p:nvSpPr>
        <p:spPr>
          <a:xfrm>
            <a:off x="7216920" y="51814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e noise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19120" y="2293920"/>
                <a:ext cx="550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35"/>
              <p:cNvSpPr txBox="1"/>
              <p:nvPr/>
            </p:nvSpPr>
            <p:spPr>
              <a:xfrm>
                <a:off x="525600" y="2878200"/>
                <a:ext cx="7170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028"/>
              <p:cNvSpPr txBox="1"/>
              <p:nvPr/>
            </p:nvSpPr>
            <p:spPr>
              <a:xfrm>
                <a:off x="533520" y="3772080"/>
                <a:ext cx="4941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τ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28"/>
              <p:cNvSpPr txBox="1"/>
              <p:nvPr/>
            </p:nvSpPr>
            <p:spPr>
              <a:xfrm>
                <a:off x="6477120" y="419112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Left-Right Arrow 14"/>
          <p:cNvSpPr/>
          <p:nvPr/>
        </p:nvSpPr>
        <p:spPr>
          <a:xfrm>
            <a:off x="5194440" y="4394160"/>
            <a:ext cx="914400" cy="15228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E28E63A9-73AC-4ADA-AF21-6287E5B4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er step siz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err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mple of zero-mean random proc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niform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648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 power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average,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exponential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1 bit increases SNR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ation of SNR in deciBels on next slid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024"/>
              <p:cNvSpPr txBox="1"/>
              <p:nvPr/>
            </p:nvSpPr>
            <p:spPr>
              <a:xfrm>
                <a:off x="1219320" y="190512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025"/>
              <p:cNvSpPr txBox="1"/>
              <p:nvPr/>
            </p:nvSpPr>
            <p:spPr>
              <a:xfrm>
                <a:off x="1828800" y="2905200"/>
                <a:ext cx="13716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026"/>
              <p:cNvSpPr txBox="1"/>
              <p:nvPr/>
            </p:nvSpPr>
            <p:spPr>
              <a:xfrm>
                <a:off x="1219320" y="4876920"/>
                <a:ext cx="2489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ero</m:t>
                            </m:r>
                          </m:lim>
                        </m:limLow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027"/>
              <p:cNvSpPr txBox="1"/>
              <p:nvPr/>
            </p:nvSpPr>
            <p:spPr>
              <a:xfrm>
                <a:off x="5105520" y="2133720"/>
                <a:ext cx="35272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gnal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oise Powe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rage,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erage,m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C38CA2DC-6C1B-4F35-82FD-A688AA86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NR in dB = constant + 6.02 dB/bit *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is maximum number of bits of resolution f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 CD signal with SNR of 9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TLV320AIC23B stereo codec used on TI DSP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C 90 dB SNR (14.6 bits) and 80 dB THD (13 bits) page 2-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C has 100 dB SNR (16 bits) and 88 dB THD (14.3 bits) page 2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120"/>
              <p:cNvSpPr txBox="1"/>
              <p:nvPr/>
            </p:nvSpPr>
            <p:spPr>
              <a:xfrm>
                <a:off x="457200" y="1949400"/>
                <a:ext cx="72388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SNR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,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den>
                                  </m:f>
                                </m:e>
                              </m:d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verage,m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 B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7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verage,m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t xml:space="preserve">B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89" name="AutoShape 3077"/>
          <p:cNvSpPr/>
          <p:nvPr/>
        </p:nvSpPr>
        <p:spPr>
          <a:xfrm rot="16200000">
            <a:off x="4381200" y="1752120"/>
            <a:ext cx="127080" cy="4038480"/>
          </a:xfrm>
          <a:custGeom>
            <a:avLst/>
            <a:gdLst>
              <a:gd name="textAreaLeft" fmla="*/ 81360 w 127080"/>
              <a:gd name="textAreaRight" fmla="*/ 127440 w 127080"/>
              <a:gd name="textAreaTop" fmla="*/ 80280 h 4038480"/>
              <a:gd name="textAreaBottom" fmla="*/ 395820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8"/>
                  <a:pt x="10800" y="1376"/>
                </a:cubicBezTo>
                <a:lnTo>
                  <a:pt x="10800" y="9424"/>
                </a:lnTo>
                <a:cubicBezTo>
                  <a:pt x="10800" y="10112"/>
                  <a:pt x="5400" y="10800"/>
                  <a:pt x="0" y="10800"/>
                </a:cubicBezTo>
                <a:cubicBezTo>
                  <a:pt x="5400" y="10800"/>
                  <a:pt x="10800" y="11488"/>
                  <a:pt x="10800" y="12176"/>
                </a:cubicBezTo>
                <a:lnTo>
                  <a:pt x="10800" y="20224"/>
                </a:lnTo>
                <a:cubicBezTo>
                  <a:pt x="10800" y="209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078"/>
          <p:cNvSpPr/>
          <p:nvPr/>
        </p:nvSpPr>
        <p:spPr>
          <a:xfrm>
            <a:off x="1066680" y="3784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.76 and 1.17 are common constants used in 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079"/>
          <p:cNvSpPr/>
          <p:nvPr/>
        </p:nvSpPr>
        <p:spPr>
          <a:xfrm>
            <a:off x="7696080" y="1447920"/>
            <a:ext cx="99072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se upp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ight Arrow 9">
            <a:hlinkClick r:id="rId1"/>
          </p:cNvPr>
          <p:cNvSpPr/>
          <p:nvPr/>
        </p:nvSpPr>
        <p:spPr>
          <a:xfrm>
            <a:off x="8001000" y="523224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otal Harmonic Distortion (THD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measure of nonlinear distortion in a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is a sinusoidal signal of a single fixe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utput of system, the input sinusoid signal is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measure is then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audio, sinusoidal signal is often at 1 kHz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t spot” for human hearing – stronge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” is 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brated 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”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3"/>
          <p:cNvGrpSpPr/>
          <p:nvPr/>
        </p:nvGrpSpPr>
        <p:grpSpPr>
          <a:xfrm>
            <a:off x="3352680" y="4354560"/>
            <a:ext cx="5486400" cy="2197440"/>
            <a:chOff x="3352680" y="4354560"/>
            <a:chExt cx="5486400" cy="2197440"/>
          </a:xfrm>
        </p:grpSpPr>
        <p:sp>
          <p:nvSpPr>
            <p:cNvPr id="296" name="Line 16"/>
            <p:cNvSpPr/>
            <p:nvPr/>
          </p:nvSpPr>
          <p:spPr>
            <a:xfrm>
              <a:off x="3962160" y="4838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4571640" y="4532040"/>
              <a:ext cx="10666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/D 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0"/>
            <p:cNvSpPr/>
            <p:nvPr/>
          </p:nvSpPr>
          <p:spPr>
            <a:xfrm>
              <a:off x="5638680" y="4762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7391520" y="4821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21"/>
            <p:cNvGrpSpPr/>
            <p:nvPr/>
          </p:nvGrpSpPr>
          <p:grpSpPr>
            <a:xfrm>
              <a:off x="3352680" y="4592520"/>
              <a:ext cx="761760" cy="845280"/>
              <a:chOff x="3352680" y="4592520"/>
              <a:chExt cx="761760" cy="845280"/>
            </a:xfrm>
          </p:grpSpPr>
          <p:sp>
            <p:nvSpPr>
              <p:cNvPr id="301" name="Oval 17"/>
              <p:cNvSpPr/>
              <p:nvPr/>
            </p:nvSpPr>
            <p:spPr>
              <a:xfrm>
                <a:off x="3581280" y="464328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Box 18"/>
              <p:cNvSpPr/>
              <p:nvPr/>
            </p:nvSpPr>
            <p:spPr>
              <a:xfrm>
                <a:off x="3517560" y="4592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Box 19"/>
              <p:cNvSpPr/>
              <p:nvPr/>
            </p:nvSpPr>
            <p:spPr>
              <a:xfrm>
                <a:off x="3352680" y="51004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kHz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17"/>
            <p:cNvSpPr/>
            <p:nvPr/>
          </p:nvSpPr>
          <p:spPr>
            <a:xfrm>
              <a:off x="6324480" y="4515480"/>
              <a:ext cx="10666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/A 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Group 22"/>
            <p:cNvGrpSpPr/>
            <p:nvPr/>
          </p:nvGrpSpPr>
          <p:grpSpPr>
            <a:xfrm>
              <a:off x="5549760" y="5176800"/>
              <a:ext cx="761760" cy="878760"/>
              <a:chOff x="5549760" y="5176800"/>
              <a:chExt cx="761760" cy="878760"/>
            </a:xfrm>
          </p:grpSpPr>
          <p:sp>
            <p:nvSpPr>
              <p:cNvPr id="306" name="Oval 23"/>
              <p:cNvSpPr/>
              <p:nvPr/>
            </p:nvSpPr>
            <p:spPr>
              <a:xfrm>
                <a:off x="5778360" y="522756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Box 24"/>
              <p:cNvSpPr/>
              <p:nvPr/>
            </p:nvSpPr>
            <p:spPr>
              <a:xfrm>
                <a:off x="5714640" y="5176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Box 25"/>
              <p:cNvSpPr/>
              <p:nvPr/>
            </p:nvSpPr>
            <p:spPr>
              <a:xfrm>
                <a:off x="5549760" y="5684760"/>
                <a:ext cx="761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Straight Connector 27"/>
            <p:cNvSpPr/>
            <p:nvPr/>
          </p:nvSpPr>
          <p:spPr>
            <a:xfrm>
              <a:off x="6172200" y="540540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Straight Connector 28"/>
            <p:cNvSpPr/>
            <p:nvPr/>
          </p:nvSpPr>
          <p:spPr>
            <a:xfrm>
              <a:off x="5092560" y="540540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" name="Straight Arrow Connector 30"/>
            <p:cNvCxnSpPr/>
            <p:nvPr/>
          </p:nvCxnSpPr>
          <p:spPr>
            <a:xfrm flipV="1">
              <a:off x="6845040" y="51001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2" name="Straight Arrow Connector 31"/>
            <p:cNvCxnSpPr/>
            <p:nvPr/>
          </p:nvCxnSpPr>
          <p:spPr>
            <a:xfrm flipV="1">
              <a:off x="5092200" y="51001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3" name="Oval 34"/>
            <p:cNvSpPr/>
            <p:nvPr/>
          </p:nvSpPr>
          <p:spPr>
            <a:xfrm>
              <a:off x="7772400" y="4643280"/>
              <a:ext cx="423360" cy="42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Box 37"/>
            <p:cNvSpPr/>
            <p:nvPr/>
          </p:nvSpPr>
          <p:spPr>
            <a:xfrm>
              <a:off x="7429320" y="44571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Box 38"/>
            <p:cNvSpPr/>
            <p:nvPr/>
          </p:nvSpPr>
          <p:spPr>
            <a:xfrm>
              <a:off x="7543800" y="4990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−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Straight Connector 40"/>
            <p:cNvSpPr/>
            <p:nvPr/>
          </p:nvSpPr>
          <p:spPr>
            <a:xfrm>
              <a:off x="4267080" y="48337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Straight Arrow Connector 44"/>
            <p:cNvCxnSpPr/>
            <p:nvPr/>
          </p:nvCxnSpPr>
          <p:spPr>
            <a:xfrm flipH="1" flipV="1">
              <a:off x="7987680" y="5066280"/>
              <a:ext cx="13320" cy="133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8" name="Text Box 17"/>
            <p:cNvSpPr/>
            <p:nvPr/>
          </p:nvSpPr>
          <p:spPr>
            <a:xfrm>
              <a:off x="5499000" y="6214680"/>
              <a:ext cx="10666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Straight Arrow Connector 51"/>
            <p:cNvCxnSpPr>
              <a:endCxn id="318" idx="1"/>
            </p:cNvCxnSpPr>
            <p:nvPr/>
          </p:nvCxnSpPr>
          <p:spPr>
            <a:xfrm>
              <a:off x="4267080" y="6383520"/>
              <a:ext cx="1232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Straight Connector 63"/>
            <p:cNvSpPr/>
            <p:nvPr/>
          </p:nvSpPr>
          <p:spPr>
            <a:xfrm>
              <a:off x="6565680" y="6384600"/>
              <a:ext cx="14349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" name="Straight Arrow Connector 70"/>
            <p:cNvCxnSpPr/>
            <p:nvPr/>
          </p:nvCxnSpPr>
          <p:spPr>
            <a:xfrm flipV="1">
              <a:off x="8195400" y="4837320"/>
              <a:ext cx="644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2" name="TextBox 74"/>
            <p:cNvSpPr/>
            <p:nvPr/>
          </p:nvSpPr>
          <p:spPr>
            <a:xfrm>
              <a:off x="3962160" y="43545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Box 75"/>
            <p:cNvSpPr/>
            <p:nvPr/>
          </p:nvSpPr>
          <p:spPr>
            <a:xfrm>
              <a:off x="8229600" y="43545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Box 77"/>
            <p:cNvSpPr/>
            <p:nvPr/>
          </p:nvSpPr>
          <p:spPr>
            <a:xfrm>
              <a:off x="7759800" y="4651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F898607D-F4DD-4A1B-AE03-1CF1735C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Noise Immunity at Receiver Outpu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ends on modulation, average transmit power, transmission bandwidth and channel 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communication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ceiver output SN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arrier to noise ratio is high, an increase in the transmission band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 corresponding quadratic increase in the output signal-to-noise ratio or figure of merit of the [wideband] FM system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on Hayki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., p. 14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communication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ceiver symbol error rat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de division multiple access (CDMA) spread spectrum communications, probability of symbol error decreases exponentially with transmission band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Viterbi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MA: Principles of Sprea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995, pp. 34-3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16E733BC-9C42-40A9-B49A-E61CE055C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quantization approximates its input by a discrete amplitude taken from finite set of valu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ose upper bound in signal-to-noise ratio of a uniform amplitude quantizer with output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case: 6 dB of SNR gained for each bit added to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limitation: assumes large number of leve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st case improvement in noise immunity for communication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mprovement quadratic in transmissi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mprovement exponential in transmissi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44C00F6A-6383-4169-ACC2-1A0E25CB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vs. Analog Au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 audio engineer claims to notice differences between analog vinyl master recording and the remixed CD version.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Is this possible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igitizing an analog recording, the maximum voltage level for the quantizer is the maximum volume 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s are uniformly quantized (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s in this case although early CDs circa 1982 were recorded at 14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on a track with both loud and quiet portions, which occurs often in classical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rack is quiet, relative error in quantizing samples g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st this with analog media such as vinyl which responds linearly to quiet por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0" y="120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BB9BB473-95C2-4ED7-ABA2-460BBCD2E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vs. Analog Au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and digital media response to voltag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v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a large dynamic rang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media: records voltages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media: clips voltages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CDs use delta-sigma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dynamic range of 19 bits for lower frequencies but lower than 16 bits for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hearing is more sensitive at lower frequ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0"/>
              <p:cNvSpPr txBox="1"/>
              <p:nvPr/>
            </p:nvSpPr>
            <p:spPr>
              <a:xfrm>
                <a:off x="762120" y="2003400"/>
                <a:ext cx="43434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v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v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v</m:t>
                                      </m:r>
                                    </m:e>
                                  </m:d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"/>
              <p:cNvSpPr txBox="1"/>
              <p:nvPr/>
            </p:nvSpPr>
            <p:spPr>
              <a:xfrm>
                <a:off x="5465880" y="2001960"/>
                <a:ext cx="3220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v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Text Box 8"/>
          <p:cNvSpPr/>
          <p:nvPr/>
        </p:nvSpPr>
        <p:spPr>
          <a:xfrm>
            <a:off x="0" y="120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0458207D-353D-4E7D-BB2C-772C9D79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niform amplitude quantiz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error (noise)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immunity in communication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vs. analog audi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81393F9E-0607-4FC3-ADC5-275614692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solu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uman ey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received light on 2-D 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receptor density in retin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s off exponentially aw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fovea (point of fo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logarithmically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 (amplitude)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uman ea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frequencies in 20 Hz to 20 kHz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logarithmically in both intensity (amplitude) of sound (pressure waves) and frequency (octa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-log plot for hearing response vs.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81"/>
          <p:cNvGrpSpPr/>
          <p:nvPr/>
        </p:nvGrpSpPr>
        <p:grpSpPr>
          <a:xfrm>
            <a:off x="5791320" y="1523880"/>
            <a:ext cx="2438280" cy="2438640"/>
            <a:chOff x="5791320" y="1523880"/>
            <a:chExt cx="2438280" cy="2438640"/>
          </a:xfrm>
        </p:grpSpPr>
        <p:sp>
          <p:nvSpPr>
            <p:cNvPr id="93" name="Line 63"/>
            <p:cNvSpPr/>
            <p:nvPr/>
          </p:nvSpPr>
          <p:spPr>
            <a:xfrm>
              <a:off x="640080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64"/>
            <p:cNvSpPr/>
            <p:nvPr/>
          </p:nvSpPr>
          <p:spPr>
            <a:xfrm>
              <a:off x="701064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5"/>
            <p:cNvSpPr/>
            <p:nvPr/>
          </p:nvSpPr>
          <p:spPr>
            <a:xfrm>
              <a:off x="762012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66"/>
            <p:cNvSpPr/>
            <p:nvPr/>
          </p:nvSpPr>
          <p:spPr>
            <a:xfrm>
              <a:off x="822960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7"/>
            <p:cNvSpPr/>
            <p:nvPr/>
          </p:nvSpPr>
          <p:spPr>
            <a:xfrm>
              <a:off x="579132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68"/>
            <p:cNvSpPr/>
            <p:nvPr/>
          </p:nvSpPr>
          <p:spPr>
            <a:xfrm>
              <a:off x="5791320" y="15238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69"/>
            <p:cNvSpPr/>
            <p:nvPr/>
          </p:nvSpPr>
          <p:spPr>
            <a:xfrm>
              <a:off x="5791320" y="2133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70"/>
            <p:cNvSpPr/>
            <p:nvPr/>
          </p:nvSpPr>
          <p:spPr>
            <a:xfrm>
              <a:off x="5791320" y="2743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71"/>
            <p:cNvSpPr/>
            <p:nvPr/>
          </p:nvSpPr>
          <p:spPr>
            <a:xfrm>
              <a:off x="5791320" y="33526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72"/>
            <p:cNvSpPr/>
            <p:nvPr/>
          </p:nvSpPr>
          <p:spPr>
            <a:xfrm>
              <a:off x="5791320" y="3962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3"/>
            <p:cNvSpPr/>
            <p:nvPr/>
          </p:nvSpPr>
          <p:spPr>
            <a:xfrm>
              <a:off x="6400800" y="2438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74"/>
            <p:cNvSpPr/>
            <p:nvPr/>
          </p:nvSpPr>
          <p:spPr>
            <a:xfrm>
              <a:off x="640080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75"/>
            <p:cNvSpPr/>
            <p:nvPr/>
          </p:nvSpPr>
          <p:spPr>
            <a:xfrm>
              <a:off x="6705720" y="2133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76"/>
            <p:cNvSpPr/>
            <p:nvPr/>
          </p:nvSpPr>
          <p:spPr>
            <a:xfrm>
              <a:off x="7315200" y="2133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77"/>
            <p:cNvSpPr/>
            <p:nvPr/>
          </p:nvSpPr>
          <p:spPr>
            <a:xfrm>
              <a:off x="670572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78"/>
            <p:cNvSpPr/>
            <p:nvPr/>
          </p:nvSpPr>
          <p:spPr>
            <a:xfrm>
              <a:off x="6705720" y="2895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9"/>
            <p:cNvSpPr/>
            <p:nvPr/>
          </p:nvSpPr>
          <p:spPr>
            <a:xfrm>
              <a:off x="685800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0"/>
            <p:cNvSpPr/>
            <p:nvPr/>
          </p:nvSpPr>
          <p:spPr>
            <a:xfrm>
              <a:off x="716292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82"/>
          <p:cNvSpPr/>
          <p:nvPr/>
        </p:nvSpPr>
        <p:spPr>
          <a:xfrm>
            <a:off x="5257800" y="3962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Foveated grid:</a:t>
            </a:r>
            <a:br>
              <a:rPr sz="2400"/>
            </a:b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point of focus in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-to-Digital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band frequ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du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asing due to samp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force sampling theore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properti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i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n interpretation of a continuous quantity by a finite set of discrete valu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4191120" y="1523880"/>
            <a:ext cx="4724280" cy="2089440"/>
            <a:chOff x="4191120" y="1523880"/>
            <a:chExt cx="4724280" cy="2089440"/>
          </a:xfrm>
        </p:grpSpPr>
        <p:grpSp>
          <p:nvGrpSpPr>
            <p:cNvPr id="115" name="Group 15"/>
            <p:cNvGrpSpPr/>
            <p:nvPr/>
          </p:nvGrpSpPr>
          <p:grpSpPr>
            <a:xfrm>
              <a:off x="4191120" y="2069640"/>
              <a:ext cx="4724280" cy="1543680"/>
              <a:chOff x="4191120" y="2069640"/>
              <a:chExt cx="4724280" cy="1543680"/>
            </a:xfrm>
          </p:grpSpPr>
          <p:sp>
            <p:nvSpPr>
              <p:cNvPr id="116" name="Line 16"/>
              <p:cNvSpPr/>
              <p:nvPr/>
            </p:nvSpPr>
            <p:spPr>
              <a:xfrm>
                <a:off x="4191120" y="245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7"/>
              <p:cNvSpPr/>
              <p:nvPr/>
            </p:nvSpPr>
            <p:spPr>
              <a:xfrm>
                <a:off x="4648320" y="2073240"/>
                <a:ext cx="9907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og Lowpass Fil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8"/>
              <p:cNvSpPr/>
              <p:nvPr/>
            </p:nvSpPr>
            <p:spPr>
              <a:xfrm>
                <a:off x="5639040" y="2451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 flipV="1">
                <a:off x="6324840" y="206964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20"/>
              <p:cNvSpPr/>
              <p:nvPr/>
            </p:nvSpPr>
            <p:spPr>
              <a:xfrm>
                <a:off x="6705720" y="2451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21"/>
              <p:cNvSpPr/>
              <p:nvPr/>
            </p:nvSpPr>
            <p:spPr>
              <a:xfrm>
                <a:off x="7391520" y="2073240"/>
                <a:ext cx="106668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Quantizer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2"/>
              <p:cNvSpPr/>
              <p:nvPr/>
            </p:nvSpPr>
            <p:spPr>
              <a:xfrm>
                <a:off x="8458200" y="245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23"/>
              <p:cNvSpPr/>
              <p:nvPr/>
            </p:nvSpPr>
            <p:spPr>
              <a:xfrm>
                <a:off x="6400800" y="2070000"/>
                <a:ext cx="152640" cy="68580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4"/>
              <p:cNvSpPr/>
              <p:nvPr/>
            </p:nvSpPr>
            <p:spPr>
              <a:xfrm>
                <a:off x="6019920" y="2755800"/>
                <a:ext cx="1219320" cy="85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ampler at sampling rate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Text Box 25"/>
            <p:cNvSpPr/>
            <p:nvPr/>
          </p:nvSpPr>
          <p:spPr>
            <a:xfrm>
              <a:off x="7302600" y="1523880"/>
              <a:ext cx="129528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6"/>
            <p:cNvSpPr/>
            <p:nvPr/>
          </p:nvSpPr>
          <p:spPr>
            <a:xfrm>
              <a:off x="5715000" y="1523880"/>
              <a:ext cx="129564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DABF6564-18B8-4F12-BE40-41F147430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724280" y="3733920"/>
          <a:ext cx="3733920" cy="1477800"/>
        </p:xfrm>
        <a:graphic>
          <a:graphicData uri="http://schemas.openxmlformats.org/drawingml/2006/table">
            <a:tbl>
              <a:tblPr/>
              <a:tblGrid>
                <a:gridCol w="1244880"/>
                <a:gridCol w="1244520"/>
                <a:gridCol w="12445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8B2EDBFD-57D5-4C3D-9EEC-DA6F07148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form Amplitude Quant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und to nearest integer (midtread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 amplitude to levels {-2, -1, 0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s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linear region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levels by {00, 01, 10, 11}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0, 11, 00, 01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er is two's complement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unding with offset (midrise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 to levels {-3/2, -1/2, 1/2, 3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levels by {11, 10, 00, 01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133720" y="5486400"/>
                <a:ext cx="23637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" name="Group 31"/>
          <p:cNvGrpSpPr/>
          <p:nvPr/>
        </p:nvGrpSpPr>
        <p:grpSpPr>
          <a:xfrm>
            <a:off x="6477120" y="1371600"/>
            <a:ext cx="2438280" cy="2971800"/>
            <a:chOff x="6477120" y="1371600"/>
            <a:chExt cx="2438280" cy="2971800"/>
          </a:xfrm>
        </p:grpSpPr>
        <mc:AlternateContent>
          <mc:Choice xmlns:a14="http://schemas.microsoft.com/office/drawing/2010/main" Requires="a14">
            <p:sp>
              <p:nvSpPr>
                <p:cNvPr id="134" name="Object 5"/>
                <p:cNvSpPr txBox="1"/>
                <p:nvPr/>
              </p:nvSpPr>
              <p:spPr>
                <a:xfrm>
                  <a:off x="6705720" y="3581280"/>
                  <a:ext cx="212544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Line 6"/>
            <p:cNvSpPr/>
            <p:nvPr/>
          </p:nvSpPr>
          <p:spPr>
            <a:xfrm>
              <a:off x="6629400" y="25146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V="1">
              <a:off x="7924680" y="19936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8534520" y="2081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784872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7848720" y="2146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7848720" y="2895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7543800" y="1460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28"/>
            <p:cNvGrpSpPr/>
            <p:nvPr/>
          </p:nvGrpSpPr>
          <p:grpSpPr>
            <a:xfrm>
              <a:off x="6781680" y="2146320"/>
              <a:ext cx="1828800" cy="1143000"/>
              <a:chOff x="6781680" y="2146320"/>
              <a:chExt cx="1828800" cy="1143000"/>
            </a:xfrm>
          </p:grpSpPr>
          <p:sp>
            <p:nvSpPr>
              <p:cNvPr id="143" name="Line 12"/>
              <p:cNvSpPr/>
              <p:nvPr/>
            </p:nvSpPr>
            <p:spPr>
              <a:xfrm>
                <a:off x="7238880" y="290844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3"/>
              <p:cNvSpPr/>
              <p:nvPr/>
            </p:nvSpPr>
            <p:spPr>
              <a:xfrm>
                <a:off x="7696080" y="252720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4"/>
              <p:cNvSpPr/>
              <p:nvPr/>
            </p:nvSpPr>
            <p:spPr>
              <a:xfrm>
                <a:off x="8153280" y="214632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5"/>
              <p:cNvSpPr/>
              <p:nvPr/>
            </p:nvSpPr>
            <p:spPr>
              <a:xfrm>
                <a:off x="6781680" y="328932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 flipV="1">
                <a:off x="8153280" y="2146320"/>
                <a:ext cx="0" cy="38088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 flipV="1">
                <a:off x="7696080" y="2526840"/>
                <a:ext cx="0" cy="38124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 flipV="1">
                <a:off x="7238880" y="2908440"/>
                <a:ext cx="0" cy="38088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Line 20"/>
            <p:cNvSpPr/>
            <p:nvPr/>
          </p:nvSpPr>
          <p:spPr>
            <a:xfrm flipV="1">
              <a:off x="83818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70102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822960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23"/>
            <p:cNvSpPr/>
            <p:nvPr/>
          </p:nvSpPr>
          <p:spPr>
            <a:xfrm>
              <a:off x="678168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4"/>
            <p:cNvSpPr/>
            <p:nvPr/>
          </p:nvSpPr>
          <p:spPr>
            <a:xfrm>
              <a:off x="8001000" y="3124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5"/>
            <p:cNvSpPr/>
            <p:nvPr/>
          </p:nvSpPr>
          <p:spPr>
            <a:xfrm>
              <a:off x="7467480" y="1994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6"/>
            <p:cNvSpPr/>
            <p:nvPr/>
          </p:nvSpPr>
          <p:spPr>
            <a:xfrm>
              <a:off x="6477120" y="1371600"/>
              <a:ext cx="2438280" cy="29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 flipV="1">
              <a:off x="74674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Line 34"/>
          <p:cNvSpPr/>
          <p:nvPr/>
        </p:nvSpPr>
        <p:spPr>
          <a:xfrm>
            <a:off x="6629400" y="5759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7696080" y="504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8534520" y="532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7620120" y="6324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8"/>
          <p:cNvSpPr/>
          <p:nvPr/>
        </p:nvSpPr>
        <p:spPr>
          <a:xfrm>
            <a:off x="7620120" y="5386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9"/>
          <p:cNvSpPr/>
          <p:nvPr/>
        </p:nvSpPr>
        <p:spPr>
          <a:xfrm>
            <a:off x="7620120" y="6140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7315200" y="450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1"/>
          <p:cNvGrpSpPr/>
          <p:nvPr/>
        </p:nvGrpSpPr>
        <p:grpSpPr>
          <a:xfrm>
            <a:off x="6781680" y="5194440"/>
            <a:ext cx="1828800" cy="1143000"/>
            <a:chOff x="6781680" y="5194440"/>
            <a:chExt cx="1828800" cy="1143000"/>
          </a:xfrm>
        </p:grpSpPr>
        <p:sp>
          <p:nvSpPr>
            <p:cNvPr id="166" name="Line 42"/>
            <p:cNvSpPr/>
            <p:nvPr/>
          </p:nvSpPr>
          <p:spPr>
            <a:xfrm>
              <a:off x="7238880" y="595656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7696080" y="557532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8153280" y="519444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6781680" y="633744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V="1">
              <a:off x="8153280" y="5194440"/>
              <a:ext cx="0" cy="38088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7"/>
            <p:cNvSpPr/>
            <p:nvPr/>
          </p:nvSpPr>
          <p:spPr>
            <a:xfrm flipV="1">
              <a:off x="7696080" y="5574960"/>
              <a:ext cx="0" cy="38124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 flipV="1">
              <a:off x="7238880" y="5956560"/>
              <a:ext cx="0" cy="38088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49"/>
          <p:cNvSpPr/>
          <p:nvPr/>
        </p:nvSpPr>
        <p:spPr>
          <a:xfrm flipV="1">
            <a:off x="8153280" y="568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0"/>
          <p:cNvSpPr/>
          <p:nvPr/>
        </p:nvSpPr>
        <p:spPr>
          <a:xfrm flipV="1">
            <a:off x="6781680" y="568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8035920" y="585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2"/>
          <p:cNvSpPr/>
          <p:nvPr/>
        </p:nvSpPr>
        <p:spPr>
          <a:xfrm>
            <a:off x="6553080" y="585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7696080" y="5943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7238880" y="5226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6477120" y="4419720"/>
            <a:ext cx="2438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6"/>
          <p:cNvSpPr/>
          <p:nvPr/>
        </p:nvSpPr>
        <p:spPr>
          <a:xfrm flipV="1">
            <a:off x="7238880" y="568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7"/>
          <p:cNvSpPr/>
          <p:nvPr/>
        </p:nvSpPr>
        <p:spPr>
          <a:xfrm>
            <a:off x="762012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58"/>
          <p:cNvSpPr/>
          <p:nvPr/>
        </p:nvSpPr>
        <p:spPr>
          <a:xfrm>
            <a:off x="76201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59"/>
          <p:cNvSpPr/>
          <p:nvPr/>
        </p:nvSpPr>
        <p:spPr>
          <a:xfrm>
            <a:off x="762012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7924680" y="6248520"/>
            <a:ext cx="76212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1"/>
          <p:cNvSpPr/>
          <p:nvPr/>
        </p:nvSpPr>
        <p:spPr>
          <a:xfrm flipV="1">
            <a:off x="8610480" y="567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2"/>
          <p:cNvSpPr/>
          <p:nvPr/>
        </p:nvSpPr>
        <p:spPr>
          <a:xfrm>
            <a:off x="8458200" y="5870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3"/>
          <p:cNvSpPr/>
          <p:nvPr/>
        </p:nvSpPr>
        <p:spPr>
          <a:xfrm>
            <a:off x="4724280" y="5638680"/>
            <a:ext cx="14479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in slide 8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55AA4A56-9423-46EF-BA73-7BBADF80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Handling Overflow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 Consider set of integers {-2, -1, 0, 1}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in two's complement system {10, 11, 00, 01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–1) + (–1) + (–1) + 1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computations are – 2, 1, –2, –1 for wraparound arithmetic and –2, –2, –1, 0 for saturation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turation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hen to use i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put value greater than maximu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it to maximum; if less than minimum, set it to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quantizers, filtering, other signal process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raparound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hen to use i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performed modulo set of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address calculations, array 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324480" y="3505320"/>
            <a:ext cx="2514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ve support in MMX and 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559560" y="5356080"/>
            <a:ext cx="22860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two’s co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18495C53-CCFD-4C4C-8BC6-3FB7E82F1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dio Compact Discs (CDs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lowpass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band 0–2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and 20–22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band frequency at 22 kHz (i.e. 10% roll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control amount of aliasing that occ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hence called an anti-aliasing 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-to-noise ratio when quantizing to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6 dB + 6.02 dB/bit 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98.08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per b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rived later in slides 8-10 to 8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audio CDs have dynamic range of about 9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5"/>
          <p:cNvGrpSpPr/>
          <p:nvPr/>
        </p:nvGrpSpPr>
        <p:grpSpPr>
          <a:xfrm>
            <a:off x="4191120" y="1523520"/>
            <a:ext cx="4724280" cy="1266840"/>
            <a:chOff x="4191120" y="1523520"/>
            <a:chExt cx="4724280" cy="1266840"/>
          </a:xfrm>
        </p:grpSpPr>
        <p:sp>
          <p:nvSpPr>
            <p:cNvPr id="197" name="Line 16"/>
            <p:cNvSpPr/>
            <p:nvPr/>
          </p:nvSpPr>
          <p:spPr>
            <a:xfrm>
              <a:off x="419112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4648320" y="1527120"/>
              <a:ext cx="990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alog Low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5639040" y="1905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 flipV="1">
              <a:off x="6324840" y="15235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6705720" y="1905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1"/>
            <p:cNvSpPr/>
            <p:nvPr/>
          </p:nvSpPr>
          <p:spPr>
            <a:xfrm>
              <a:off x="7391520" y="1527120"/>
              <a:ext cx="10666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antizer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845820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6400800" y="152388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24"/>
            <p:cNvSpPr/>
            <p:nvPr/>
          </p:nvSpPr>
          <p:spPr>
            <a:xfrm>
              <a:off x="6019920" y="22096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mple at 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Straight Connector 18"/>
          <p:cNvSpPr/>
          <p:nvPr/>
        </p:nvSpPr>
        <p:spPr>
          <a:xfrm flipV="1">
            <a:off x="8610480" y="17521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8381880" y="2133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83E8E168-7882-4787-96AC-00F5CFBA4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ynamic Rang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-to-noise ratio in d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linear systems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ynamic range equals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anti-aliasing filter for 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magnitude response of 0 dB over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op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d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ise Power in dB = -98.08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914400" y="1974960"/>
                <a:ext cx="3733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gnal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oise Powe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gnal Power  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8"/>
          <p:cNvSpPr/>
          <p:nvPr/>
        </p:nvSpPr>
        <p:spPr>
          <a:xfrm>
            <a:off x="5562720" y="1600200"/>
            <a:ext cx="3200400" cy="2871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10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mplit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w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A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54E4ACAA-E1DB-4865-9561-D0C53EC05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ynamic Range in Au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ound Pressure Level (SP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in dB SPL is 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reshold of hea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dB SPL noise in typical liv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 SPL threshold of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dB SPL resulting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stimating dynamic rang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aximum RMS output of the linear system with some specified amount of distortion, typically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RMS output of system with small input signal (e.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0 dB of full scale) with input signal removed from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(b) into (a) to find the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53"/>
          <p:cNvSpPr/>
          <p:nvPr/>
        </p:nvSpPr>
        <p:spPr>
          <a:xfrm>
            <a:off x="6324480" y="1374840"/>
            <a:ext cx="2514600" cy="2228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choic room  1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sper  3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nfall  5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hwasher  6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y Traffic  8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Blower  11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ren 12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054"/>
          <p:cNvSpPr/>
          <p:nvPr/>
        </p:nvSpPr>
        <p:spPr>
          <a:xfrm>
            <a:off x="6248520" y="364176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ide by Dr. Thomas D. Kite, Audio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5T10:08:46Z</dcterms:modified>
  <cp:revision>435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