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84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716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84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716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1360" y="514440"/>
            <a:ext cx="77212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26560" y="6324480"/>
            <a:ext cx="812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9-</a:t>
            </a:r>
            <a:fld id="{E3156E14-BDDA-457A-8614-7653140AEE6A}" type="slidenum"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534160" cy="65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800280"/>
            <a:ext cx="4622760" cy="177156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1000" y="799920"/>
            <a:ext cx="4927320" cy="1771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RODUCTION TO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MS320C6000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LIW DSP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Prof. Brian L. Eva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NewCenturySchlbk"/>
              </a:rPr>
              <a:t>in collaboration with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Dr. Niranjan Damera-Venkata and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Mr. Magesh Valliappan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Embedded Signal Processing Laboratory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The University of Texas at Austi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ustin, TX 78712-1084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CenturySchlbk"/>
              </a:rPr>
              <a:t>http://signal.ece.utexas.edu/</a:t>
            </a:r>
            <a:endParaRPr b="0" lang="en-US" sz="18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1337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9051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00800" y="15235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97560" y="2131920"/>
            <a:ext cx="0" cy="384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51460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46748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7732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146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24382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286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209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10280" y="182844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205740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238880" y="21333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82880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2920" y="198108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7640" y="205740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238520" y="2209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15238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15238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238520" y="190512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42900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7712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54380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15328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38862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8098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37339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86600" y="33523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35812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15200" y="365724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33526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238880" y="35049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33960" y="35812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14840" y="37339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048120"/>
            <a:ext cx="1218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3396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733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88620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0384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5105520"/>
            <a:ext cx="838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7239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2012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22960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57150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6386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55627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54864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4100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62920" y="49525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51814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5040" y="5262480"/>
            <a:ext cx="6480" cy="147600"/>
          </a:xfrm>
          <a:custGeom>
            <a:avLst/>
            <a:gdLst/>
            <a:ahLst/>
            <a:rect l="l" t="t" r="r" b="b"/>
            <a:pathLst>
              <a:path w="4" h="93">
                <a:moveTo>
                  <a:pt x="4" y="9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4952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315200" y="51051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1814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10280" y="518148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010280" y="5638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7242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7242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391520" y="5105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715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2578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541008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56272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7150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141920"/>
            <a:ext cx="2438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Accumulato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97400" y="4342320"/>
            <a:ext cx="2024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Load-store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7240" y="2665800"/>
            <a:ext cx="2492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Memory-regis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86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43800" y="53337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91160" y="533412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12520" y="1371600"/>
            <a:ext cx="76453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00"/>
              </a:spcBef>
              <a:spcAft>
                <a:spcPts val="6749"/>
              </a:spcAft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 vector dot product is common in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n array of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peaks at 8 RISC instructions/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or 300-MHz C6000, RISC instructions per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300,000 for speech (sampling rate 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54,421 for audio CD (sampling rate 44.1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230 for luminance NTSC digital vid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   (sampling rate 10,36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lly requires hand coding for peak performanc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352680" y="1981080"/>
                <a:ext cx="1974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739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nd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t accumulator (A4) to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0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1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multiplication result into A4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tinue inner loop if counter is not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pi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the result into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616800" y="3613320"/>
          <a:ext cx="1841400" cy="293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6800" y="3613320"/>
                    <a:ext cx="184140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6553080" y="2209680"/>
            <a:ext cx="198144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Assuming coefficients &amp; data are 16 bits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3913560"/>
            <a:ext cx="7315200" cy="256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0574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123720" y="27432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7432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7521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590920"/>
            <a:ext cx="30456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00200" y="228564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22860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22860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0" y="1828800"/>
            <a:ext cx="1371600" cy="228600"/>
            <a:chOff x="2286000" y="1828800"/>
            <a:chExt cx="1371600" cy="228600"/>
          </a:xfrm>
        </p:grpSpPr>
        <p:sp>
          <p:nvSpPr>
            <p:cNvPr id="341" name=""/>
            <p:cNvSpPr/>
            <p:nvPr/>
          </p:nvSpPr>
          <p:spPr>
            <a:xfrm>
              <a:off x="2286000" y="18288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00400" y="182880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290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2057400"/>
            <a:ext cx="228600" cy="1371600"/>
            <a:chOff x="3809880" y="2057400"/>
            <a:chExt cx="228600" cy="1371600"/>
          </a:xfrm>
        </p:grpSpPr>
        <p:sp>
          <p:nvSpPr>
            <p:cNvPr id="348" name=""/>
            <p:cNvSpPr/>
            <p:nvPr/>
          </p:nvSpPr>
          <p:spPr>
            <a:xfrm rot="16200000">
              <a:off x="3238200" y="262872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9880" y="31989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29718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809880" y="27417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09880" y="25146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809880" y="22845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828800" y="1370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 a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0800" y="25138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 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25909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33519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Using A data path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324480" y="1073160"/>
          <a:ext cx="1851120" cy="30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073160"/>
                    <a:ext cx="1851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2520" y="1371240"/>
            <a:ext cx="77216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oVeKonstan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 .S 40,A2 ; A2 = 4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wer 16 bits of A2 are loaded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ditional branch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condition]  B   .S  loop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A2] means to execute instruction if A2 != 0 (same as C language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A1, A2, B0, B1, and B2 can be used (not symmetri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ing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  .D  *A5, A0  ;Loads half-word into A0 from memory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gisters may be used as pointers (*A1++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mplementation not efficient due to pipeline effec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PU oper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tch instruction from (on-chip) program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code instruc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xecute instruction including reading data values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verlap operations to increase performanc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 CPU operations to increase clock speed over a sequential implement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parate parallel functiona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eripheral interfaces for I/O do not burden CPU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714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714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000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18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286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4000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5720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571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38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2819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7722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6058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05520" y="3429000"/>
            <a:ext cx="3429000" cy="276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NewCenturySchlbk"/>
              </a:rPr>
              <a:t>Managing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iler or programm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(TMS320C6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pipeline interlocking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in processor (TMS320C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hardware instructio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1360" y="1219320"/>
            <a:ext cx="35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torola 5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3920" y="20574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ed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st conventional DSP process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1560" y="32004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scalar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Pentium, MI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560" y="4884840"/>
            <a:ext cx="40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pipelined</a:t>
            </a:r>
            <a:r>
              <a:rPr b="0" lang="en-US" sz="2400" spc="-1" strike="noStrike">
                <a:solidFill>
                  <a:srgbClr val="cc00ff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TMS320C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1440" y="2971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62880" y="297072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43200" y="297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3240" y="2971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2971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31440" y="61714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617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04840" y="61714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640" y="1828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182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7440" y="1828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828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31440" y="472356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3200" y="47235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43240" y="472356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57400" y="4723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000 Pipe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ne instruction cycle every clock 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ep pipelin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1 stages in C62x: fetch 4, decode 2, execute 1-5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6 stages in C67x: fetch 4, decode 2, execute 1-1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f a branch is in the pipeline, interrupts are disabl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void branches by using conditional execu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iler and assembler must prevent pipeline hazard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ispatches instructions in packe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gram Fetch (F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1860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gram fetching consists of 4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te fetch address (FG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nd address to memory (F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Wait for data ready (F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Read opcode (F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etch packet consists of 8 32-bit instruc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 Stage (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51824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code stage consists of two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ispatch instruction to functional unit (DP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struction decoded at functional unit (D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3434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87120" y="4418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Stage (E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05120" y="1370160"/>
          <a:ext cx="5297400" cy="180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0160"/>
                    <a:ext cx="5297400" cy="18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905120" y="3174840"/>
          <a:ext cx="5197320" cy="319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74840"/>
                    <a:ext cx="51973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instruction set architecture review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nite impulse response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clus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62520" y="5181480"/>
            <a:ext cx="10666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5486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495680" y="5410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371960"/>
            <a:ext cx="7315200" cy="256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6480" y="5150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Load has a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delay of four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66960" y="44650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Multiplication has a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delay of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362320"/>
            <a:ext cx="6094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57200" y="2361960"/>
            <a:ext cx="0" cy="297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57200" y="5334120"/>
            <a:ext cx="4572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85800" y="2590920"/>
            <a:ext cx="0" cy="213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72428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5909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tch packe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2039760"/>
            <a:ext cx="838440" cy="3785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NewCenturySchlbk"/>
              </a:rPr>
              <a:t>1-4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2055960"/>
            <a:ext cx="1066680" cy="3722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4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5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6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E1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7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MVK done LDH in E1)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8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78880" y="2162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1524960"/>
            <a:ext cx="7315200" cy="33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57840" y="518076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will automatically insert NOP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29560" y="5637960"/>
            <a:ext cx="61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can also make sequential code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mized Vector Dot Product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plit summation into two summ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B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divided by 2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 A0 a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+1) in A1 (</a:t>
            </a:r>
            <a:r>
              <a:rPr b="1" i="1" lang="en-US" sz="2000" spc="-1" strike="noStrike">
                <a:solidFill>
                  <a:srgbClr val="cc00ff"/>
                </a:solidFill>
                <a:latin typeface="NewCenturySchlbk"/>
              </a:rPr>
              <a:t>packed dat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even (odd) inde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erms in A4 (B4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tore resul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5943600" y="3048120"/>
          <a:ext cx="2629080" cy="35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048120"/>
                    <a:ext cx="2629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6629400" y="1440000"/>
            <a:ext cx="17524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16-bit data/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Implementation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1377720"/>
            <a:ext cx="7543800" cy="448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0x0001,AM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block size 2^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H .S1 0x4000,AMR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addr register 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2 2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2 (four-tap 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1 A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accum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2 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pointers A5, B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W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LDW  .D2  *B6++,B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X A0,B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MPYH .M2X A0,B1,B3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B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(n)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=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DD  .L2  B3,B4,B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n) += 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S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B    .S2  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4,B4,A4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55720" y="594252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NewCenturySchlbk"/>
              </a:rPr>
              <a:t>Throughput of two multiply-accumulates per instruction cycl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ventional digital signal processo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power consumption/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one-dimensio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ave instructions tailored to specific application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MS320C6000 VLIW DS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multidimensional sig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aximum of 8 RISC instructions per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8120" y="1600200"/>
            <a:ext cx="5029200" cy="441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1828800"/>
            <a:ext cx="15242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828800"/>
            <a:ext cx="1523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525780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05480"/>
            <a:ext cx="16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rogram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1980720"/>
            <a:ext cx="12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ata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0800" y="213336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or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5146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481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743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4852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2971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04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514600"/>
            <a:ext cx="75960" cy="228600"/>
          </a:xfrm>
          <a:prstGeom prst="upDownArrow">
            <a:avLst>
              <a:gd name="adj1" fmla="val 50000"/>
              <a:gd name="adj2" fmla="val 5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6553080" y="28954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8195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2767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2670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4724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553080" y="33526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6553080" y="38098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553080" y="44193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553080" y="48765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553080" y="53337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000" y="26665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Internal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22860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004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114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2640" y="50288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ontro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4983480" y="394704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B0-B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16200000">
            <a:off x="3079800" y="39470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A0-A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020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948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244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2452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96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160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456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664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6640" y="54853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429000"/>
            <a:ext cx="137160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438280" y="2666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3640" y="2361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828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6520" y="3047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07280" y="3735000"/>
            <a:ext cx="97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28400" y="2824560"/>
            <a:ext cx="1162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Ho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Boot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w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370520"/>
            <a:ext cx="1743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Simplifie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6960" y="5499720"/>
            <a:ext cx="21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2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4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700 floating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Web resour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.dsp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news group: FAQ 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www.bdti.com/faq/dsp_faq.html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mbedded processors and system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eg3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-line courses and DSP board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techonline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feren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R. Bhargava, R. Radhakrishnan, B. L. Evans, and L. K. John, “Evaluating MMX  Technology Using DSP and Multimedia Applications,”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Proc. IEEE Sym. Microarchitecture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, pp. 37-46, 1998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ravib/mmxdsp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45S Real-Time DSP Laboratory,” UT Austin. 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realtime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82C Embedded Software Systems,” UT Austin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ee382c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on a TMS320C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480" y="3277080"/>
            <a:ext cx="8001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EFFP .set 02000h       ; Program mem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     .set 037Fh        ; New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AP .set 037FH        ; Old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 AR3, #LASTAP    ; Point to oldest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T #127            ; Repeat next inst. 126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D COEFFP, *-     ; Compute one tap of F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A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CH Y,1            ; Store result -- note shi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38480" y="152388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190760" y="22096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213372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962520" y="213336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053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004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213372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76720" y="22096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666880" y="175212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17524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17524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52680" y="1295280"/>
            <a:ext cx="1371600" cy="228600"/>
            <a:chOff x="3352680" y="1295280"/>
            <a:chExt cx="1371600" cy="228600"/>
          </a:xfrm>
        </p:grpSpPr>
        <p:sp>
          <p:nvSpPr>
            <p:cNvPr id="659" name=""/>
            <p:cNvSpPr/>
            <p:nvPr/>
          </p:nvSpPr>
          <p:spPr>
            <a:xfrm>
              <a:off x="3352680" y="129528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98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384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129528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956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876920" y="1523880"/>
            <a:ext cx="228600" cy="1371600"/>
            <a:chOff x="4876920" y="1523880"/>
            <a:chExt cx="228600" cy="1371600"/>
          </a:xfrm>
        </p:grpSpPr>
        <p:sp>
          <p:nvSpPr>
            <p:cNvPr id="666" name=""/>
            <p:cNvSpPr/>
            <p:nvPr/>
          </p:nvSpPr>
          <p:spPr>
            <a:xfrm rot="16200000">
              <a:off x="4305240" y="20952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876920" y="26654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76920" y="243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876920" y="22082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19810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876920" y="17510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867320" y="1218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00560" y="17517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34120" y="243828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638680" y="21337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334120" y="213372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1676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20574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200 vs. StarCore S1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374840" y="1292400"/>
          <a:ext cx="650232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292400"/>
                    <a:ext cx="65023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990720" y="5638320"/>
            <a:ext cx="7619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   Does not count equivalent RISC operations for modulo addres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* On the C6200, there is a performance penalty for 40-bit accumulatio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ddress 8/16/32 bit data + 64-bit data on C67x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-store RISC architecture with 2 data path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32-bit registers per data path (A0-A15 and B0-B15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8 instructions (C6200) and 79 instructions (C6700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wo parallel data paths with 32-bit RISC uni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ta unit - 32-bit address calculations (modulo, linear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ultiplier unit - 16 bit x 16 bit with 32-bit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gical unit - 40-bit (saturation) arithmetic &amp; compare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fter unit - 32-bit integer ALU and 40-bit shif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ditionally executed based on registers A1-2 &amp; B0-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an work with two 16-bit halfwords packed into 32 b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M multiplication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bit x 16 bit signed/unsigned packed/unpack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L arithmetic logic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arisons and logic operations (and, or, and xo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aturation arithmetic and absolute value calcul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S shifter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it manipulation (set, get, shift, rotate) and branch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acked addi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D data unit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ad/store to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ointer arithmeti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6000 Restrictions on Register Access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unction unit access to register fil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1 (2) units read/write A (B) regis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2 (1) can read one A (B) register per instruction cycle with one-cycle latenc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simultaneous memory accesses cannot use registers of same register file as address poin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imit of four 32-bit reads per register per inst.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40-bit longs stored in adjacent even/odd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tended precision accumulation of 32-bit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one 40-bit result can be written per cycle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0-bit read cannot occur in same cycle as 40-bit writ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:1 performance penalty using 40-bit mod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ther C6000 Disadvantag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ALU acceleration for bit stream manipula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50% computation in MPEG-2 decoder spent on variable length decoding on C6200 in 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400 direct memory access controllers shred bit streams (for video conferencing &amp; wireless basestation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Branch in pipeline disables interrupts: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Avoid branches by using conditional execu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: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Programmer and tools must guard against 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ust emulate many conventional DSP featu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hardware looping: use register/conditional branch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bit-reversed addressing: use fast algorithm by Els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status register: only saturation bit given by .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ifference equation (vector dot product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= 2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+ 3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1) + 4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2) + 5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3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3" name=""/>
          <p:cNvSpPr/>
          <p:nvPr/>
        </p:nvSpPr>
        <p:spPr>
          <a:xfrm>
            <a:off x="6943680" y="4587840"/>
            <a:ext cx="60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4320" y="3505320"/>
            <a:ext cx="49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368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300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3962520"/>
            <a:ext cx="1233360" cy="0"/>
            <a:chOff x="1295280" y="3962520"/>
            <a:chExt cx="1233360" cy="0"/>
          </a:xfrm>
        </p:grpSpPr>
        <p:sp>
          <p:nvSpPr>
            <p:cNvPr id="208" name=""/>
            <p:cNvSpPr/>
            <p:nvPr/>
          </p:nvSpPr>
          <p:spPr>
            <a:xfrm>
              <a:off x="1295280" y="3962520"/>
              <a:ext cx="1233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88480" y="3962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75256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612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39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85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334120"/>
            <a:ext cx="76960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ot product of inputs vector and coeffici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tore input in circular buffer, coefficients i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17960" y="358092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Tapped</a:t>
            </a:r>
            <a:br>
              <a:rPr sz="1800"/>
            </a:b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11640" y="2743200"/>
                <a:ext cx="2798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85800" y="2819520"/>
            <a:ext cx="33526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ignal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0920" y="5103720"/>
            <a:ext cx="1143000" cy="0"/>
            <a:chOff x="2590920" y="5103720"/>
            <a:chExt cx="1143000" cy="0"/>
          </a:xfrm>
        </p:grpSpPr>
        <p:sp>
          <p:nvSpPr>
            <p:cNvPr id="220" name=""/>
            <p:cNvSpPr/>
            <p:nvPr/>
          </p:nvSpPr>
          <p:spPr>
            <a:xfrm>
              <a:off x="2590920" y="5103720"/>
              <a:ext cx="114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51037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62720" y="5105520"/>
            <a:ext cx="1233000" cy="0"/>
            <a:chOff x="6462720" y="5105520"/>
            <a:chExt cx="1233000" cy="0"/>
          </a:xfrm>
        </p:grpSpPr>
        <p:sp>
          <p:nvSpPr>
            <p:cNvPr id="223" name=""/>
            <p:cNvSpPr/>
            <p:nvPr/>
          </p:nvSpPr>
          <p:spPr>
            <a:xfrm>
              <a:off x="6462720" y="5105520"/>
              <a:ext cx="123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55920" y="5105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57800" y="5105520"/>
            <a:ext cx="914400" cy="0"/>
            <a:chOff x="5257800" y="5105520"/>
            <a:chExt cx="914400" cy="0"/>
          </a:xfrm>
        </p:grpSpPr>
        <p:sp>
          <p:nvSpPr>
            <p:cNvPr id="226" name=""/>
            <p:cNvSpPr/>
            <p:nvPr/>
          </p:nvSpPr>
          <p:spPr>
            <a:xfrm>
              <a:off x="525780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356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5105520"/>
            <a:ext cx="914400" cy="0"/>
            <a:chOff x="4038480" y="5105520"/>
            <a:chExt cx="914400" cy="0"/>
          </a:xfrm>
        </p:grpSpPr>
        <p:sp>
          <p:nvSpPr>
            <p:cNvPr id="229" name=""/>
            <p:cNvSpPr/>
            <p:nvPr/>
          </p:nvSpPr>
          <p:spPr>
            <a:xfrm>
              <a:off x="403848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424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181480" y="39625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66880" y="3733920"/>
            <a:ext cx="1143000" cy="483840"/>
            <a:chOff x="2666880" y="3733920"/>
            <a:chExt cx="1143000" cy="483840"/>
          </a:xfrm>
        </p:grpSpPr>
        <p:sp>
          <p:nvSpPr>
            <p:cNvPr id="235" name=""/>
            <p:cNvSpPr/>
            <p:nvPr/>
          </p:nvSpPr>
          <p:spPr>
            <a:xfrm>
              <a:off x="2666880" y="3962160"/>
              <a:ext cx="304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4960" y="3962160"/>
              <a:ext cx="304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1440" y="3733920"/>
              <a:ext cx="533520" cy="4838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r>
                <a:rPr b="0" lang="en-US" sz="2400" spc="-1" strike="noStrike" baseline="50000">
                  <a:solidFill>
                    <a:srgbClr val="0000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625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9625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17220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03776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4382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4723560"/>
            <a:ext cx="0" cy="38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33920" y="4343400"/>
            <a:ext cx="30456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9528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33920" y="4952880"/>
            <a:ext cx="304560" cy="304560"/>
            <a:chOff x="3733920" y="4952880"/>
            <a:chExt cx="304560" cy="304560"/>
          </a:xfrm>
        </p:grpSpPr>
        <p:sp>
          <p:nvSpPr>
            <p:cNvPr id="254" name=""/>
            <p:cNvSpPr/>
            <p:nvPr/>
          </p:nvSpPr>
          <p:spPr>
            <a:xfrm>
              <a:off x="3733920" y="4952880"/>
              <a:ext cx="30456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584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9880" y="5105160"/>
              <a:ext cx="15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4952880"/>
            <a:ext cx="304920" cy="304560"/>
            <a:chOff x="4952880" y="4952880"/>
            <a:chExt cx="304920" cy="304560"/>
          </a:xfrm>
        </p:grpSpPr>
        <p:sp>
          <p:nvSpPr>
            <p:cNvPr id="258" name=""/>
            <p:cNvSpPr/>
            <p:nvPr/>
          </p:nvSpPr>
          <p:spPr>
            <a:xfrm>
              <a:off x="495288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16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172200" y="4952880"/>
            <a:ext cx="304920" cy="304560"/>
            <a:chOff x="6172200" y="4952880"/>
            <a:chExt cx="304920" cy="304560"/>
          </a:xfrm>
        </p:grpSpPr>
        <p:sp>
          <p:nvSpPr>
            <p:cNvPr id="262" name=""/>
            <p:cNvSpPr/>
            <p:nvPr/>
          </p:nvSpPr>
          <p:spPr>
            <a:xfrm>
              <a:off x="617220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2448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ach tap requi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data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coefficien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operan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ing two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ing multiplication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ossibly updating delay line (see belo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419720"/>
            <a:ext cx="8153640" cy="1828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mputing an FIR tap in one instruc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data memory and one program memory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uto-increment or auto-decrement addressing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dulo addressing to implement delay line as circular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48320" y="1523160"/>
            <a:ext cx="4038480" cy="1296360"/>
            <a:chOff x="4648320" y="1523160"/>
            <a:chExt cx="4038480" cy="1296360"/>
          </a:xfrm>
        </p:grpSpPr>
        <p:sp>
          <p:nvSpPr>
            <p:cNvPr id="269" name=""/>
            <p:cNvSpPr/>
            <p:nvPr/>
          </p:nvSpPr>
          <p:spPr>
            <a:xfrm>
              <a:off x="4648320" y="17524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528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051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4120" y="1523880"/>
              <a:ext cx="53316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05520" y="2286000"/>
              <a:ext cx="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360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95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5520" y="2666880"/>
              <a:ext cx="83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588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1992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1981080"/>
              <a:ext cx="304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08624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1520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773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246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769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732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468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7732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100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8660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2514600"/>
              <a:ext cx="30456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2666880"/>
              <a:ext cx="152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888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8720" y="1752480"/>
              <a:ext cx="228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29600" y="26668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1448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412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520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858000" y="1066680"/>
            <a:ext cx="1066680" cy="2700000"/>
            <a:chOff x="6858000" y="1066680"/>
            <a:chExt cx="1066680" cy="2700000"/>
          </a:xfrm>
        </p:grpSpPr>
        <p:sp>
          <p:nvSpPr>
            <p:cNvPr id="313" name=""/>
            <p:cNvSpPr/>
            <p:nvPr/>
          </p:nvSpPr>
          <p:spPr>
            <a:xfrm>
              <a:off x="6858000" y="1066680"/>
              <a:ext cx="106668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312408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NewCenturySchlbk"/>
                </a:rPr>
                <a:t>One 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5T16:57:09Z</dcterms:created>
  <dc:creator>cdi.ditc</dc:creator>
  <dc:description/>
  <dc:language>en-US</dc:language>
  <cp:lastModifiedBy>Brian L. Evans</cp:lastModifiedBy>
  <cp:lastPrinted>1999-02-18T05:07:20Z</cp:lastPrinted>
  <dcterms:modified xsi:type="dcterms:W3CDTF">2009-07-11T20:14:39Z</dcterms:modified>
  <cp:revision>481</cp:revision>
  <dc:subject/>
  <dc:title>DESIGN AND QUALITY ASSESSMENT OF FORWARD AND INVERSE ERROR DIFFUSION HALFTONING ALGORITHMS</dc:title>
</cp:coreProperties>
</file>