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1C7-E2C6-42F9-931A-F7A6C188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1EC-8C8B-4E2B-B3C4-494DDB4B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48C-37B1-4807-9293-801C8322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D71-833F-4099-B9B9-F4CF25FA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6DD-A571-47A6-9D58-E2F9035D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728B-8311-4697-B6FB-53E78F08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81F3-6A79-4D50-85A5-887A290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559E-4D7F-44F8-9983-4D60B88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501-B9B9-479A-B3E4-46BFD7D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0EE-389E-4A3B-8879-E2C8662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6F1-9D97-4955-AD4D-F5E55E5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306-D18D-4F87-947E-AF8FBD9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E10-1191-4E1C-B460-C8B28A8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52F-4ADF-4BB2-8F75-3091A152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8757-B6CD-4B59-AD01-518C1769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CA7E-7924-4088-AF8A-DAFD4F8E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CBF8-D3D9-4FDB-94DB-42F2249C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944-D22E-42FA-AEA4-DEFD570D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318-CF3D-4F5A-88FE-0F5B55D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0DE-31C9-4EBA-9A97-6CBC02BD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136-518A-48C1-A14D-BBE58D4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9DA-8374-4506-93A9-7708123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89C-EB37-4C52-893A-A894159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304-75A4-482E-AB37-C20CC52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606B4EC6-B0AE-4010-97C9-F739DB709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7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8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FF4AAF-BB0C-4AA7-A412-05B2250D7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 (QAM) Receiv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daptive FIR 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est case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al-valued coefficients w/ first coefficient fixed a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e update equation 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during train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least mean squares (L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 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049"/>
              <p:cNvSpPr txBox="1"/>
              <p:nvPr/>
            </p:nvSpPr>
            <p:spPr>
              <a:xfrm>
                <a:off x="5129280" y="4537080"/>
                <a:ext cx="389556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49"/>
              <p:cNvSpPr txBox="1"/>
              <p:nvPr/>
            </p:nvSpPr>
            <p:spPr>
              <a:xfrm>
                <a:off x="5164200" y="3147840"/>
                <a:ext cx="2847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1" name="Group 37"/>
          <p:cNvGrpSpPr/>
          <p:nvPr/>
        </p:nvGrpSpPr>
        <p:grpSpPr>
          <a:xfrm>
            <a:off x="73080" y="2706840"/>
            <a:ext cx="5032440" cy="2855880"/>
            <a:chOff x="73080" y="2706840"/>
            <a:chExt cx="5032440" cy="2855880"/>
          </a:xfrm>
        </p:grpSpPr>
        <p:sp>
          <p:nvSpPr>
            <p:cNvPr id="292" name="Line 6"/>
            <p:cNvSpPr/>
            <p:nvPr/>
          </p:nvSpPr>
          <p:spPr>
            <a:xfrm flipV="1">
              <a:off x="1204200" y="5183640"/>
              <a:ext cx="5511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1751040" y="4928040"/>
              <a:ext cx="874440" cy="514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V="1">
              <a:off x="2615040" y="5178960"/>
              <a:ext cx="60876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669600" y="3741480"/>
              <a:ext cx="58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254240" y="3483360"/>
              <a:ext cx="874440" cy="514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2129040" y="3741480"/>
              <a:ext cx="2991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2326680" y="3543120"/>
              <a:ext cx="349200" cy="34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2675880" y="3736800"/>
              <a:ext cx="3142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2993400" y="3479040"/>
              <a:ext cx="874440" cy="51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3866400" y="3735360"/>
              <a:ext cx="4158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H="1">
              <a:off x="2513520" y="3256920"/>
              <a:ext cx="2880" cy="2995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4141440" y="383832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570960" y="311544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640960" y="310500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4672800" y="3154320"/>
              <a:ext cx="432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4019760" y="313200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378880" y="270684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23"/>
            <p:cNvSpPr/>
            <p:nvPr/>
          </p:nvSpPr>
          <p:spPr>
            <a:xfrm>
              <a:off x="4287240" y="3564000"/>
              <a:ext cx="349200" cy="34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4618080" y="3719880"/>
              <a:ext cx="299160" cy="147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4457160" y="3889080"/>
              <a:ext cx="31680" cy="129060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7"/>
            <p:cNvSpPr/>
            <p:nvPr/>
          </p:nvSpPr>
          <p:spPr>
            <a:xfrm>
              <a:off x="3002400" y="2987280"/>
              <a:ext cx="117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Equali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1082880" y="2972160"/>
              <a:ext cx="12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29"/>
            <p:cNvSpPr/>
            <p:nvPr/>
          </p:nvSpPr>
          <p:spPr>
            <a:xfrm rot="5400000">
              <a:off x="3281040" y="4771080"/>
              <a:ext cx="758520" cy="82440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3278880" y="4889160"/>
              <a:ext cx="4705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3257640" y="4800960"/>
              <a:ext cx="825840" cy="377280"/>
            </a:xfrm>
            <a:prstGeom prst="line">
              <a:avLst/>
            </a:prstGeom>
            <a:ln w="114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2"/>
            <p:cNvSpPr/>
            <p:nvPr/>
          </p:nvSpPr>
          <p:spPr>
            <a:xfrm flipV="1">
              <a:off x="4027320" y="5187960"/>
              <a:ext cx="3931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3"/>
            <p:cNvSpPr/>
            <p:nvPr/>
          </p:nvSpPr>
          <p:spPr>
            <a:xfrm>
              <a:off x="1910520" y="4379760"/>
              <a:ext cx="190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deal 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3986280" y="368640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498240" y="4503240"/>
              <a:ext cx="1251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eiver generates</a:t>
              </a:r>
              <a:br>
                <a:rPr sz="20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73080" y="3795120"/>
              <a:ext cx="1056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ining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4520520" y="4611600"/>
              <a:ext cx="432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 De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overs baseband in-phase/quadrature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s perfect AGC, equalizer, symbol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modulation followed by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has other ro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aliasing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SNR at downsampl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minimize symbol error at downsampl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05111B60-53F5-4569-B577-4D9A36B22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7607160" y="32004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7607160" y="466236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6"/>
          <p:cNvSpPr/>
          <p:nvPr/>
        </p:nvSpPr>
        <p:spPr>
          <a:xfrm>
            <a:off x="684540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6845400" y="466236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2"/>
          <p:cNvSpPr/>
          <p:nvPr/>
        </p:nvSpPr>
        <p:spPr>
          <a:xfrm>
            <a:off x="6159600" y="3352680"/>
            <a:ext cx="0" cy="14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61596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4"/>
          <p:cNvSpPr/>
          <p:nvPr/>
        </p:nvSpPr>
        <p:spPr>
          <a:xfrm>
            <a:off x="6159600" y="48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5"/>
          <p:cNvSpPr/>
          <p:nvPr/>
        </p:nvSpPr>
        <p:spPr>
          <a:xfrm>
            <a:off x="722628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7226280" y="48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8369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8369280" y="48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5"/>
          <p:cNvSpPr/>
          <p:nvPr/>
        </p:nvSpPr>
        <p:spPr>
          <a:xfrm flipV="1">
            <a:off x="7037280" y="5043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5"/>
          <p:cNvSpPr/>
          <p:nvPr/>
        </p:nvSpPr>
        <p:spPr>
          <a:xfrm flipV="1">
            <a:off x="703728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6311880" y="38862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6311880" y="534528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 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6122880" y="400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24"/>
          <p:cNvSpPr/>
          <p:nvPr/>
        </p:nvSpPr>
        <p:spPr>
          <a:xfrm>
            <a:off x="5638680" y="4038480"/>
            <a:ext cx="48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5477040" y="35812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15"/>
              <p:cNvSpPr txBox="1"/>
              <p:nvPr/>
            </p:nvSpPr>
            <p:spPr>
              <a:xfrm>
                <a:off x="8445600" y="2914560"/>
                <a:ext cx="457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5"/>
              <p:cNvSpPr txBox="1"/>
              <p:nvPr/>
            </p:nvSpPr>
            <p:spPr>
              <a:xfrm>
                <a:off x="8439120" y="4390920"/>
                <a:ext cx="495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5AFA2EA2-281B-45E9-B466-EF2C990C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 De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baseban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de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and lowpass filter to obtain baseband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048"/>
              <p:cNvSpPr txBox="1"/>
              <p:nvPr/>
            </p:nvSpPr>
            <p:spPr>
              <a:xfrm>
                <a:off x="4390920" y="1527120"/>
                <a:ext cx="4614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049"/>
              <p:cNvSpPr txBox="1"/>
              <p:nvPr/>
            </p:nvSpPr>
            <p:spPr>
              <a:xfrm>
                <a:off x="219240" y="2971800"/>
                <a:ext cx="2990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050"/>
              <p:cNvSpPr txBox="1"/>
              <p:nvPr/>
            </p:nvSpPr>
            <p:spPr>
              <a:xfrm>
                <a:off x="3238560" y="3019320"/>
                <a:ext cx="5524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051"/>
              <p:cNvSpPr txBox="1"/>
              <p:nvPr/>
            </p:nvSpPr>
            <p:spPr>
              <a:xfrm>
                <a:off x="906480" y="3503520"/>
                <a:ext cx="5326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052"/>
              <p:cNvSpPr txBox="1"/>
              <p:nvPr/>
            </p:nvSpPr>
            <p:spPr>
              <a:xfrm>
                <a:off x="152280" y="4368960"/>
                <a:ext cx="29149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053"/>
              <p:cNvSpPr txBox="1"/>
              <p:nvPr/>
            </p:nvSpPr>
            <p:spPr>
              <a:xfrm>
                <a:off x="3059280" y="4354560"/>
                <a:ext cx="571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054"/>
              <p:cNvSpPr txBox="1"/>
              <p:nvPr/>
            </p:nvSpPr>
            <p:spPr>
              <a:xfrm>
                <a:off x="787320" y="4826160"/>
                <a:ext cx="5275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055"/>
              <p:cNvSpPr txBox="1"/>
              <p:nvPr/>
            </p:nvSpPr>
            <p:spPr>
              <a:xfrm>
                <a:off x="990720" y="5802480"/>
                <a:ext cx="17524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056"/>
              <p:cNvSpPr txBox="1"/>
              <p:nvPr/>
            </p:nvSpPr>
            <p:spPr>
              <a:xfrm>
                <a:off x="3338640" y="5946840"/>
                <a:ext cx="1628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057"/>
              <p:cNvSpPr txBox="1"/>
              <p:nvPr/>
            </p:nvSpPr>
            <p:spPr>
              <a:xfrm>
                <a:off x="5643720" y="5811840"/>
                <a:ext cx="1715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 Box 1041"/>
          <p:cNvSpPr/>
          <p:nvPr/>
        </p:nvSpPr>
        <p:spPr>
          <a:xfrm>
            <a:off x="976320" y="40323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ase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2"/>
          <p:cNvSpPr/>
          <p:nvPr/>
        </p:nvSpPr>
        <p:spPr>
          <a:xfrm>
            <a:off x="2224080" y="4032360"/>
            <a:ext cx="3886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igh frequency component centered at 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043"/>
          <p:cNvSpPr/>
          <p:nvPr/>
        </p:nvSpPr>
        <p:spPr>
          <a:xfrm rot="16200000">
            <a:off x="1379520" y="3690720"/>
            <a:ext cx="136440" cy="609480"/>
          </a:xfrm>
          <a:custGeom>
            <a:avLst/>
            <a:gdLst>
              <a:gd name="textAreaLeft" fmla="*/ 87120 w 136440"/>
              <a:gd name="textAreaRight" fmla="*/ 136800 w 136440"/>
              <a:gd name="textAreaTop" fmla="*/ 28440 h 609480"/>
              <a:gd name="textAreaBottom" fmla="*/ 5810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1"/>
                  <a:pt x="10800" y="3221"/>
                </a:cubicBezTo>
                <a:lnTo>
                  <a:pt x="10800" y="7579"/>
                </a:lnTo>
                <a:cubicBezTo>
                  <a:pt x="10800" y="9190"/>
                  <a:pt x="5400" y="10800"/>
                  <a:pt x="0" y="10800"/>
                </a:cubicBezTo>
                <a:cubicBezTo>
                  <a:pt x="5400" y="10800"/>
                  <a:pt x="10800" y="12411"/>
                  <a:pt x="10800" y="14021"/>
                </a:cubicBezTo>
                <a:lnTo>
                  <a:pt x="10800" y="18379"/>
                </a:lnTo>
                <a:cubicBezTo>
                  <a:pt x="10800" y="199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49"/>
          <p:cNvSpPr/>
          <p:nvPr/>
        </p:nvSpPr>
        <p:spPr>
          <a:xfrm>
            <a:off x="914400" y="5403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ase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50"/>
          <p:cNvSpPr/>
          <p:nvPr/>
        </p:nvSpPr>
        <p:spPr>
          <a:xfrm>
            <a:off x="2133720" y="5403960"/>
            <a:ext cx="3886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igh frequency component centered at 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3"/>
          <p:cNvSpPr/>
          <p:nvPr/>
        </p:nvSpPr>
        <p:spPr>
          <a:xfrm rot="16200000">
            <a:off x="4005360" y="1896840"/>
            <a:ext cx="152280" cy="418140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4181400"/>
              <a:gd name="textAreaBottom" fmla="*/ 4149720 h 41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0275"/>
                </a:lnTo>
                <a:cubicBezTo>
                  <a:pt x="10800" y="10538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5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43"/>
          <p:cNvSpPr/>
          <p:nvPr/>
        </p:nvSpPr>
        <p:spPr>
          <a:xfrm rot="16200000">
            <a:off x="3911760" y="3251160"/>
            <a:ext cx="101520" cy="4114800"/>
          </a:xfrm>
          <a:custGeom>
            <a:avLst/>
            <a:gdLst>
              <a:gd name="textAreaLeft" fmla="*/ 64800 w 101520"/>
              <a:gd name="textAreaRight" fmla="*/ 101880 w 101520"/>
              <a:gd name="textAreaTop" fmla="*/ 20880 h 4114800"/>
              <a:gd name="textAreaBottom" fmla="*/ 40939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43"/>
          <p:cNvSpPr/>
          <p:nvPr/>
        </p:nvSpPr>
        <p:spPr>
          <a:xfrm rot="16200000">
            <a:off x="1290600" y="5025600"/>
            <a:ext cx="136440" cy="609480"/>
          </a:xfrm>
          <a:custGeom>
            <a:avLst/>
            <a:gdLst>
              <a:gd name="textAreaLeft" fmla="*/ 87120 w 136440"/>
              <a:gd name="textAreaRight" fmla="*/ 136800 w 136440"/>
              <a:gd name="textAreaTop" fmla="*/ 28440 h 609480"/>
              <a:gd name="textAreaBottom" fmla="*/ 5810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1"/>
                  <a:pt x="10800" y="3221"/>
                </a:cubicBezTo>
                <a:lnTo>
                  <a:pt x="10800" y="7579"/>
                </a:lnTo>
                <a:cubicBezTo>
                  <a:pt x="10800" y="9190"/>
                  <a:pt x="5400" y="10800"/>
                  <a:pt x="0" y="10800"/>
                </a:cubicBezTo>
                <a:cubicBezTo>
                  <a:pt x="5400" y="10800"/>
                  <a:pt x="10800" y="12411"/>
                  <a:pt x="10800" y="14021"/>
                </a:cubicBezTo>
                <a:lnTo>
                  <a:pt x="10800" y="18379"/>
                </a:lnTo>
                <a:cubicBezTo>
                  <a:pt x="10800" y="199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2F316AB8-23B4-4AB3-96D8-24702FF19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matic gain contr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rier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clock recove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equal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de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1277E818-A37C-45C9-BD76-554BEADB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impairme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and nonlinear distortion of transmit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noise (often assumed to be 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smatch in transmitter/receiver analog front en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3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subsystems to compensate for impairme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gain control (AG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no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d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disto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mism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mism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clock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B82DABDA-8C3C-4AB4-A1D7-F1A8BD06C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19200" y="4724280"/>
            <a:ext cx="68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76600" y="4724280"/>
            <a:ext cx="68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505320" y="55627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629400" y="41911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629400" y="565308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276800" y="3962520"/>
            <a:ext cx="676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23960" y="40384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1762200" y="4876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5867280" y="4191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5867280" y="5653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3796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1305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1430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3352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5181480" y="4343400"/>
            <a:ext cx="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518148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181480" y="5805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62485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6248520" y="58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7391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1520" y="580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199044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9908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320976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89556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3886200" y="419112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5"/>
          <p:cNvSpPr/>
          <p:nvPr/>
        </p:nvSpPr>
        <p:spPr>
          <a:xfrm flipV="1">
            <a:off x="6059520" y="603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12600" y="4608360"/>
            <a:ext cx="61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1268280" y="460044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4"/>
          <p:cNvSpPr/>
          <p:nvPr/>
        </p:nvSpPr>
        <p:spPr>
          <a:xfrm>
            <a:off x="2133720" y="461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5"/>
          <p:cNvSpPr/>
          <p:nvPr/>
        </p:nvSpPr>
        <p:spPr>
          <a:xfrm>
            <a:off x="3314880" y="464832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8"/>
          <p:cNvSpPr/>
          <p:nvPr/>
        </p:nvSpPr>
        <p:spPr>
          <a:xfrm>
            <a:off x="1838160" y="49118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9"/>
          <p:cNvSpPr/>
          <p:nvPr/>
        </p:nvSpPr>
        <p:spPr>
          <a:xfrm flipH="1">
            <a:off x="1837800" y="49118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4191120" y="47242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1"/>
          <p:cNvSpPr/>
          <p:nvPr/>
        </p:nvSpPr>
        <p:spPr>
          <a:xfrm>
            <a:off x="49528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52"/>
          <p:cNvSpPr/>
          <p:nvPr/>
        </p:nvSpPr>
        <p:spPr>
          <a:xfrm flipH="1">
            <a:off x="30481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3"/>
          <p:cNvSpPr/>
          <p:nvPr/>
        </p:nvSpPr>
        <p:spPr>
          <a:xfrm flipV="1">
            <a:off x="3048120" y="5333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4"/>
          <p:cNvSpPr/>
          <p:nvPr/>
        </p:nvSpPr>
        <p:spPr>
          <a:xfrm>
            <a:off x="7848720" y="419112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7988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6"/>
          <p:cNvSpPr/>
          <p:nvPr/>
        </p:nvSpPr>
        <p:spPr>
          <a:xfrm>
            <a:off x="83818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8"/>
          <p:cNvSpPr/>
          <p:nvPr/>
        </p:nvSpPr>
        <p:spPr>
          <a:xfrm>
            <a:off x="7848720" y="565308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>
            <a:off x="7988400" y="57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0"/>
          <p:cNvSpPr/>
          <p:nvPr/>
        </p:nvSpPr>
        <p:spPr>
          <a:xfrm>
            <a:off x="8381880" y="580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28600" y="2971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amples/symbol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index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855960" y="4984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2"/>
          <p:cNvSpPr/>
          <p:nvPr/>
        </p:nvSpPr>
        <p:spPr>
          <a:xfrm>
            <a:off x="5181480" y="3824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M De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1828800" y="38098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6059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3"/>
          <p:cNvSpPr/>
          <p:nvPr/>
        </p:nvSpPr>
        <p:spPr>
          <a:xfrm>
            <a:off x="5334120" y="487692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4"/>
          <p:cNvSpPr/>
          <p:nvPr/>
        </p:nvSpPr>
        <p:spPr>
          <a:xfrm>
            <a:off x="5334120" y="633564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 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5"/>
          <p:cNvSpPr/>
          <p:nvPr/>
        </p:nvSpPr>
        <p:spPr>
          <a:xfrm>
            <a:off x="3862440" y="4154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66"/>
          <p:cNvSpPr/>
          <p:nvPr/>
        </p:nvSpPr>
        <p:spPr>
          <a:xfrm>
            <a:off x="5145120" y="4992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7632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715000" y="161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957400" y="16128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422800" y="13082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1"/>
          <p:cNvSpPr/>
          <p:nvPr/>
        </p:nvSpPr>
        <p:spPr>
          <a:xfrm>
            <a:off x="4672080" y="13842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2"/>
          <p:cNvSpPr/>
          <p:nvPr/>
        </p:nvSpPr>
        <p:spPr>
          <a:xfrm>
            <a:off x="3452760" y="13842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214880" y="161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3681360" y="1536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396200" y="163188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36"/>
          <p:cNvSpPr/>
          <p:nvPr/>
        </p:nvSpPr>
        <p:spPr>
          <a:xfrm>
            <a:off x="6186600" y="136512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6262560" y="14414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6262200" y="14414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6472080" y="187920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40"/>
          <p:cNvSpPr/>
          <p:nvPr/>
        </p:nvSpPr>
        <p:spPr>
          <a:xfrm>
            <a:off x="7129440" y="21621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638680" y="190512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5735520" y="32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2959200" y="32432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354040" y="306072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5"/>
          <p:cNvSpPr/>
          <p:nvPr/>
        </p:nvSpPr>
        <p:spPr>
          <a:xfrm>
            <a:off x="4692600" y="30146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6"/>
          <p:cNvSpPr/>
          <p:nvPr/>
        </p:nvSpPr>
        <p:spPr>
          <a:xfrm>
            <a:off x="3473280" y="301464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235400" y="32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48"/>
          <p:cNvSpPr/>
          <p:nvPr/>
        </p:nvSpPr>
        <p:spPr>
          <a:xfrm>
            <a:off x="6207120" y="29955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283440" y="30718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H="1">
            <a:off x="6283440" y="30718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5638680" y="220968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>
            <a:off x="7386480" y="267984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1"/>
          <p:cNvSpPr/>
          <p:nvPr/>
        </p:nvSpPr>
        <p:spPr>
          <a:xfrm>
            <a:off x="6743880" y="1620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7670880" y="2438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6"/>
          <p:cNvSpPr/>
          <p:nvPr/>
        </p:nvSpPr>
        <p:spPr>
          <a:xfrm>
            <a:off x="819000" y="207000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374760" y="245124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5"/>
          <p:cNvSpPr/>
          <p:nvPr/>
        </p:nvSpPr>
        <p:spPr>
          <a:xfrm flipV="1">
            <a:off x="507960" y="2374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489960" y="2470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7"/>
          <p:cNvSpPr/>
          <p:nvPr/>
        </p:nvSpPr>
        <p:spPr>
          <a:xfrm>
            <a:off x="228600" y="1917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1"/>
          <p:cNvSpPr/>
          <p:nvPr/>
        </p:nvSpPr>
        <p:spPr>
          <a:xfrm>
            <a:off x="2266920" y="212724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1771560" y="24321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V="1">
            <a:off x="1886040" y="23554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1892520" y="24321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 flipV="1">
            <a:off x="2952720" y="27432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952720" y="1619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5"/>
          <p:cNvSpPr/>
          <p:nvPr/>
        </p:nvSpPr>
        <p:spPr>
          <a:xfrm>
            <a:off x="7135920" y="1860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6"/>
          <p:cNvSpPr/>
          <p:nvPr/>
        </p:nvSpPr>
        <p:spPr>
          <a:xfrm>
            <a:off x="7040520" y="19558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7015320" y="2844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4394160" y="2133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1"/>
          <p:cNvSpPr/>
          <p:nvPr/>
        </p:nvSpPr>
        <p:spPr>
          <a:xfrm flipV="1">
            <a:off x="6472080" y="273024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1542960" y="1689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7494120" y="180504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3713040" y="3137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6742080" y="32637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8"/>
          <p:cNvSpPr/>
          <p:nvPr/>
        </p:nvSpPr>
        <p:spPr>
          <a:xfrm>
            <a:off x="7924680" y="2209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8542440" y="24382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8580240" y="20066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23"/>
          <p:cNvSpPr/>
          <p:nvPr/>
        </p:nvSpPr>
        <p:spPr>
          <a:xfrm>
            <a:off x="228600" y="1168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126"/>
          <p:cNvCxnSpPr>
            <a:endCxn id="194" idx="2"/>
          </p:cNvCxnSpPr>
          <p:nvPr/>
        </p:nvCxnSpPr>
        <p:spPr>
          <a:xfrm flipV="1">
            <a:off x="8229240" y="27424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27"/>
          <p:cNvSpPr/>
          <p:nvPr/>
        </p:nvSpPr>
        <p:spPr>
          <a:xfrm>
            <a:off x="7848720" y="3048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3"/>
          <p:cNvSpPr/>
          <p:nvPr/>
        </p:nvSpPr>
        <p:spPr>
          <a:xfrm>
            <a:off x="304920" y="57913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rier recovery is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15"/>
              <p:cNvSpPr txBox="1"/>
              <p:nvPr/>
            </p:nvSpPr>
            <p:spPr>
              <a:xfrm>
                <a:off x="7402680" y="3863880"/>
                <a:ext cx="457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6"/>
              <p:cNvSpPr txBox="1"/>
              <p:nvPr/>
            </p:nvSpPr>
            <p:spPr>
              <a:xfrm>
                <a:off x="7380360" y="5356080"/>
                <a:ext cx="495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7"/>
              <p:cNvSpPr txBox="1"/>
              <p:nvPr/>
            </p:nvSpPr>
            <p:spPr>
              <a:xfrm>
                <a:off x="8400960" y="3863880"/>
                <a:ext cx="4190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8"/>
              <p:cNvSpPr txBox="1"/>
              <p:nvPr/>
            </p:nvSpPr>
            <p:spPr>
              <a:xfrm>
                <a:off x="8372520" y="5356080"/>
                <a:ext cx="438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6"/>
          <p:cNvSpPr/>
          <p:nvPr/>
        </p:nvSpPr>
        <p:spPr>
          <a:xfrm>
            <a:off x="5693400" y="1143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717520" y="281952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tomatic Gain Control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ales input voltage to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gain for low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gain for high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A/D converter with 8-bit signed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zero, A/D output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nfinity, A/D output is -128 or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how frequently outputs -128, 0 and 127 occur over a window of previous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equency value is between 0 and 1, in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1 +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valu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/ 256.  Zero also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228CEC67-D2BF-494E-B687-868CA250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6019920" y="1523880"/>
            <a:ext cx="2755800" cy="1219320"/>
            <a:chOff x="6019920" y="1523880"/>
            <a:chExt cx="2755800" cy="1219320"/>
          </a:xfrm>
        </p:grpSpPr>
        <p:sp>
          <p:nvSpPr>
            <p:cNvPr id="211" name="AutoShape 3"/>
            <p:cNvSpPr/>
            <p:nvPr/>
          </p:nvSpPr>
          <p:spPr>
            <a:xfrm>
              <a:off x="6019920" y="1523880"/>
              <a:ext cx="2755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7442640" y="2361960"/>
              <a:ext cx="685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404480" y="1676160"/>
              <a:ext cx="685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6"/>
            <p:cNvSpPr/>
            <p:nvPr/>
          </p:nvSpPr>
          <p:spPr>
            <a:xfrm>
              <a:off x="6529320" y="2361960"/>
              <a:ext cx="3805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6071400" y="2514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6910200" y="2514600"/>
              <a:ext cx="53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8118360" y="251460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719400" y="182880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6719400" y="182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8090280" y="1828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19920" y="2205360"/>
              <a:ext cx="523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6900120" y="2209680"/>
              <a:ext cx="466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8080920" y="2209680"/>
              <a:ext cx="61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6605280" y="2396880"/>
              <a:ext cx="227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6604920" y="2396880"/>
              <a:ext cx="227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895800" y="1523880"/>
              <a:ext cx="465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8775720" y="1828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5F670E48-8C21-4D5D-BA95-1E6BADD94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rrier Dete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ct energy of received signal (always running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stant where 0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receiv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.  What is the transfer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receiver is not currently receiving a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ergy detector output is larger than a large threshold, assume receiving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receiver is currently receiving signal, then it detects when transmission has stopp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ergy detector output is smaller than a smaller threshold, assume transmission has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24"/>
              <p:cNvSpPr txBox="1"/>
              <p:nvPr/>
            </p:nvSpPr>
            <p:spPr>
              <a:xfrm>
                <a:off x="961920" y="1828800"/>
                <a:ext cx="4021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CF95CE90-3C1D-43A9-92F9-1CE0098E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single-pole bandpass filters in parall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uned to upper Nyquist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uned to lower Nyquist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(100 Hz for 2400 baud mod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recovery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upper bandpass filter output with conjugate of lower bandpass filter output and take the imaginar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t symbol rate to estimate timing err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iming error estimate to compute phase adv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52"/>
              <p:cNvSpPr txBox="1"/>
              <p:nvPr/>
            </p:nvSpPr>
            <p:spPr>
              <a:xfrm>
                <a:off x="1219320" y="5029200"/>
                <a:ext cx="3201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53"/>
              <p:cNvSpPr txBox="1"/>
              <p:nvPr/>
            </p:nvSpPr>
            <p:spPr>
              <a:xfrm>
                <a:off x="5486400" y="4984920"/>
                <a:ext cx="1523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τ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Text Box 2054"/>
          <p:cNvSpPr/>
          <p:nvPr/>
        </p:nvSpPr>
        <p:spPr>
          <a:xfrm>
            <a:off x="4491360" y="5029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057"/>
              <p:cNvSpPr txBox="1"/>
              <p:nvPr/>
            </p:nvSpPr>
            <p:spPr>
              <a:xfrm>
                <a:off x="1219320" y="5907240"/>
                <a:ext cx="32004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Text Box 2058"/>
          <p:cNvSpPr/>
          <p:nvPr/>
        </p:nvSpPr>
        <p:spPr>
          <a:xfrm>
            <a:off x="5257800" y="5867280"/>
            <a:ext cx="1371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 II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61"/>
          <p:cNvSpPr/>
          <p:nvPr/>
        </p:nvSpPr>
        <p:spPr>
          <a:xfrm>
            <a:off x="7467480" y="29113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lo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062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Reader hando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tigates linear distortion in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placed after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rtens channel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quency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ensates channel distortion over entire discrete-time frequency band instead of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deal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e of del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g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mpulse delay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mplit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pass and linear phase (no distor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effects by discar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and scaling by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8757CD4E-E14F-46B1-9A0D-BD2C5846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 flipV="1">
            <a:off x="4943520" y="429012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5514840" y="4017960"/>
            <a:ext cx="914400" cy="5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6418440" y="4285440"/>
            <a:ext cx="636480" cy="360"/>
          </a:xfrm>
          <a:prstGeom prst="line">
            <a:avLst/>
          </a:prstGeom>
          <a:noFill/>
          <a:ln w="6480">
            <a:solidFill>
              <a:srgbClr val="00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9"/>
          <p:cNvSpPr/>
          <p:nvPr/>
        </p:nvSpPr>
        <p:spPr>
          <a:xfrm rot="5400000">
            <a:off x="7106760" y="3859200"/>
            <a:ext cx="808200" cy="8622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7112160" y="3976560"/>
            <a:ext cx="49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1"/>
          <p:cNvSpPr/>
          <p:nvPr/>
        </p:nvSpPr>
        <p:spPr>
          <a:xfrm>
            <a:off x="7089840" y="3886560"/>
            <a:ext cx="863640" cy="394560"/>
          </a:xfrm>
          <a:prstGeom prst="line">
            <a:avLst/>
          </a:prstGeom>
          <a:ln w="114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2"/>
          <p:cNvSpPr/>
          <p:nvPr/>
        </p:nvSpPr>
        <p:spPr>
          <a:xfrm flipV="1">
            <a:off x="7894800" y="4295160"/>
            <a:ext cx="4111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equaliz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err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equaliz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 equalizer coefficients when transmitter sends training sequence to reduce measure of error, e.g. squa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0EB1C29B-BE24-4653-B087-A9C878CF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6"/>
          <p:cNvGrpSpPr/>
          <p:nvPr/>
        </p:nvGrpSpPr>
        <p:grpSpPr>
          <a:xfrm>
            <a:off x="3809880" y="1611360"/>
            <a:ext cx="5261040" cy="3265560"/>
            <a:chOff x="3809880" y="1611360"/>
            <a:chExt cx="5261040" cy="3265560"/>
          </a:xfrm>
        </p:grpSpPr>
        <p:sp>
          <p:nvSpPr>
            <p:cNvPr id="256" name="Text Box 34"/>
            <p:cNvSpPr/>
            <p:nvPr/>
          </p:nvSpPr>
          <p:spPr>
            <a:xfrm>
              <a:off x="4343040" y="1611360"/>
              <a:ext cx="441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iscrete-Time Baseband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 flipV="1">
              <a:off x="4992480" y="4473000"/>
              <a:ext cx="5760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5564160" y="4200840"/>
              <a:ext cx="914400" cy="54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 flipV="1">
              <a:off x="6467400" y="4468320"/>
              <a:ext cx="63648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>
              <a:off x="4433760" y="2936880"/>
              <a:ext cx="609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5045040" y="2662200"/>
              <a:ext cx="914400" cy="547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5959440" y="2936880"/>
              <a:ext cx="312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12"/>
            <p:cNvSpPr/>
            <p:nvPr/>
          </p:nvSpPr>
          <p:spPr>
            <a:xfrm>
              <a:off x="6165720" y="2725920"/>
              <a:ext cx="365040" cy="36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6530760" y="2932200"/>
              <a:ext cx="3283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6862680" y="2657520"/>
              <a:ext cx="91440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7775640" y="2930400"/>
              <a:ext cx="434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 flipH="1">
              <a:off x="6360840" y="2421000"/>
              <a:ext cx="2880" cy="3189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8062920" y="3040200"/>
              <a:ext cx="4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330440" y="22842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508440" y="227304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8618760" y="2325600"/>
              <a:ext cx="452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7935840" y="230184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210360" y="190152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8215200" y="2747880"/>
              <a:ext cx="365040" cy="36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 flipV="1">
              <a:off x="8561520" y="2914560"/>
              <a:ext cx="312480" cy="158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6"/>
            <p:cNvSpPr/>
            <p:nvPr/>
          </p:nvSpPr>
          <p:spPr>
            <a:xfrm>
              <a:off x="8393040" y="3094200"/>
              <a:ext cx="33120" cy="137484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6872400" y="2133360"/>
              <a:ext cx="123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Equali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8"/>
            <p:cNvSpPr/>
            <p:nvPr/>
          </p:nvSpPr>
          <p:spPr>
            <a:xfrm>
              <a:off x="4865400" y="2117520"/>
              <a:ext cx="12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29"/>
            <p:cNvSpPr/>
            <p:nvPr/>
          </p:nvSpPr>
          <p:spPr>
            <a:xfrm rot="5400000">
              <a:off x="7156440" y="4042080"/>
              <a:ext cx="807840" cy="8618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30"/>
            <p:cNvSpPr/>
            <p:nvPr/>
          </p:nvSpPr>
          <p:spPr>
            <a:xfrm>
              <a:off x="7161120" y="4159440"/>
              <a:ext cx="492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1"/>
            <p:cNvSpPr/>
            <p:nvPr/>
          </p:nvSpPr>
          <p:spPr>
            <a:xfrm>
              <a:off x="7138800" y="4069440"/>
              <a:ext cx="863640" cy="394560"/>
            </a:xfrm>
            <a:prstGeom prst="line">
              <a:avLst/>
            </a:prstGeom>
            <a:ln w="114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32"/>
            <p:cNvSpPr/>
            <p:nvPr/>
          </p:nvSpPr>
          <p:spPr>
            <a:xfrm flipV="1">
              <a:off x="7943760" y="4478040"/>
              <a:ext cx="4111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3"/>
            <p:cNvSpPr/>
            <p:nvPr/>
          </p:nvSpPr>
          <p:spPr>
            <a:xfrm>
              <a:off x="5730840" y="3683160"/>
              <a:ext cx="198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deal 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37"/>
            <p:cNvSpPr/>
            <p:nvPr/>
          </p:nvSpPr>
          <p:spPr>
            <a:xfrm>
              <a:off x="7900920" y="2878200"/>
              <a:ext cx="4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9"/>
            <p:cNvSpPr/>
            <p:nvPr/>
          </p:nvSpPr>
          <p:spPr>
            <a:xfrm>
              <a:off x="4254120" y="3748320"/>
              <a:ext cx="130788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eiver generates</a:t>
              </a:r>
              <a:br>
                <a:rPr sz="20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40"/>
            <p:cNvSpPr/>
            <p:nvPr/>
          </p:nvSpPr>
          <p:spPr>
            <a:xfrm>
              <a:off x="3809880" y="2994120"/>
              <a:ext cx="1104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ining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17:49Z</dcterms:modified>
  <cp:revision>432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