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FC3-0802-4DCB-AE7E-4D355A6F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6C3-BB27-4806-B43E-9A825744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F2F-E59A-4C11-B928-D1863A4E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D412-0EDA-4289-A670-DB8282CD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6916-E47C-450F-A2E7-F6879031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E0BB-264F-4BFD-9A26-F4E9E82A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F61E-213A-4525-8C85-54E4F0AB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AB79-642B-4E50-A26F-A11E6D3C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894E-79A3-4514-AC79-68D961D4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FC85-FC81-44D4-B1F0-12CEFBB0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9C0C-779D-4B53-A919-503AC77C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442-4EB6-46CF-B2F9-C932227C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BB4B-6ACA-4D75-9615-CC7D69F7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C433-F96F-439C-A49B-90511A02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E04B-E73B-4E7D-8725-A55FEF91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F79C-5D72-4738-9533-446A6D82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533B-93F2-4716-8EE9-BC918747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267-3B3B-400E-8244-2AF32E2D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2D1-CC80-4B73-9FB6-C5B7030F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CD5-402A-4632-BC02-99F3E6DF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7D1-EEAB-42F6-AE80-69F1275B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815-E385-4766-B38C-91C8A9B0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4EE-D947-4354-979B-4367E03A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0E2-C786-46CF-A55F-C52C4587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fld id="{3416706D-1CEC-4A26-8D9F-97F0BC4AD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8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CDA392E-973F-4484-89BD-B9F3827D6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ast Fourier Transfor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fld id="{C3916E0F-3D54-4ACC-8E93-06ADD4520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Fourier Transfor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ward transform of discrete-time signal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s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is two-sided and infinite in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at is periodic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 units of rad/sample) with period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 to exponential ter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verse discrete-time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transfor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asic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form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ai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028"/>
              <p:cNvSpPr txBox="1"/>
              <p:nvPr/>
            </p:nvSpPr>
            <p:spPr>
              <a:xfrm>
                <a:off x="3159000" y="1871640"/>
                <a:ext cx="29797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29"/>
              <p:cNvSpPr txBox="1"/>
              <p:nvPr/>
            </p:nvSpPr>
            <p:spPr>
              <a:xfrm>
                <a:off x="4927680" y="3886200"/>
                <a:ext cx="3454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n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031"/>
              <p:cNvSpPr txBox="1"/>
              <p:nvPr/>
            </p:nvSpPr>
            <p:spPr>
              <a:xfrm>
                <a:off x="4952880" y="4952880"/>
                <a:ext cx="3429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034"/>
              <p:cNvSpPr txBox="1"/>
              <p:nvPr/>
            </p:nvSpPr>
            <p:spPr>
              <a:xfrm>
                <a:off x="3505320" y="5410080"/>
                <a:ext cx="49528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fld id="{44327EFB-6CA4-4571-BB7A-470F57D64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 Fourier Transform (DFT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rete Fourier transform (DFT) of a discrete-time signal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with finite exten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[0,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1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periodic with peri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e to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assum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periodic with peri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verse discrete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transfor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iddle facto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914400" y="2362320"/>
                <a:ext cx="48006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Text Box 5"/>
          <p:cNvSpPr/>
          <p:nvPr/>
        </p:nvSpPr>
        <p:spPr>
          <a:xfrm>
            <a:off x="6020280" y="2603520"/>
            <a:ext cx="25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, 1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4146480" y="4572000"/>
                <a:ext cx="31687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7"/>
              <p:cNvSpPr txBox="1"/>
              <p:nvPr/>
            </p:nvSpPr>
            <p:spPr>
              <a:xfrm>
                <a:off x="3352680" y="5443560"/>
                <a:ext cx="49532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00" name="Group 10"/>
          <p:cNvGrpSpPr/>
          <p:nvPr/>
        </p:nvGrpSpPr>
        <p:grpSpPr>
          <a:xfrm>
            <a:off x="6781680" y="3124080"/>
            <a:ext cx="2286000" cy="1326240"/>
            <a:chOff x="6781680" y="3124080"/>
            <a:chExt cx="2286000" cy="1326240"/>
          </a:xfrm>
        </p:grpSpPr>
        <p:sp>
          <p:nvSpPr>
            <p:cNvPr id="101" name="Text Box 11"/>
            <p:cNvSpPr/>
            <p:nvPr/>
          </p:nvSpPr>
          <p:spPr>
            <a:xfrm>
              <a:off x="6781680" y="3124080"/>
              <a:ext cx="2286000" cy="1326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wo-Point D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12"/>
                <p:cNvSpPr txBox="1"/>
                <p:nvPr/>
              </p:nvSpPr>
              <p:spPr>
                <a:xfrm>
                  <a:off x="6781680" y="3504960"/>
                  <a:ext cx="22860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Object 13"/>
                <p:cNvSpPr txBox="1"/>
                <p:nvPr/>
              </p:nvSpPr>
              <p:spPr>
                <a:xfrm>
                  <a:off x="6781680" y="3962160"/>
                  <a:ext cx="22338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fld id="{E5006008-F2B3-4A29-826C-EA1DA4B13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 Fourier Transform (con’t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76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Forward transform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 1, …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 of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perio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Memory usage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 words of 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 words of 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 words of 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Halve memory usage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output arr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to write over input arr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oit twiddle factors 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648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Computation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82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 multi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1) complex ad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ger multi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ulo indexes into lookup table of twiddle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Inverse transform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82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 1, …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usa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complex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914400" y="1776240"/>
                <a:ext cx="25146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2"/>
              <p:cNvSpPr txBox="1"/>
              <p:nvPr/>
            </p:nvSpPr>
            <p:spPr>
              <a:xfrm>
                <a:off x="5346720" y="4113360"/>
                <a:ext cx="2413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fld id="{293A28C5-AD45-4030-95CE-1F7AC3FD5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ast Fourier Transform Algorithm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munication system application: multicarrier modulation using harmonically related carri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 multitone modulation in ADSL &amp; VDSL mod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in IEEE 802.11a/g Wi-Fi and cellular 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fficient divide-and-conquer algorith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discrete Fourier transform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½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multiplications and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real complex multiplications and addi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rivation: Assum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even and power of two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1600200" y="5562720"/>
                <a:ext cx="5943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ven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dd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fld id="{D0B05404-378F-423E-81E9-945F11633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ast Fourier Transform (cont’d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ubstitute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2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even and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2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+1 for od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sing the proper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FT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&gt; two FFTs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process until two-point FFTs re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complexity of two-point F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3886200" y="3451320"/>
                <a:ext cx="3441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l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l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8" name="Group 11"/>
          <p:cNvGrpSpPr/>
          <p:nvPr/>
        </p:nvGrpSpPr>
        <p:grpSpPr>
          <a:xfrm>
            <a:off x="984240" y="4119480"/>
            <a:ext cx="7016760" cy="757440"/>
            <a:chOff x="984240" y="4119480"/>
            <a:chExt cx="7016760" cy="757440"/>
          </a:xfrm>
        </p:grpSpPr>
        <mc:AlternateContent>
          <mc:Choice xmlns:a14="http://schemas.microsoft.com/office/drawing/2010/main" Requires="a14">
            <p:sp>
              <p:nvSpPr>
                <p:cNvPr id="119" name="Object 5"/>
                <p:cNvSpPr txBox="1"/>
                <p:nvPr/>
              </p:nvSpPr>
              <p:spPr>
                <a:xfrm>
                  <a:off x="984240" y="4119480"/>
                  <a:ext cx="486720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2</m:t>
                          </m:r>
                          <m:r>
                            <m:t xml:space="preserve">r</m:t>
                          </m:r>
                          <m:r>
                            <m:t xml:space="preserve">]</m:t>
                          </m:r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rk</m:t>
                              </m:r>
                            </m:sup>
                          </m:sSubSup>
                        </m:e>
                      </m:nary>
                      <m:r>
                        <m:t xml:space="preserve">+</m:t>
                      </m:r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  <m:nary>
                        <m:naryPr>
                          <m:chr m:val="∑"/>
                        </m:naryPr>
                        <m:sub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2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]</m:t>
                          </m:r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rk</m:t>
                              </m:r>
                            </m:sup>
                          </m:sSub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6"/>
                <p:cNvSpPr txBox="1"/>
                <p:nvPr/>
              </p:nvSpPr>
              <p:spPr>
                <a:xfrm>
                  <a:off x="5878440" y="4260960"/>
                  <a:ext cx="212256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Object 9"/>
              <p:cNvSpPr txBox="1"/>
              <p:nvPr/>
            </p:nvSpPr>
            <p:spPr>
              <a:xfrm>
                <a:off x="1476360" y="1873080"/>
                <a:ext cx="51260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k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0"/>
              <p:cNvSpPr txBox="1"/>
              <p:nvPr/>
            </p:nvSpPr>
            <p:spPr>
              <a:xfrm>
                <a:off x="2114640" y="2695680"/>
                <a:ext cx="48956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23" name="Group 19"/>
          <p:cNvGrpSpPr/>
          <p:nvPr/>
        </p:nvGrpSpPr>
        <p:grpSpPr>
          <a:xfrm>
            <a:off x="6781680" y="4876920"/>
            <a:ext cx="2286000" cy="1326240"/>
            <a:chOff x="6781680" y="4876920"/>
            <a:chExt cx="2286000" cy="1326240"/>
          </a:xfrm>
        </p:grpSpPr>
        <p:sp>
          <p:nvSpPr>
            <p:cNvPr id="124" name="Text Box 17"/>
            <p:cNvSpPr/>
            <p:nvPr/>
          </p:nvSpPr>
          <p:spPr>
            <a:xfrm>
              <a:off x="6781680" y="4876920"/>
              <a:ext cx="2286000" cy="1326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wo-Point F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15"/>
                <p:cNvSpPr txBox="1"/>
                <p:nvPr/>
              </p:nvSpPr>
              <p:spPr>
                <a:xfrm>
                  <a:off x="6781680" y="5257800"/>
                  <a:ext cx="22860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Object 16"/>
                <p:cNvSpPr txBox="1"/>
                <p:nvPr/>
              </p:nvSpPr>
              <p:spPr>
                <a:xfrm>
                  <a:off x="6781680" y="5715000"/>
                  <a:ext cx="22338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fld id="{C9B27805-032C-4CD3-99E9-FE194DEFE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inear Convolution by FF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inear convolu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has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has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has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inear convolution require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al-valued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multiplications and 2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+ 2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h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 1 words of memor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inear convolution by FFT of length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h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 1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pa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to make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forward DFTs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ob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: may overwri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inverse DFT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to ob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is fixed, then precompute and stor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6248520" y="1676520"/>
                <a:ext cx="25146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fld id="{5E551BC9-05A8-48E6-B8D5-66E872686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inear Convolution by FF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lementation complexity using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length FF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lex multiplications and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lex words of memory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overwri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FT approach requires fewer computations if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advantages of FFT approach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twice the memory: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words vs.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requires floating-point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dela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 to buff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as linear convolution is computed sample-by-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discontinuities at boundaries of blocks of input data: use overlapping blocks and wind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914400" y="3200400"/>
                <a:ext cx="4952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Text Box 7"/>
          <p:cNvSpPr/>
          <p:nvPr/>
        </p:nvSpPr>
        <p:spPr>
          <a:xfrm>
            <a:off x="6400800" y="4495680"/>
            <a:ext cx="25146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T under fixed-point arithmet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9:01Z</cp:lastPrinted>
  <dcterms:modified xsi:type="dcterms:W3CDTF">2014-01-06T17:20:35Z</dcterms:modified>
  <cp:revision>400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8_Convolu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