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16B9-0480-4AB2-AA47-00A7907AA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305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8983-A003-407B-A722-1531EBCD7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3480" y="387540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450C-F2CB-4474-B4C5-C308D19DD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5920" y="144756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4280" y="144756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5920" y="387540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4280" y="387540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71A0-4B6F-46A1-95AB-9931B954E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13EBA-8EE3-4230-8068-9CA6B659B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B0572-B006-4769-9586-72E832B03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8DB82-9279-4551-A476-5B92B5181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0053A-4975-495E-BF93-D8E2433F0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2B8D3-3BEC-4708-8E07-9E4099F41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38282-7E9F-4D25-BAAB-C05AF7994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3B41E-6936-4830-B1F9-1936CB22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1B30-5F1D-47A9-917B-D88636E84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13480" y="387540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1DFB4-410B-4EED-A3FF-1DF0E8EB5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305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7AA4E-ABE3-411A-B6E9-B5D2BEDD2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305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099B1-A9E2-4241-A888-BBB37C1A4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13480" y="387540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ACDC5-09B1-438A-8548-57ECF918F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65920" y="144756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4280" y="144756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65920" y="387540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4280" y="387540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219BF-3765-4C48-8121-EAC34B3F8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B150-927F-4D2A-8F89-F48724904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8ED9-9EEE-4991-92A7-5253B9B1F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BE27-A3EF-44CE-B30F-2D1E47CB5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04D2-5F0F-4A6A-8A85-543B0A531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153E-6C26-4CDE-9AD5-36D1D9307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3480" y="387540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585C-4E6A-4125-AF8E-062D707B0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305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43AC-2F3F-4055-8E2E-5A2C777E8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66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 - </a:t>
            </a:r>
            <a:fld id="{DFA43762-4974-496A-B1F4-76C4DFAC15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8640" y="1904760"/>
            <a:ext cx="8226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E6CC8A3A-D56C-4E0E-AF7B-0A0D37675D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8640" y="3429000"/>
            <a:ext cx="8226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Prof. Brian L. Ev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ept. of Electrical and Computer Engine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he University of Texas at Aust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6858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E445S Real-Time Digital Signal Processing Lab    Fall 2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594360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cc"/>
                </a:solidFill>
                <a:latin typeface="Times New Roman"/>
              </a:rPr>
              <a:t>Lecture 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51"/>
              </a:spcBef>
              <a:buClr>
                <a:srgbClr val="6600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Third Outline Level</a:t>
            </a:r>
            <a:endParaRPr b="1" lang="en-US" sz="1800" spc="-1" strike="noStrike">
              <a:solidFill>
                <a:srgbClr val="6600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8640" y="1904760"/>
            <a:ext cx="8226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Analog Sinusoidal Modulation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Amplitude Modulated (AM) Radio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R</a:t>
            </a:r>
            <a:r>
              <a:rPr b="1" i="1" lang="en-US" sz="2800" spc="-1" strike="noStrike" baseline="-25000">
                <a:solidFill>
                  <a:srgbClr val="cc00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be source resistance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harging time constant (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R</a:t>
            </a:r>
            <a:r>
              <a:rPr b="1" i="1" lang="en-US" sz="2800" spc="-1" strike="noStrike" baseline="-25000">
                <a:solidFill>
                  <a:srgbClr val="cc00cc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R</a:t>
            </a:r>
            <a:r>
              <a:rPr b="1" i="1" lang="en-US" sz="2800" spc="-1" strike="noStrike" baseline="-25000">
                <a:solidFill>
                  <a:srgbClr val="cc00cc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)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must be short when compared to 1/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f</a:t>
            </a:r>
            <a:r>
              <a:rPr b="1" i="1" lang="en-US" sz="2800" spc="-1" strike="noStrike" baseline="-25000">
                <a:solidFill>
                  <a:srgbClr val="cc00cc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, so (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R</a:t>
            </a:r>
            <a:r>
              <a:rPr b="1" i="1" lang="en-US" sz="2800" spc="-1" strike="noStrike" baseline="-25000">
                <a:solidFill>
                  <a:srgbClr val="cc00cc"/>
                </a:solidFill>
                <a:latin typeface="Times New Roman"/>
              </a:rPr>
              <a:t>f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+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R</a:t>
            </a:r>
            <a:r>
              <a:rPr b="1" i="1" lang="en-US" sz="2800" spc="-1" strike="noStrike" baseline="-25000">
                <a:solidFill>
                  <a:srgbClr val="cc00cc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)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&lt;&lt; 1/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f</a:t>
            </a:r>
            <a:r>
              <a:rPr b="1" i="1" lang="en-US" sz="2800" spc="-1" strike="noStrike" baseline="-25000">
                <a:solidFill>
                  <a:srgbClr val="cc00cc"/>
                </a:solidFill>
                <a:latin typeface="Times New Roman"/>
              </a:rPr>
              <a:t>c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ischarging time constant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R</a:t>
            </a:r>
            <a:r>
              <a:rPr b="1" i="1" lang="en-US" sz="2800" spc="-1" strike="noStrike" baseline="-25000">
                <a:solidFill>
                  <a:srgbClr val="cc00cc"/>
                </a:solidFill>
                <a:latin typeface="Times New Roman"/>
              </a:rPr>
              <a:t>l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C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ng enough so that capacitor discharges slowly through load resist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ween positive peaks of carrier w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so long that capacitor voltage will not discharge at max rate of change of modulating wave 1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&lt; 1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7823-F202-4031-891E-D36C422D399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Quadrature Amplitude Modulation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llows DSB-SC signals to occupy same channel bandwidth provided that the two message signals are from independent source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wo message signals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cc00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) and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cc00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) are sent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in-phase componen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quadrature componen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898560" y="2819520"/>
                <a:ext cx="71946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π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π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1630440" y="3352680"/>
                <a:ext cx="374976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π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θ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914400" y="3946680"/>
                <a:ext cx="320040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4952880" y="3807000"/>
                <a:ext cx="3353040" cy="106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cta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4B2C-4485-46D2-8A7A-5784ED907A3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Other Amplitude Modulation Types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ouble sideband suppressed carrier (DSB-SC)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ouble sideband variable carrier (DSB-VC)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ingle sideband (SSB) removes either lower sideband or upper sideband by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ly sharp bandpass or highpass filter, 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se shifters using Hilbert transformer (slides 15-7 to 15-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2819520" y="1981080"/>
                <a:ext cx="380988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π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1676520" y="2971800"/>
                <a:ext cx="61642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π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π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EEF0-7243-4FB6-9EE5-00266C74585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Frequency Modulated (FM) Radio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Message signal: analog audio signa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ransmitter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al processing: lowpass filter to reject above 15 k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rier circuits: sinusoidal modulatation from baseband to FM station frequency (often in two modulation step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Receiver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rier circuits: sinusoidal demodulation from FM station frequency to baseband (often in two demodulation step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al processing: lowpass filter to reject above 15 k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152280" y="5181480"/>
            <a:ext cx="8991720" cy="1373760"/>
            <a:chOff x="152280" y="5181480"/>
            <a:chExt cx="8991720" cy="1373760"/>
          </a:xfrm>
        </p:grpSpPr>
        <p:sp>
          <p:nvSpPr>
            <p:cNvPr id="306" name=""/>
            <p:cNvSpPr/>
            <p:nvPr/>
          </p:nvSpPr>
          <p:spPr>
            <a:xfrm>
              <a:off x="380880" y="5638680"/>
              <a:ext cx="304920" cy="0"/>
            </a:xfrm>
            <a:prstGeom prst="line">
              <a:avLst/>
            </a:prstGeom>
            <a:ln w="19080">
              <a:solidFill>
                <a:srgbClr val="ff01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85800" y="5318280"/>
              <a:ext cx="1371600" cy="703800"/>
            </a:xfrm>
            <a:prstGeom prst="rect">
              <a:avLst/>
            </a:prstGeom>
            <a:noFill/>
            <a:ln w="1908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00ff"/>
                  </a:solidFill>
                  <a:latin typeface="Times New Roman"/>
                </a:rPr>
                <a:t>Signal</a:t>
              </a:r>
              <a:br>
                <a:rPr sz="2000"/>
              </a:br>
              <a:r>
                <a:rPr b="1" lang="en-US" sz="2000" spc="-1" strike="noStrike">
                  <a:solidFill>
                    <a:srgbClr val="6600ff"/>
                  </a:solidFill>
                  <a:latin typeface="Times New Roman"/>
                </a:rPr>
                <a:t>Process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057400" y="5654520"/>
              <a:ext cx="304920" cy="0"/>
            </a:xfrm>
            <a:prstGeom prst="line">
              <a:avLst/>
            </a:prstGeom>
            <a:ln w="19080">
              <a:solidFill>
                <a:srgbClr val="66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362320" y="5334120"/>
              <a:ext cx="1143000" cy="703800"/>
            </a:xfrm>
            <a:prstGeom prst="rect">
              <a:avLst/>
            </a:prstGeom>
            <a:noFill/>
            <a:ln w="1908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00ff"/>
                  </a:solidFill>
                  <a:latin typeface="Times New Roman"/>
                </a:rPr>
                <a:t>Carrier</a:t>
              </a:r>
              <a:br>
                <a:rPr sz="2000"/>
              </a:br>
              <a:r>
                <a:rPr b="1" lang="en-US" sz="2000" spc="-1" strike="noStrike">
                  <a:solidFill>
                    <a:srgbClr val="6600ff"/>
                  </a:solidFill>
                  <a:latin typeface="Times New Roman"/>
                </a:rPr>
                <a:t>Circui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505320" y="5654520"/>
              <a:ext cx="304560" cy="0"/>
            </a:xfrm>
            <a:prstGeom prst="line">
              <a:avLst/>
            </a:prstGeom>
            <a:ln w="19080">
              <a:solidFill>
                <a:srgbClr val="ff01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809880" y="5334120"/>
              <a:ext cx="1676520" cy="703800"/>
            </a:xfrm>
            <a:prstGeom prst="rect">
              <a:avLst/>
            </a:prstGeom>
            <a:noFill/>
            <a:ln w="19080">
              <a:solidFill>
                <a:srgbClr val="ff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101"/>
                  </a:solidFill>
                  <a:latin typeface="Times New Roman"/>
                </a:rPr>
                <a:t>Transmission Medi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486400" y="5654520"/>
              <a:ext cx="304920" cy="0"/>
            </a:xfrm>
            <a:prstGeom prst="line">
              <a:avLst/>
            </a:prstGeom>
            <a:ln w="19080">
              <a:solidFill>
                <a:srgbClr val="ff01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791320" y="5334120"/>
              <a:ext cx="1143000" cy="703800"/>
            </a:xfrm>
            <a:prstGeom prst="rect">
              <a:avLst/>
            </a:prstGeom>
            <a:noFill/>
            <a:ln w="1908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cc"/>
                  </a:solidFill>
                  <a:latin typeface="Times New Roman"/>
                </a:rPr>
                <a:t>Carrier Circui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934320" y="5654520"/>
              <a:ext cx="304560" cy="0"/>
            </a:xfrm>
            <a:prstGeom prst="line">
              <a:avLst/>
            </a:prstGeom>
            <a:ln w="1908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238880" y="5334120"/>
              <a:ext cx="1371600" cy="703800"/>
            </a:xfrm>
            <a:prstGeom prst="rect">
              <a:avLst/>
            </a:prstGeom>
            <a:noFill/>
            <a:ln w="1908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cc"/>
                  </a:solidFill>
                  <a:latin typeface="Times New Roman"/>
                </a:rPr>
                <a:t>Signal</a:t>
              </a:r>
              <a:br>
                <a:rPr sz="2000"/>
              </a:br>
              <a:r>
                <a:rPr b="1" lang="en-US" sz="2000" spc="-1" strike="noStrike">
                  <a:solidFill>
                    <a:srgbClr val="cc00cc"/>
                  </a:solidFill>
                  <a:latin typeface="Times New Roman"/>
                </a:rPr>
                <a:t>Process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610480" y="5638680"/>
              <a:ext cx="304920" cy="0"/>
            </a:xfrm>
            <a:prstGeom prst="line">
              <a:avLst/>
            </a:prstGeom>
            <a:ln w="19080">
              <a:solidFill>
                <a:srgbClr val="ff01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33520" y="5181480"/>
              <a:ext cx="3047760" cy="990720"/>
            </a:xfrm>
            <a:prstGeom prst="rect">
              <a:avLst/>
            </a:prstGeom>
            <a:noFill/>
            <a:ln w="19080">
              <a:solidFill>
                <a:srgbClr val="66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990720" y="6156360"/>
              <a:ext cx="236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00ff"/>
                  </a:solidFill>
                  <a:latin typeface="Times New Roman"/>
                </a:rPr>
                <a:t>TRANSMIT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867280" y="6156360"/>
              <a:ext cx="236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cc"/>
                  </a:solidFill>
                  <a:latin typeface="Times New Roman"/>
                </a:rPr>
                <a:t>RECEI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562720" y="5181480"/>
              <a:ext cx="3124080" cy="990720"/>
            </a:xfrm>
            <a:prstGeom prst="rect">
              <a:avLst/>
            </a:prstGeom>
            <a:noFill/>
            <a:ln w="19080">
              <a:solidFill>
                <a:srgbClr val="cc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429000" y="606420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334120" y="614052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3" name=""/>
                <p:cNvSpPr txBox="1"/>
                <p:nvPr/>
              </p:nvSpPr>
              <p:spPr>
                <a:xfrm>
                  <a:off x="8686800" y="5791320"/>
                  <a:ext cx="457200" cy="29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m</m:t>
                          </m:r>
                        </m:e>
                      </m:acc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24" name=""/>
            <p:cNvSpPr/>
            <p:nvPr/>
          </p:nvSpPr>
          <p:spPr>
            <a:xfrm>
              <a:off x="3505320" y="6156360"/>
              <a:ext cx="236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101"/>
                  </a:solidFill>
                  <a:latin typeface="Times New Roman"/>
                </a:rPr>
                <a:t>CHANN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5" name=""/>
                <p:cNvSpPr txBox="1"/>
                <p:nvPr/>
              </p:nvSpPr>
              <p:spPr>
                <a:xfrm>
                  <a:off x="152280" y="5715000"/>
                  <a:ext cx="42876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8238-E7C3-490C-BB5F-85A40D8B268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Frequency Modulation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Non-linear, time-varying, has memory, non-causa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or single tone message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) =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cc00cc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cos(2 </a:t>
            </a:r>
            <a:r>
              <a:rPr b="1" lang="en-US" sz="2800" spc="-1" strike="noStrike">
                <a:solidFill>
                  <a:srgbClr val="cc00cc"/>
                </a:solidFill>
                <a:latin typeface="Symbol"/>
                <a:ea typeface="Symbol"/>
              </a:rPr>
              <a:t>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f</a:t>
            </a:r>
            <a:r>
              <a:rPr b="1" i="1" lang="en-US" sz="2800" spc="-1" strike="noStrike" baseline="-25000">
                <a:solidFill>
                  <a:srgbClr val="cc00cc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Modulation index is </a:t>
            </a:r>
            <a:r>
              <a:rPr b="1" i="1" lang="en-US" sz="2800" spc="-1" strike="noStrike">
                <a:solidFill>
                  <a:srgbClr val="cc00cc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cc00cc"/>
                </a:solidFill>
                <a:latin typeface="Symbol"/>
                <a:ea typeface="Symbol"/>
              </a:rPr>
              <a:t>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/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f</a:t>
            </a:r>
            <a:r>
              <a:rPr b="1" i="1" lang="en-US" sz="2800" spc="-1" strike="noStrike" baseline="-25000">
                <a:solidFill>
                  <a:srgbClr val="cc00cc"/>
                </a:solidFill>
                <a:latin typeface="Times New Roman"/>
              </a:rPr>
              <a:t>m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&lt; 1  =&gt;  Narrowband FM (looks like double-sideband 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&gt; 1  =&gt;  Broadband F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907920" y="1828800"/>
                <a:ext cx="7093080" cy="10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900000" y="3282840"/>
                <a:ext cx="748188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Δf</m:t>
                        </m:r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π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where  </m:t>
                    </m:r>
                    <m:r>
                      <m:t xml:space="preserve">Δf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838080" y="4197240"/>
                <a:ext cx="574704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Δf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π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1" name=""/>
          <p:cNvSpPr/>
          <p:nvPr/>
        </p:nvSpPr>
        <p:spPr>
          <a:xfrm>
            <a:off x="7010280" y="4273560"/>
            <a:ext cx="1905120" cy="825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taneous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8F20-17A2-44EA-BA2F-9215F140498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arson's Rule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Bandwidth of FM for single-tone message at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f</a:t>
            </a:r>
            <a:r>
              <a:rPr b="1" i="1" lang="en-US" sz="2800" spc="-1" strike="noStrike" baseline="-25000">
                <a:solidFill>
                  <a:srgbClr val="cc00cc"/>
                </a:solidFill>
                <a:latin typeface="Times New Roman"/>
              </a:rPr>
              <a:t>m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rrowba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eband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arson’s rule for single-tone FM: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or message signal of bandwidth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W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, let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f</a:t>
            </a:r>
            <a:r>
              <a:rPr b="1" i="1" lang="en-US" sz="2800" spc="-1" strike="noStrike" baseline="-25000">
                <a:solidFill>
                  <a:srgbClr val="cc00cc"/>
                </a:solidFill>
                <a:latin typeface="Times New Roman"/>
              </a:rPr>
              <a:t>m</a:t>
            </a:r>
            <a:r>
              <a:rPr b="1" lang="en-US" sz="2800" spc="-1" strike="noStrike" baseline="-25000">
                <a:solidFill>
                  <a:srgbClr val="cc00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=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W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3048120" y="2016000"/>
                <a:ext cx="130788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3060720" y="2455920"/>
                <a:ext cx="135900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Δ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6248520" y="2911320"/>
                <a:ext cx="220968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β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37" name=""/>
          <p:cNvGraphicFramePr/>
          <p:nvPr/>
        </p:nvGraphicFramePr>
        <p:xfrm>
          <a:off x="914400" y="3502080"/>
          <a:ext cx="7391520" cy="2288880"/>
        </p:xfrm>
        <a:graphic>
          <a:graphicData uri="http://schemas.openxmlformats.org/drawingml/2006/table">
            <a:tbl>
              <a:tblPr/>
              <a:tblGrid>
                <a:gridCol w="781200"/>
                <a:gridCol w="3598560"/>
                <a:gridCol w="1575000"/>
                <a:gridCol w="14367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00cc"/>
                          </a:solidFill>
                          <a:latin typeface="Times New Roman"/>
                        </a:rPr>
                        <a:t>FM Rad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00cc"/>
                          </a:solidFill>
                          <a:latin typeface="Times New Roman"/>
                        </a:rPr>
                        <a:t>TV Aud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00cc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i="1" lang="en-US" sz="2000" spc="-1" strike="noStrike">
                          <a:solidFill>
                            <a:srgbClr val="cc00cc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cc00cc"/>
                          </a:solidFill>
                          <a:latin typeface="Times New Roman"/>
                        </a:rPr>
                        <a:t>f</a:t>
                      </a:r>
                      <a:r>
                        <a:rPr b="1" i="1" lang="en-US" sz="2000" spc="-1" strike="noStrike" baseline="-25000">
                          <a:solidFill>
                            <a:srgbClr val="cc00cc"/>
                          </a:solidFill>
                          <a:latin typeface="Times New Roman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cc00cc"/>
                          </a:solidFill>
                          <a:latin typeface="Symbol"/>
                          <a:ea typeface="Symbol"/>
                        </a:rPr>
                        <a:t>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00cc"/>
                          </a:solidFill>
                          <a:latin typeface="Times New Roman"/>
                        </a:rPr>
                        <a:t>Peak freq. deviation (</a:t>
                      </a:r>
                      <a:r>
                        <a:rPr b="1" lang="en-US" sz="2000" spc="-1" strike="noStrike">
                          <a:solidFill>
                            <a:srgbClr val="cc00cc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i="1" lang="en-US" sz="2000" spc="-1" strike="noStrike">
                          <a:solidFill>
                            <a:srgbClr val="cc00cc"/>
                          </a:solidFill>
                          <a:latin typeface="Times New Roman"/>
                        </a:rPr>
                        <a:t>F</a:t>
                      </a:r>
                      <a:r>
                        <a:rPr b="1" lang="en-US" sz="2000" spc="-1" strike="noStrike">
                          <a:solidFill>
                            <a:srgbClr val="cc00cc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00cc"/>
                          </a:solidFill>
                          <a:latin typeface="Times New Roman"/>
                        </a:rPr>
                        <a:t>Peak message freq. (</a:t>
                      </a:r>
                      <a:r>
                        <a:rPr b="1" i="1" lang="en-US" sz="2000" spc="-1" strike="noStrike">
                          <a:solidFill>
                            <a:srgbClr val="cc00cc"/>
                          </a:solidFill>
                          <a:latin typeface="Times New Roman"/>
                        </a:rPr>
                        <a:t>W</a:t>
                      </a:r>
                      <a:r>
                        <a:rPr b="1" lang="en-US" sz="2000" spc="-1" strike="noStrike">
                          <a:solidFill>
                            <a:srgbClr val="cc00cc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00cc"/>
                          </a:solidFill>
                          <a:latin typeface="Times New Roman"/>
                        </a:rPr>
                        <a:t>Deviation ratio (</a:t>
                      </a:r>
                      <a:r>
                        <a:rPr b="1" i="1" lang="en-US" sz="2000" spc="-1" strike="noStrike">
                          <a:solidFill>
                            <a:srgbClr val="cc00cc"/>
                          </a:solidFill>
                          <a:latin typeface="Times New Roman"/>
                        </a:rPr>
                        <a:t>D</a:t>
                      </a:r>
                      <a:r>
                        <a:rPr b="1" lang="en-US" sz="2000" spc="-1" strike="noStrike">
                          <a:solidFill>
                            <a:srgbClr val="cc00cc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00cc"/>
                          </a:solidFill>
                          <a:latin typeface="Times New Roman"/>
                        </a:rPr>
                        <a:t>Bandwidth </a:t>
                      </a:r>
                      <a:r>
                        <a:rPr b="1" i="1" lang="en-US" sz="2000" spc="-1" strike="noStrike">
                          <a:solidFill>
                            <a:srgbClr val="cc00cc"/>
                          </a:solidFill>
                          <a:latin typeface="Times New Roman"/>
                        </a:rPr>
                        <a:t>B</a:t>
                      </a:r>
                      <a:r>
                        <a:rPr b="1" i="1" lang="en-US" sz="2000" spc="-1" strike="noStrike" baseline="-25000">
                          <a:solidFill>
                            <a:srgbClr val="cc00cc"/>
                          </a:solidFill>
                          <a:latin typeface="Times New Roman"/>
                        </a:rPr>
                        <a:t>T</a:t>
                      </a:r>
                      <a:r>
                        <a:rPr b="1" lang="en-US" sz="2000" spc="-1" strike="noStrike">
                          <a:solidFill>
                            <a:srgbClr val="cc00cc"/>
                          </a:solidFill>
                          <a:latin typeface="Times New Roman"/>
                        </a:rPr>
                        <a:t> = 2 </a:t>
                      </a:r>
                      <a:r>
                        <a:rPr b="1" i="1" lang="en-US" sz="2000" spc="-1" strike="noStrike">
                          <a:solidFill>
                            <a:srgbClr val="cc00cc"/>
                          </a:solidFill>
                          <a:latin typeface="Times New Roman"/>
                        </a:rPr>
                        <a:t>f</a:t>
                      </a:r>
                      <a:r>
                        <a:rPr b="1" i="1" lang="en-US" sz="2000" spc="-1" strike="noStrike" baseline="-25000">
                          <a:solidFill>
                            <a:srgbClr val="cc00cc"/>
                          </a:solidFill>
                          <a:latin typeface="Times New Roman"/>
                        </a:rPr>
                        <a:t>m</a:t>
                      </a:r>
                      <a:r>
                        <a:rPr b="1" lang="en-US" sz="2000" spc="-1" strike="noStrike">
                          <a:solidFill>
                            <a:srgbClr val="cc00cc"/>
                          </a:solidFill>
                          <a:latin typeface="Times New Roman"/>
                        </a:rPr>
                        <a:t> (1+</a:t>
                      </a:r>
                      <a:r>
                        <a:rPr b="1" lang="en-US" sz="2000" spc="-1" strike="noStrike">
                          <a:solidFill>
                            <a:srgbClr val="cc00cc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000" spc="-1" strike="noStrike">
                          <a:solidFill>
                            <a:srgbClr val="cc00cc"/>
                          </a:solidFill>
                          <a:latin typeface="Times New Roman"/>
                        </a:rPr>
                        <a:t> 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00cc"/>
                          </a:solidFill>
                          <a:latin typeface="Times New Roman"/>
                        </a:rPr>
                        <a:t>Station Spac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00cc"/>
                          </a:solidFill>
                          <a:latin typeface="Times New Roman"/>
                        </a:rPr>
                        <a:t>75 k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00cc"/>
                          </a:solidFill>
                          <a:latin typeface="Times New Roman"/>
                        </a:rPr>
                        <a:t>15 k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00cc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00cc"/>
                          </a:solidFill>
                          <a:latin typeface="Times New Roman"/>
                        </a:rPr>
                        <a:t>180 k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00cc"/>
                          </a:solidFill>
                          <a:latin typeface="Times New Roman"/>
                        </a:rPr>
                        <a:t>200 k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00cc"/>
                          </a:solidFill>
                          <a:latin typeface="Times New Roman"/>
                        </a:rPr>
                        <a:t>25 k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00cc"/>
                          </a:solidFill>
                          <a:latin typeface="Times New Roman"/>
                        </a:rPr>
                        <a:t>15 k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00cc"/>
                          </a:solidFill>
                          <a:latin typeface="Times New Roman"/>
                        </a:rPr>
                        <a:t>1.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00cc"/>
                          </a:solidFill>
                          <a:latin typeface="Times New Roman"/>
                        </a:rPr>
                        <a:t>80 k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00cc"/>
                          </a:solidFill>
                          <a:latin typeface="Times New Roman"/>
                        </a:rPr>
                        <a:t>6 M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E714-0DFB-454B-9047-4733A683E69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onclusion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mplitude modulatio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gital and analog versions may be used in sam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og amplitude modulation is one method for upcon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1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ouble sideband amplitude modulatio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mission bandwidth is twice message bandwidth (wastefu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1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Quadrature amplitude modulatio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cosine and sine to modulate two different message signals and subtracts resulting wave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messages in same transmission bandwidth (effic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75B9-D2A4-4B9A-A122-2355679595A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Outline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Introductio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2449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mplitude sinusoidal modulatio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uble-sideband large carr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drature amplitude mod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amplitude modulation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449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requency modulatio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2449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onclusio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D374-4E90-4666-BE78-6843AC9626F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Example: Radio Frequency Modem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Message signal:  stream of bit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igital sinusoidal modulation in digital signaling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nalog sinusoidal modulation in carrier circuits for upconversion to radio frequencies (RF)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4232160"/>
            <a:ext cx="304560" cy="0"/>
          </a:xfrm>
          <a:prstGeom prst="line">
            <a:avLst/>
          </a:prstGeom>
          <a:ln w="19080">
            <a:solidFill>
              <a:srgbClr val="66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38080" y="3851280"/>
            <a:ext cx="1447920" cy="703800"/>
          </a:xfrm>
          <a:prstGeom prst="rect">
            <a:avLst/>
          </a:prstGeom>
          <a:noFill/>
          <a:ln w="1908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ff"/>
                </a:solidFill>
                <a:latin typeface="Times New Roman"/>
              </a:rPr>
              <a:t>Error Cor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0" y="4232160"/>
            <a:ext cx="304920" cy="0"/>
          </a:xfrm>
          <a:prstGeom prst="line">
            <a:avLst/>
          </a:prstGeom>
          <a:ln w="19080">
            <a:solidFill>
              <a:srgbClr val="66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851280"/>
            <a:ext cx="1676160" cy="703800"/>
          </a:xfrm>
          <a:prstGeom prst="rect">
            <a:avLst/>
          </a:prstGeom>
          <a:noFill/>
          <a:ln w="1908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ff"/>
                </a:solidFill>
                <a:latin typeface="Times New Roman"/>
              </a:rPr>
              <a:t>Digital Signa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267080" y="4232160"/>
            <a:ext cx="304920" cy="0"/>
          </a:xfrm>
          <a:prstGeom prst="line">
            <a:avLst/>
          </a:prstGeom>
          <a:ln w="19080">
            <a:solidFill>
              <a:srgbClr val="66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72000" y="3892680"/>
            <a:ext cx="1371600" cy="703800"/>
          </a:xfrm>
          <a:prstGeom prst="rect">
            <a:avLst/>
          </a:prstGeom>
          <a:noFill/>
          <a:ln w="1908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ff"/>
                </a:solidFill>
                <a:latin typeface="Times New Roman"/>
              </a:rPr>
              <a:t>D/A Conver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43600" y="4232160"/>
            <a:ext cx="304920" cy="0"/>
          </a:xfrm>
          <a:prstGeom prst="line">
            <a:avLst/>
          </a:prstGeom>
          <a:ln w="19080">
            <a:solidFill>
              <a:srgbClr val="66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3505320"/>
            <a:ext cx="6324480" cy="144756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5638680"/>
            <a:ext cx="304920" cy="0"/>
          </a:xfrm>
          <a:prstGeom prst="line">
            <a:avLst/>
          </a:prstGeom>
          <a:ln w="19080">
            <a:solidFill>
              <a:srgbClr val="ff01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5318280"/>
            <a:ext cx="1371600" cy="703800"/>
          </a:xfrm>
          <a:prstGeom prst="rect">
            <a:avLst/>
          </a:prstGeom>
          <a:noFill/>
          <a:ln w="1908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ff"/>
                </a:solidFill>
                <a:latin typeface="Times New Roman"/>
              </a:rPr>
              <a:t>Signal</a:t>
            </a:r>
            <a:br>
              <a:rPr sz="2000"/>
            </a:br>
            <a:r>
              <a:rPr b="1" lang="en-US" sz="2000" spc="-1" strike="noStrike">
                <a:solidFill>
                  <a:srgbClr val="6600ff"/>
                </a:solidFill>
                <a:latin typeface="Times New Roman"/>
              </a:rPr>
              <a:t>Proc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57400" y="5654520"/>
            <a:ext cx="304920" cy="0"/>
          </a:xfrm>
          <a:prstGeom prst="line">
            <a:avLst/>
          </a:prstGeom>
          <a:ln w="19080">
            <a:solidFill>
              <a:srgbClr val="66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62320" y="5334120"/>
            <a:ext cx="1143000" cy="703800"/>
          </a:xfrm>
          <a:prstGeom prst="rect">
            <a:avLst/>
          </a:prstGeom>
          <a:noFill/>
          <a:ln w="1908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ff"/>
                </a:solidFill>
                <a:latin typeface="Times New Roman"/>
              </a:rPr>
              <a:t>Carrier</a:t>
            </a:r>
            <a:br>
              <a:rPr sz="2000"/>
            </a:br>
            <a:r>
              <a:rPr b="1" lang="en-US" sz="2000" spc="-1" strike="noStrike">
                <a:solidFill>
                  <a:srgbClr val="6600ff"/>
                </a:solidFill>
                <a:latin typeface="Times New Roman"/>
              </a:rPr>
              <a:t>Circu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5654520"/>
            <a:ext cx="304560" cy="0"/>
          </a:xfrm>
          <a:prstGeom prst="line">
            <a:avLst/>
          </a:prstGeom>
          <a:ln w="19080">
            <a:solidFill>
              <a:srgbClr val="ff01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5334120"/>
            <a:ext cx="1676520" cy="703800"/>
          </a:xfrm>
          <a:prstGeom prst="rect">
            <a:avLst/>
          </a:prstGeom>
          <a:noFill/>
          <a:ln w="19080">
            <a:solidFill>
              <a:srgbClr val="ff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101"/>
                </a:solidFill>
                <a:latin typeface="Times New Roman"/>
              </a:rPr>
              <a:t>Transmission 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486400" y="5654520"/>
            <a:ext cx="304920" cy="0"/>
          </a:xfrm>
          <a:prstGeom prst="line">
            <a:avLst/>
          </a:prstGeom>
          <a:ln w="19080">
            <a:solidFill>
              <a:srgbClr val="ff01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91320" y="5334120"/>
            <a:ext cx="1143000" cy="703800"/>
          </a:xfrm>
          <a:prstGeom prst="rect">
            <a:avLst/>
          </a:prstGeom>
          <a:noFill/>
          <a:ln w="1908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Times New Roman"/>
              </a:rPr>
              <a:t>Carrier Circu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934320" y="5654520"/>
            <a:ext cx="304560" cy="0"/>
          </a:xfrm>
          <a:prstGeom prst="line">
            <a:avLst/>
          </a:prstGeom>
          <a:ln w="1908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238880" y="5334120"/>
            <a:ext cx="1371600" cy="703800"/>
          </a:xfrm>
          <a:prstGeom prst="rect">
            <a:avLst/>
          </a:prstGeom>
          <a:noFill/>
          <a:ln w="1908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Times New Roman"/>
              </a:rPr>
              <a:t>Signal</a:t>
            </a:r>
            <a:br>
              <a:rPr sz="2000"/>
            </a:br>
            <a:r>
              <a:rPr b="1" lang="en-US" sz="2000" spc="-1" strike="noStrike">
                <a:solidFill>
                  <a:srgbClr val="cc00cc"/>
                </a:solidFill>
                <a:latin typeface="Times New Roman"/>
              </a:rPr>
              <a:t>Proc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610480" y="5638680"/>
            <a:ext cx="304920" cy="0"/>
          </a:xfrm>
          <a:prstGeom prst="line">
            <a:avLst/>
          </a:prstGeom>
          <a:ln w="19080">
            <a:solidFill>
              <a:srgbClr val="ff01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3520" y="5181480"/>
            <a:ext cx="3047760" cy="990720"/>
          </a:xfrm>
          <a:prstGeom prst="rect">
            <a:avLst/>
          </a:prstGeom>
          <a:noFill/>
          <a:ln w="19080">
            <a:solidFill>
              <a:srgbClr val="66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90720" y="615636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ff"/>
                </a:solidFill>
                <a:latin typeface="Times New Roman"/>
              </a:rPr>
              <a:t>TRANSMIT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615636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Times New Roman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562720" y="5181480"/>
            <a:ext cx="3124080" cy="990720"/>
          </a:xfrm>
          <a:prstGeom prst="rect">
            <a:avLst/>
          </a:prstGeom>
          <a:noFill/>
          <a:ln w="19080">
            <a:solidFill>
              <a:srgbClr val="cc00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29000" y="60642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4120" y="61405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8686800" y="5737320"/>
                <a:ext cx="45720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[</m:t>
                    </m:r>
                    <m:r>
                      <m:t xml:space="preserve">k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3505320" y="615636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101"/>
                </a:solidFill>
                <a:latin typeface="Times New Roman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76320" y="5715000"/>
                <a:ext cx="45720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[</m:t>
                    </m:r>
                    <m:r>
                      <m:t xml:space="preserve">k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228600" y="434340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2057400" y="4647960"/>
            <a:ext cx="396252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D91C-ED5A-4C8D-BF64-7786056A321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Modulation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ome characteristic of a carrier signal is varied in accordance with a modulating signa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or amplitude, frequency, and phase modulation, modulated signals can be expressed a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real-valued amplitud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carrier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real-valued phas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ee Modulation handout (Appendix I)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941400" y="3479760"/>
                <a:ext cx="37004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π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θ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A00A-F55C-42A9-B9D3-B21F768590A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Amplitude Modulation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76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By cosine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2449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ourier property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24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pectrum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cc00cc"/>
                </a:solidFill>
                <a:latin typeface="Symbol"/>
                <a:ea typeface="Symbol"/>
              </a:rPr>
              <a:t>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) i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ifted left b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scaled by ½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ifted right b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scaled by 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86480" y="1447560"/>
            <a:ext cx="4076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By sine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2449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ourier property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24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pectrum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cc00cc"/>
                </a:solidFill>
                <a:latin typeface="Symbol"/>
                <a:ea typeface="Symbol"/>
              </a:rPr>
              <a:t>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) i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ifted left b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scal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ifted right b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scaled by –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911160" y="1981080"/>
                <a:ext cx="3573360" cy="15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e>
                        </m:d>
                      </m:e>
                      <m:e>
                        <m:r>
                          <m:t xml:space="preserve">Y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  <m:r>
                          <m:t xml:space="preserve">∗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δ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ω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δ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ω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118120" y="1981080"/>
                <a:ext cx="3709800" cy="15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e>
                        </m:d>
                      </m:e>
                      <m:e>
                        <m:r>
                          <m:t xml:space="preserve">Y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  <m:r>
                          <m:t xml:space="preserve">∗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  <m:r>
                          <m:t xml:space="preserve">j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δ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ω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δ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ω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893880" y="4014720"/>
                <a:ext cx="372888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5160960" y="4014720"/>
                <a:ext cx="373212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j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d>
                    <m:r>
                      <m:t xml:space="preserve">−</m:t>
                    </m:r>
                    <m:f>
                      <m:num>
                        <m:r>
                          <m:t xml:space="preserve">j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A585-B89B-463E-B9D7-CB0041BFCE9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Amplitude Modulation by Cosine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Example: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cos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an ideal lowpass signal with bandwidt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real-valued 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real-val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emodulation: modulation then lowpass filtering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imilar derivation for modulation with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685800" y="3048120"/>
            <a:ext cx="2362320" cy="1624680"/>
            <a:chOff x="685800" y="3048120"/>
            <a:chExt cx="2362320" cy="1624680"/>
          </a:xfrm>
        </p:grpSpPr>
        <p:sp>
          <p:nvSpPr>
            <p:cNvPr id="133" name=""/>
            <p:cNvSpPr/>
            <p:nvPr/>
          </p:nvSpPr>
          <p:spPr>
            <a:xfrm>
              <a:off x="2590920" y="41148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85800" y="426708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1600200" y="342900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066680" y="3657600"/>
              <a:ext cx="1067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133720" y="365760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066680" y="365760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447920" y="428148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00200" y="32767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05120" y="426708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2120" y="426708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62120" y="30481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009960" y="3048120"/>
            <a:ext cx="5676840" cy="1853640"/>
            <a:chOff x="3009960" y="3048120"/>
            <a:chExt cx="5676840" cy="1853640"/>
          </a:xfrm>
        </p:grpSpPr>
        <p:sp>
          <p:nvSpPr>
            <p:cNvPr id="145" name=""/>
            <p:cNvSpPr/>
            <p:nvPr/>
          </p:nvSpPr>
          <p:spPr>
            <a:xfrm>
              <a:off x="3124440" y="4267440"/>
              <a:ext cx="5181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382240" y="4114800"/>
              <a:ext cx="3045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5753160" y="350496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600880" y="4343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372280" y="30481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677200" y="36576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791320" y="3505320"/>
              <a:ext cx="50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½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009960" y="4267440"/>
              <a:ext cx="1028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-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3657600"/>
              <a:ext cx="1067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724640" y="365760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657600" y="365760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267440" y="4267440"/>
              <a:ext cx="1104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+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91120" y="41911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886200" y="4496040"/>
              <a:ext cx="648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134400" y="4267440"/>
              <a:ext cx="952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-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705720" y="3657600"/>
              <a:ext cx="1066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772400" y="365760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705720" y="365760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315200" y="4267440"/>
              <a:ext cx="1028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+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239240" y="41911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934320" y="4496040"/>
              <a:ext cx="723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404040" y="3202200"/>
              <a:ext cx="1625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½F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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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389400" y="3198960"/>
              <a:ext cx="157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½F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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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4114800" y="2438280"/>
            <a:ext cx="3352680" cy="1828800"/>
            <a:chOff x="4114800" y="2438280"/>
            <a:chExt cx="3352680" cy="1828800"/>
          </a:xfrm>
        </p:grpSpPr>
        <p:sp>
          <p:nvSpPr>
            <p:cNvPr id="169" name=""/>
            <p:cNvSpPr/>
            <p:nvPr/>
          </p:nvSpPr>
          <p:spPr>
            <a:xfrm>
              <a:off x="4191120" y="3657600"/>
              <a:ext cx="533160" cy="6094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705720" y="3657600"/>
              <a:ext cx="533160" cy="6094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114800" y="243828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ff"/>
                  </a:solidFill>
                  <a:latin typeface="Times New Roman"/>
                </a:rPr>
                <a:t>lower sideband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6324480" y="2895480"/>
              <a:ext cx="609840" cy="990720"/>
              <a:chOff x="6324480" y="2895480"/>
              <a:chExt cx="609840" cy="990720"/>
            </a:xfrm>
          </p:grpSpPr>
          <p:sp>
            <p:nvSpPr>
              <p:cNvPr id="173" name=""/>
              <p:cNvSpPr/>
              <p:nvPr/>
            </p:nvSpPr>
            <p:spPr>
              <a:xfrm flipH="1" flipV="1">
                <a:off x="6324480" y="3352680"/>
                <a:ext cx="609840" cy="533520"/>
              </a:xfrm>
              <a:prstGeom prst="line">
                <a:avLst/>
              </a:prstGeom>
              <a:ln w="28440">
                <a:solidFill>
                  <a:srgbClr val="6600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V="1">
                <a:off x="6324480" y="2895480"/>
                <a:ext cx="0" cy="457200"/>
              </a:xfrm>
              <a:prstGeom prst="line">
                <a:avLst/>
              </a:prstGeom>
              <a:ln w="2844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495680" y="2895480"/>
              <a:ext cx="609840" cy="990720"/>
              <a:chOff x="4495680" y="2895480"/>
              <a:chExt cx="609840" cy="990720"/>
            </a:xfrm>
          </p:grpSpPr>
          <p:sp>
            <p:nvSpPr>
              <p:cNvPr id="176" name=""/>
              <p:cNvSpPr/>
              <p:nvPr/>
            </p:nvSpPr>
            <p:spPr>
              <a:xfrm flipV="1">
                <a:off x="4495680" y="3352680"/>
                <a:ext cx="609840" cy="533520"/>
              </a:xfrm>
              <a:prstGeom prst="line">
                <a:avLst/>
              </a:prstGeom>
              <a:ln w="28440">
                <a:solidFill>
                  <a:srgbClr val="6600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V="1">
                <a:off x="5105520" y="2895480"/>
                <a:ext cx="0" cy="457200"/>
              </a:xfrm>
              <a:prstGeom prst="line">
                <a:avLst/>
              </a:prstGeom>
              <a:ln w="2844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129D-DAF5-4A71-9A7C-2971C506E9C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6934320" y="4495680"/>
            <a:ext cx="533160" cy="6098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19720" y="3886200"/>
            <a:ext cx="53316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Amplitude Modulation by Sine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Exampl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sin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an ideal lowpass signal with bandwidt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imaginary-valued 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real-val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349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emodulation: modulation then lowpass filtering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252960" y="3276720"/>
            <a:ext cx="5849280" cy="1980720"/>
            <a:chOff x="3252960" y="3276720"/>
            <a:chExt cx="5849280" cy="1980720"/>
          </a:xfrm>
        </p:grpSpPr>
        <p:sp>
          <p:nvSpPr>
            <p:cNvPr id="183" name=""/>
            <p:cNvSpPr/>
            <p:nvPr/>
          </p:nvSpPr>
          <p:spPr>
            <a:xfrm>
              <a:off x="3367080" y="4495680"/>
              <a:ext cx="518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648640" y="4326120"/>
              <a:ext cx="453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5995800" y="373392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614920" y="3276720"/>
              <a:ext cx="83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919840" y="388620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033960" y="3733920"/>
              <a:ext cx="50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 ½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252960" y="4495680"/>
              <a:ext cx="1028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-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900240" y="3886200"/>
              <a:ext cx="106668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967280" y="388620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900240" y="388620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510080" y="4495680"/>
              <a:ext cx="1104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+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433760" y="44197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128840" y="4724280"/>
              <a:ext cx="647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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377040" y="4140360"/>
              <a:ext cx="951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-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948360" y="5092920"/>
              <a:ext cx="10663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015040" y="448308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948360" y="448308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557840" y="4140360"/>
              <a:ext cx="1028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+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481880" y="444492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151760" y="3936960"/>
              <a:ext cx="723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646680" y="3430800"/>
              <a:ext cx="1625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-j ½F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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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632040" y="3427560"/>
              <a:ext cx="1577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j ½F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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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5995800" y="449532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100560" y="4888080"/>
              <a:ext cx="75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-j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 ½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919840" y="507996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838080" y="3276720"/>
            <a:ext cx="2362320" cy="1624680"/>
            <a:chOff x="838080" y="3276720"/>
            <a:chExt cx="2362320" cy="1624680"/>
          </a:xfrm>
        </p:grpSpPr>
        <p:sp>
          <p:nvSpPr>
            <p:cNvPr id="209" name=""/>
            <p:cNvSpPr/>
            <p:nvPr/>
          </p:nvSpPr>
          <p:spPr>
            <a:xfrm>
              <a:off x="2743200" y="43434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38080" y="449568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1752480" y="365760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218960" y="3886200"/>
              <a:ext cx="1067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286000" y="388620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218960" y="388620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600200" y="451008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752480" y="3505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057400" y="449568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914400" y="449568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914400" y="32767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4343400" y="26668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lower sideb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6477120" y="4724280"/>
            <a:ext cx="761760" cy="0"/>
          </a:xfrm>
          <a:prstGeom prst="line">
            <a:avLst/>
          </a:prstGeom>
          <a:ln w="28440">
            <a:solidFill>
              <a:srgbClr val="66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6477120" y="3048120"/>
            <a:ext cx="0" cy="1676160"/>
          </a:xfrm>
          <a:prstGeom prst="line">
            <a:avLst/>
          </a:prstGeom>
          <a:ln w="284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4724280" y="3124080"/>
            <a:ext cx="609840" cy="990720"/>
            <a:chOff x="4724280" y="3124080"/>
            <a:chExt cx="609840" cy="990720"/>
          </a:xfrm>
        </p:grpSpPr>
        <p:sp>
          <p:nvSpPr>
            <p:cNvPr id="224" name=""/>
            <p:cNvSpPr/>
            <p:nvPr/>
          </p:nvSpPr>
          <p:spPr>
            <a:xfrm flipV="1">
              <a:off x="4724280" y="3581280"/>
              <a:ext cx="609840" cy="533520"/>
            </a:xfrm>
            <a:prstGeom prst="line">
              <a:avLst/>
            </a:prstGeom>
            <a:ln w="28440">
              <a:solidFill>
                <a:srgbClr val="66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5334120" y="3124080"/>
              <a:ext cx="0" cy="457200"/>
            </a:xfrm>
            <a:prstGeom prst="line">
              <a:avLst/>
            </a:prstGeom>
            <a:ln w="2844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73C9-0EC9-4F27-9505-2C41B831932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Amplitude Modulated (AM) Radio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ouble sideband large carrier (DSC-LC)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rier wave varied about mean value linearly with baseband message signa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amplitude sensitivity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gt;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ulation factor 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maximum amplitud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Envelope of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) has about same shape as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) if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| &lt; 1  for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gt;&g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bandwidth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1292400" y="2765520"/>
                <a:ext cx="5641920" cy="91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B7E4-0917-448C-AA83-5E300273EF4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Amplitude Modulated (AM) Radio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isadvantage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ndant bandwidth is 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rier consumes most of the transmitted power</a:t>
            </a:r>
            <a:r>
              <a:rPr b="0" lang="en-US" sz="2800" spc="-1" strike="noStrike">
                <a:solidFill>
                  <a:srgbClr val="cc00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dvantage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 detectors (e.g. AM radio receivers for ca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Receiver uses a simple</a:t>
            </a:r>
            <a:br>
              <a:rPr sz="2800"/>
            </a:b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envelope detector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ode (with forwa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istanc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n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llel connection o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acit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loa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ist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4038480" y="3657600"/>
            <a:ext cx="5257800" cy="2590920"/>
            <a:chOff x="4038480" y="3657600"/>
            <a:chExt cx="5257800" cy="2590920"/>
          </a:xfrm>
        </p:grpSpPr>
        <p:sp>
          <p:nvSpPr>
            <p:cNvPr id="232" name=""/>
            <p:cNvSpPr/>
            <p:nvPr/>
          </p:nvSpPr>
          <p:spPr>
            <a:xfrm>
              <a:off x="4759200" y="5562720"/>
              <a:ext cx="38124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4952880" y="5333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267080" y="533412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267080" y="586728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114800" y="5562720"/>
              <a:ext cx="6858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4800240" y="4343400"/>
              <a:ext cx="305280" cy="990360"/>
              <a:chOff x="4800240" y="4343400"/>
              <a:chExt cx="305280" cy="990360"/>
            </a:xfrm>
          </p:grpSpPr>
          <p:sp>
            <p:nvSpPr>
              <p:cNvPr id="238" name=""/>
              <p:cNvSpPr/>
              <p:nvPr/>
            </p:nvSpPr>
            <p:spPr>
              <a:xfrm>
                <a:off x="4952880" y="4495680"/>
                <a:ext cx="0" cy="16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952880" y="5043240"/>
                <a:ext cx="0" cy="13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876920" y="434340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876920" y="518148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V="1">
                <a:off x="4952880" y="4966920"/>
                <a:ext cx="15264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 flipV="1">
                <a:off x="4800240" y="4890960"/>
                <a:ext cx="30492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V="1">
                <a:off x="4800600" y="4814640"/>
                <a:ext cx="30492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 flipV="1">
                <a:off x="4800240" y="4738320"/>
                <a:ext cx="30492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V="1">
                <a:off x="4800600" y="4662360"/>
                <a:ext cx="15228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6632640" y="3657600"/>
              <a:ext cx="419040" cy="457200"/>
              <a:chOff x="6632640" y="3657600"/>
              <a:chExt cx="419040" cy="457200"/>
            </a:xfrm>
          </p:grpSpPr>
          <p:sp>
            <p:nvSpPr>
              <p:cNvPr id="248" name=""/>
              <p:cNvSpPr/>
              <p:nvPr/>
            </p:nvSpPr>
            <p:spPr>
              <a:xfrm rot="5400000">
                <a:off x="6613560" y="3676680"/>
                <a:ext cx="457200" cy="41904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051680" y="3695400"/>
                <a:ext cx="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 flipV="1">
              <a:off x="4952880" y="3886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952880" y="38862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172200" y="3886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3" name=""/>
            <p:cNvGrpSpPr/>
            <p:nvPr/>
          </p:nvGrpSpPr>
          <p:grpSpPr>
            <a:xfrm>
              <a:off x="5258160" y="3733920"/>
              <a:ext cx="990360" cy="304560"/>
              <a:chOff x="5258160" y="3733920"/>
              <a:chExt cx="990360" cy="304560"/>
            </a:xfrm>
          </p:grpSpPr>
          <p:sp>
            <p:nvSpPr>
              <p:cNvPr id="254" name=""/>
              <p:cNvSpPr/>
              <p:nvPr/>
            </p:nvSpPr>
            <p:spPr>
              <a:xfrm flipH="1">
                <a:off x="5929560" y="3886560"/>
                <a:ext cx="166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>
                <a:off x="5410440" y="3886560"/>
                <a:ext cx="13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 rot="5400000">
                <a:off x="6095880" y="3810240"/>
                <a:ext cx="15192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 rot="5400000">
                <a:off x="5257800" y="3810240"/>
                <a:ext cx="15192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5549040" y="3734280"/>
                <a:ext cx="759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624640" y="3733920"/>
                <a:ext cx="7632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V="1">
                <a:off x="5700960" y="3733920"/>
                <a:ext cx="7632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777640" y="3733920"/>
                <a:ext cx="7596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V="1">
                <a:off x="5853240" y="3886560"/>
                <a:ext cx="7632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3" name=""/>
            <p:cNvSpPr/>
            <p:nvPr/>
          </p:nvSpPr>
          <p:spPr>
            <a:xfrm>
              <a:off x="7086600" y="388620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20120" y="38862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8458200" y="38862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8305920" y="4343400"/>
              <a:ext cx="304560" cy="990360"/>
              <a:chOff x="8305920" y="4343400"/>
              <a:chExt cx="304560" cy="990360"/>
            </a:xfrm>
          </p:grpSpPr>
          <p:sp>
            <p:nvSpPr>
              <p:cNvPr id="267" name=""/>
              <p:cNvSpPr/>
              <p:nvPr/>
            </p:nvSpPr>
            <p:spPr>
              <a:xfrm>
                <a:off x="8457840" y="4495680"/>
                <a:ext cx="0" cy="16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8457840" y="5043240"/>
                <a:ext cx="0" cy="13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8381880" y="4343400"/>
                <a:ext cx="15192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8381880" y="5181480"/>
                <a:ext cx="15192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V="1">
                <a:off x="8457840" y="4966920"/>
                <a:ext cx="15228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H="1" flipV="1">
                <a:off x="8305920" y="4890960"/>
                <a:ext cx="30456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8305920" y="4814640"/>
                <a:ext cx="30456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 flipV="1">
                <a:off x="8305920" y="4738320"/>
                <a:ext cx="30456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8305920" y="4662360"/>
                <a:ext cx="15192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6" name=""/>
            <p:cNvSpPr/>
            <p:nvPr/>
          </p:nvSpPr>
          <p:spPr>
            <a:xfrm>
              <a:off x="4952880" y="6248520"/>
              <a:ext cx="350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4952880" y="59432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620120" y="5334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458200" y="5334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7391520" y="4343400"/>
              <a:ext cx="457200" cy="1066680"/>
              <a:chOff x="7391520" y="4343400"/>
              <a:chExt cx="457200" cy="1066680"/>
            </a:xfrm>
          </p:grpSpPr>
          <p:sp>
            <p:nvSpPr>
              <p:cNvPr id="281" name=""/>
              <p:cNvSpPr/>
              <p:nvPr/>
            </p:nvSpPr>
            <p:spPr>
              <a:xfrm>
                <a:off x="7391520" y="4800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620120" y="449568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391520" y="49528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7620120" y="495288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543800" y="434340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543800" y="525780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7" name=""/>
            <p:cNvSpPr/>
            <p:nvPr/>
          </p:nvSpPr>
          <p:spPr>
            <a:xfrm>
              <a:off x="5334120" y="4038480"/>
              <a:ext cx="83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038480" y="4572000"/>
              <a:ext cx="838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458200" y="4648320"/>
              <a:ext cx="83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705720" y="46483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D7FA-2187-4DA1-8270-335E79CFA64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31T01:42:33Z</dcterms:created>
  <dc:creator>Brian L. Evans</dc:creator>
  <dc:description/>
  <dc:language>en-US</dc:language>
  <cp:lastModifiedBy>Brian L. Evans</cp:lastModifiedBy>
  <cp:lastPrinted>2001-01-11T04:39:01Z</cp:lastPrinted>
  <dcterms:modified xsi:type="dcterms:W3CDTF">2011-06-28T14:30:04Z</dcterms:modified>
  <cp:revision>446</cp:revision>
  <dc:subject/>
  <dc:title>Linearit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ece.utexas.ed/~bevans</vt:lpwstr>
  </property>
  <property fmtid="{D5CDD505-2E9C-101B-9397-08002B2CF9AE}" pid="9" name="LinkColor">
    <vt:r8>16711782</vt:r8>
  </property>
  <property fmtid="{D5CDD505-2E9C-101B-9397-08002B2CF9AE}" pid="10" name="MailAddress">
    <vt:lpwstr>bevans@ece.utexas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L:\bevans\ee313s01\08_Convolution</vt:lpwstr>
  </property>
  <property fmtid="{D5CDD505-2E9C-101B-9397-08002B2CF9AE}" pid="14" name="ScreenSize">
    <vt:r8>4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