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Click to move the slide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14504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A9B2F-1B15-4A6A-A719-0AF8DF2A3D45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des are the rate/ecc pairs.  so simulation slightly optimistic since assumes optimum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LC = Radio Link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Using static calculations, determine the SINR distribution throughout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id not due the dynamic simulation – far too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ite: http://www.alvarion-usa.com/RunTime/materials/KnowledgePoolFiles/WiMAX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MAX is a non-profit industry trade organization formed by leading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onent and equipment companies to promote and certify compatibility and interoper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f broadband wireless access equipment that conforms to the IEEE* 802.16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TSI* HIPERMAN stand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802.16a standard is a wireless metropolitan area network (MAN) technology that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nect 802.11 hot spots to the Internet and provide a wireless alternative to c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SL for last mile broadband access, thus accelerating last-mile broadband deploy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MAX will accelerate and increase the success of future interoperability testing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viding tools for conformance testing now. Tools can be used during the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ker's system development process today to ensure conformance with the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andards-based product roadmap as it evol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embers include leading Operators, Equipment and Component makers (see list at e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MAX was formed in April 2001, in anticipation of the publication of the original 10-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Hz IEEE 802.16 specifications. WiMAX is to 802.16 as the Wi-Fi Alliance is to 802.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270-E6D6-4119-819A-71D862A6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436-49D6-482E-9464-951C16F1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82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7B2-3083-4785-8C5F-16120D26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4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856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450-0662-4BCB-82B1-7DA748AB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FAD7-11EF-4811-B749-C7A2214C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833-AE32-401F-A985-80EE2185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6C2-C727-45A1-9E06-EA47D5D0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91B-A5F9-48A5-9AF2-30B693B7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685800"/>
            <a:ext cx="7619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4DB-D477-4E1C-8E33-78C543B3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D4F-8D44-4098-9841-A928FDB1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82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04E-1FFE-445E-837F-D9D73597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205-A62A-4191-8E56-EE12F5A5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685800"/>
            <a:ext cx="8991720" cy="762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6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Click to edit the title text format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406C-3809-443D-91FC-98558B32E4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029200" y="3808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2b"/>
                </a:solidFill>
                <a:latin typeface="Arial"/>
                <a:ea typeface="宋体"/>
              </a:rPr>
              <a:t>Wireless Networking and Communications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2133720" cy="41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wimaxforum.org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960" y="2163600"/>
            <a:ext cx="860904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Wireless Broadband with WiMAX: </a:t>
            </a:r>
            <a:br>
              <a:rPr sz="2800"/>
            </a:b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Hype and Realit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Dr. Jeffrey G. Andrew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reless Networking and Communications Group (WNCG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ept. of Electrical and Computer Enginee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The University of Texas at Austi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Collaborator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r. Arunabha Ghosh (AT&amp;T Lab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r. Runhua Chen (UT Austin, Now with T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ias Muhamed (AT&amp;T Labs)</a:t>
            </a:r>
            <a:endParaRPr b="1" lang="en-US" sz="2400" spc="-1" strike="noStrike">
              <a:solidFill>
                <a:srgbClr val="cc662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WiMAX: Key Technical Features (3)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exible Quality of Service (QoS) suppor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lexible support of real-time traffic (voice), multimedia, dat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ven a single user can have different QoS flow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RQ and Hybrid ARQ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DD and TDD both supported, TDD seems to have upper h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lexible uplink-to-downlink data rate rati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annel reciproc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mpler transceiver desig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WiMAX: Key Technical Features (4)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pport for powerful multiple antenna (MIMO) technolog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FDM is a natural partner for MIM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ilot symbols, channel estimation, feedback channe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ace-time cod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atial Multiplex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 will demonstrate the power (even the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for MIMO short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MIMO in 2 slides: Space-time coding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3560" y="1449360"/>
            <a:ext cx="822024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Transmit Divers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Space-time Code (STC): Redundant data sent over time and space domains (antenna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Receive SNR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ncrease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 about linearly with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eorgia"/>
                <a:ea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Receive SNR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harden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 about linearly with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eorgia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Capacity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(max data rate)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"/>
          <p:cNvSpPr/>
          <p:nvPr/>
        </p:nvSpPr>
        <p:spPr>
          <a:xfrm>
            <a:off x="1685880" y="4354560"/>
            <a:ext cx="336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9760" y="4449600"/>
            <a:ext cx="460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47760" y="4516560"/>
            <a:ext cx="9111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     b   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62120" y="4030560"/>
            <a:ext cx="720720" cy="1159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68640" y="4638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52840" y="4164120"/>
            <a:ext cx="87300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    b   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33760" y="4811760"/>
            <a:ext cx="89208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’    b’   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11600" y="4154400"/>
            <a:ext cx="59508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21320" y="4773600"/>
            <a:ext cx="59508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197320" y="3843360"/>
            <a:ext cx="380880" cy="457200"/>
            <a:chOff x="5197320" y="3843360"/>
            <a:chExt cx="380880" cy="457200"/>
          </a:xfrm>
        </p:grpSpPr>
        <p:sp>
          <p:nvSpPr>
            <p:cNvPr id="86" name=""/>
            <p:cNvSpPr/>
            <p:nvPr/>
          </p:nvSpPr>
          <p:spPr>
            <a:xfrm>
              <a:off x="5425920" y="384336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97320" y="407196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226120" y="4443480"/>
            <a:ext cx="380880" cy="457200"/>
            <a:chOff x="5226120" y="4443480"/>
            <a:chExt cx="380880" cy="457200"/>
          </a:xfrm>
        </p:grpSpPr>
        <p:sp>
          <p:nvSpPr>
            <p:cNvPr id="89" name=""/>
            <p:cNvSpPr/>
            <p:nvPr/>
          </p:nvSpPr>
          <p:spPr>
            <a:xfrm>
              <a:off x="5454720" y="444348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26120" y="467208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86440" y="3832200"/>
            <a:ext cx="380880" cy="457200"/>
            <a:chOff x="5986440" y="3832200"/>
            <a:chExt cx="380880" cy="457200"/>
          </a:xfrm>
        </p:grpSpPr>
        <p:sp>
          <p:nvSpPr>
            <p:cNvPr id="92" name=""/>
            <p:cNvSpPr/>
            <p:nvPr/>
          </p:nvSpPr>
          <p:spPr>
            <a:xfrm flipH="1">
              <a:off x="5986080" y="383220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062040" y="406080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005520" y="4441680"/>
            <a:ext cx="380880" cy="457200"/>
            <a:chOff x="6005520" y="4441680"/>
            <a:chExt cx="380880" cy="457200"/>
          </a:xfrm>
        </p:grpSpPr>
        <p:sp>
          <p:nvSpPr>
            <p:cNvPr id="95" name=""/>
            <p:cNvSpPr/>
            <p:nvPr/>
          </p:nvSpPr>
          <p:spPr>
            <a:xfrm flipH="1">
              <a:off x="6005160" y="444168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81120" y="467028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381720" y="4052880"/>
            <a:ext cx="792000" cy="10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7640" y="4421160"/>
            <a:ext cx="9111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     b   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88120" y="457200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63760" y="43340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16480" y="4314960"/>
            <a:ext cx="19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54400" y="494352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6480" y="493380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87520" y="3924360"/>
            <a:ext cx="2924280" cy="1371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73600" y="392436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3600" y="44956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83320" y="3962520"/>
            <a:ext cx="19980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683320" y="4029120"/>
            <a:ext cx="209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87960" y="5465880"/>
            <a:ext cx="4671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MIMO in 2 slides: Spatial Multiplexing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48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MIMO Multiplex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Data is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 redundant – less diversity but less repeti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Provides multiplexing gain to increase data-ra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Low (no) diversity compared with STC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Capacity (at high SNR)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"/>
          <p:cNvSpPr/>
          <p:nvPr/>
        </p:nvSpPr>
        <p:spPr>
          <a:xfrm>
            <a:off x="1050840" y="4292640"/>
            <a:ext cx="9111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 e d c b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1720" y="4414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03520" y="3968640"/>
            <a:ext cx="87300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    c   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03520" y="4616280"/>
            <a:ext cx="89208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    d  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81360" y="3959280"/>
            <a:ext cx="59508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91080" y="4578480"/>
            <a:ext cx="59508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267080" y="3648240"/>
            <a:ext cx="380880" cy="457200"/>
            <a:chOff x="4267080" y="3648240"/>
            <a:chExt cx="380880" cy="457200"/>
          </a:xfrm>
        </p:grpSpPr>
        <p:sp>
          <p:nvSpPr>
            <p:cNvPr id="119" name=""/>
            <p:cNvSpPr/>
            <p:nvPr/>
          </p:nvSpPr>
          <p:spPr>
            <a:xfrm>
              <a:off x="4495680" y="364824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7080" y="387684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295880" y="4248000"/>
            <a:ext cx="380880" cy="457200"/>
            <a:chOff x="4295880" y="4248000"/>
            <a:chExt cx="380880" cy="457200"/>
          </a:xfrm>
        </p:grpSpPr>
        <p:sp>
          <p:nvSpPr>
            <p:cNvPr id="122" name=""/>
            <p:cNvSpPr/>
            <p:nvPr/>
          </p:nvSpPr>
          <p:spPr>
            <a:xfrm>
              <a:off x="4524480" y="424800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95880" y="447660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532480" y="3665520"/>
            <a:ext cx="380880" cy="457200"/>
            <a:chOff x="5532480" y="3665520"/>
            <a:chExt cx="380880" cy="457200"/>
          </a:xfrm>
        </p:grpSpPr>
        <p:sp>
          <p:nvSpPr>
            <p:cNvPr id="125" name=""/>
            <p:cNvSpPr/>
            <p:nvPr/>
          </p:nvSpPr>
          <p:spPr>
            <a:xfrm flipH="1">
              <a:off x="5532120" y="366552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608080" y="389412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551560" y="4284720"/>
            <a:ext cx="380880" cy="457200"/>
            <a:chOff x="5551560" y="4284720"/>
            <a:chExt cx="380880" cy="457200"/>
          </a:xfrm>
        </p:grpSpPr>
        <p:sp>
          <p:nvSpPr>
            <p:cNvPr id="128" name=""/>
            <p:cNvSpPr/>
            <p:nvPr/>
          </p:nvSpPr>
          <p:spPr>
            <a:xfrm flipH="1">
              <a:off x="5551200" y="428472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627160" y="451332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927760" y="3886200"/>
            <a:ext cx="792000" cy="10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08920" y="4254480"/>
            <a:ext cx="90144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 e d c b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3240" y="411012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24160" y="472932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52600" y="410040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7440" y="411012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7480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3786120"/>
            <a:ext cx="2266920" cy="1247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2440" y="37195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91240" y="4424400"/>
            <a:ext cx="65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781520" y="387144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1520" y="3843360"/>
            <a:ext cx="590760" cy="4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15080" y="440532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130640" y="5218200"/>
            <a:ext cx="453384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Does WiMAX deliver on its promise?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MAX has promised a lot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ong ranges: 3 km (mobile) to 8 km (fixe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igh data rates: 75 Mbps in 20 MHz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asonable cost, power consumption, complex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early, these are not achievable simultaneous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conjunction with AT&amp;T labs, we have developed extensive, accurate simulations over the past 3 years to model WiMAX perform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se results are widely used in the WiMAX foru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sclosure: I did not personally write any of this cod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WiMAX in Additive WG Noise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459080" y="1593720"/>
          <a:ext cx="6163920" cy="476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593720"/>
                    <a:ext cx="6163920" cy="47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595680" y="4487760"/>
            <a:ext cx="879480" cy="11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4480" y="423540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DL Throughput  for 5 MHz Channel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93720" y="1600200"/>
            <a:ext cx="6261120" cy="4457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34560" y="6039000"/>
            <a:ext cx="80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is led to adoption of 2x2 system as the basic profile for WiMAX (in 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The Benefit of Increased Diversity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55560" y="1684440"/>
          <a:ext cx="5622840" cy="51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684440"/>
                    <a:ext cx="562284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54880" y="1635120"/>
            <a:ext cx="234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ink (not system-level) performan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 streams of data Tx’d when 4 antennas available at Tx or R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ata rate is per subchannel (16 subchannels in 10 MHz of BW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"/>
          <p:cNvSpPr/>
          <p:nvPr/>
        </p:nvSpPr>
        <p:spPr>
          <a:xfrm>
            <a:off x="8194680" y="3544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DL Throughput for 5 MHz Channel Bandwidth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4880" y="1546200"/>
            <a:ext cx="77691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  <a:ea typeface="宋体"/>
              </a:rPr>
              <a:t>System Level Modeling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Link level simulation only characterized the performance of an 802.16 link under different condition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A multi-cellular deployment requires system level model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Static Simulation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宋体"/>
              </a:rPr>
              <a:t>Two tiers of interference consider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宋体"/>
              </a:rPr>
              <a:t>The SNR at any given location is determined by the Tx power of the serving and interfering cells and their respective path loss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宋体"/>
              </a:rPr>
              <a:t>Power control can be integrated if desir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n TDD, 28 OFDM symbols are for the DL, and 9 are for the UL (asymmetric by about a factor of 3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  <a:ea typeface="宋体"/>
              </a:rPr>
              <a:t>Questions Addressed by This Talk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hat is WiMAX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hy is WiMAX necessary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How is WiMAX different from cellular and Wi-Fi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oes WiMAX deliver on its promis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here is WiMAX headed in the futur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Average Throughput:</a:t>
            </a:r>
            <a:br>
              <a:rPr sz="2800"/>
            </a:b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Freq. reuse, MIMO, channel model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64" name=""/>
          <p:cNvSpPr/>
          <p:nvPr/>
        </p:nvSpPr>
        <p:spPr>
          <a:xfrm>
            <a:off x="1120680" y="160020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Profile (2x2 OL M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19400" y="1606680"/>
            <a:ext cx="25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Profiles for (1,1,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78040" y="5272200"/>
            <a:ext cx="74181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L is better than UL by much more than a factor of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req. reuse helps the average data rate, but not nearly enough to justify factor of 3 hit in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IMO gains, especially closed loop, are ver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713120" y="1906560"/>
          <a:ext cx="4430880" cy="33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3120" y="1906560"/>
                    <a:ext cx="443088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914400" y="1920960"/>
          <a:ext cx="3772080" cy="3365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20960"/>
                    <a:ext cx="377208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383000" y="2093760"/>
          <a:ext cx="4535640" cy="35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3000" y="2093760"/>
                    <a:ext cx="453564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Coverage and Throughput:</a:t>
            </a:r>
            <a:br>
              <a:rPr sz="2800"/>
            </a:b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Freq. reuse &amp; MIMO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5360" y="2089080"/>
          <a:ext cx="4189320" cy="3435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2089080"/>
                    <a:ext cx="4189320" cy="34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120680" y="185904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Profile (2x2 OL M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19400" y="1865160"/>
            <a:ext cx="25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Profiles for (1,1,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78040" y="5530680"/>
            <a:ext cx="741816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quency reuse has a significant affect at the system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IMO at least doubles or triples the data rate at most any outag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Key Takeaways from Simulation Results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ectral efficiencies/data rates still obey the laws of physics and information theo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avoidable tradeoff between throughput and coverage: can’t excel at bo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urrently, a likely incremental increase in (normalized) throughput and coverage over 3G, but more room to grow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IMO is key to helping capacity (also helps coverag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q. reuse/sectoring are key to coverage (freq. reuse hurts capacity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Where is WiMAX headed in the future?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ncreased development and eventual deployment of aggressive MIMO techniqu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This is one key area where WiMAX has an advantage over single-carrier (cellular) syste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nge extension through relaying/multi-hopp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802.16j committee on “Mobile Multihop Relay” (MMR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Extends coverage at cost of capac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mproved Network Design and Manag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Base station cooperation (handoff, scheduling, interference reductio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Distributed Antenna architectu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Co-existence/synergies with 802.11n (dual mode devic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Conclusions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802.16/WiMax is the beginning of a good wireless broadband standar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sed on reasonably cutting edge technolog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ery flexible, should prove evolvable and scalab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t don’t believe the hyp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ectral efficiencies/data rates still obey the laws of physics and information theory, esp. at finite power and co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 incremental increase in throughput and coverage over 1xEV-DO/HSDP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 get truly impressive rates, a suite of improvements need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IMO, and required technologies to support MIM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dvanced Signal Processing (Interference cancellation, etc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RQ, Adaptive Multiuser OFDM, Power Contro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  <a:ea typeface="宋体"/>
              </a:rPr>
              <a:t>More Information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9880" y="1600200"/>
            <a:ext cx="5029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J. G. Andrews, A. Ghosh, R. Muhamed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Fundamentals of WiMAX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, Prentice-Hall, Feb. 2007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A. Ghosh, J.  G. Andrews, R. Chen, and D. R. Wolter, "Broadband wireless access with WiMax/802.16: current performance benchmarks and future potential, "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EEE Communications Magazin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, pp. 129-136, Feb. 2005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WiMAX Forum Overview Whitepap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ea typeface="宋体"/>
                <a:hlinkClick r:id="rId1"/>
              </a:rPr>
              <a:t>www.wimaxforum.or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Wimax.com (Austin-base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548320" y="1665360"/>
            <a:ext cx="33796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  <a:ea typeface="宋体"/>
              </a:rPr>
              <a:t>What is WiMAX?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MAX is an emerging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ndustry consortium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 standard for wireless broadband network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Based on the IEEE 802.16e standar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Modes and enhancements clearly defin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nfrastructure and network layer support specifi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nteroperability test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Frequency bands specified (2.5-2.7 GHz most promising in US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Some History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6480" y="1563480"/>
            <a:ext cx="769608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uly 1999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rst working group meeting of IEEE 802.16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une 2001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MAX Forum establish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. 2001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EEE 802.16 standards completed for &gt; 11 GHz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n. 2003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EEE 802.16a standard comple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une 2004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EEE 802.16-2004 standard comple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pt. 2004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l begins shipping its first WiMAX chipse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n. 2006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Bro commercial services launched in Kore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b. 2006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EEE 802.16e standard completed (support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bility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une 2006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Bro launched in Kore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ug. 2006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rint-Nextel announces plans to deploy WiMA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pr. 2007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0th WiMAX commercial product announc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id 2008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bstantial coverage available nationwide (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The Hype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rom the WiMAX forum webpag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a typical cell radius deployment of </a:t>
            </a:r>
            <a:r>
              <a:rPr b="0" lang="en-US" sz="2400" spc="-1" strike="noStrike">
                <a:solidFill>
                  <a:srgbClr val="cc662b"/>
                </a:solidFill>
                <a:latin typeface="Georgia"/>
              </a:rPr>
              <a:t>three to ten kilometer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WiMAX Forum Certified™ systems can be expected to deliver capacity of up to </a:t>
            </a:r>
            <a:r>
              <a:rPr b="0" lang="en-US" sz="2400" spc="-1" strike="noStrike">
                <a:solidFill>
                  <a:srgbClr val="cc662b"/>
                </a:solidFill>
                <a:latin typeface="Georgia"/>
              </a:rPr>
              <a:t>40 Mbps per channe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.. This is enough bandwidth to simultaneously support hundreds of businesses with T-1 speed connectivity and </a:t>
            </a:r>
            <a:r>
              <a:rPr b="0" lang="en-US" sz="2400" spc="-1" strike="noStrike">
                <a:solidFill>
                  <a:srgbClr val="cc662b"/>
                </a:solidFill>
                <a:latin typeface="Georgia"/>
              </a:rPr>
              <a:t>thousands of residences with DSL speed connectiv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 Mobile network deployments are expected to provide up to </a:t>
            </a:r>
            <a:r>
              <a:rPr b="0" lang="en-US" sz="2400" spc="-1" strike="noStrike">
                <a:solidFill>
                  <a:srgbClr val="cc662b"/>
                </a:solidFill>
                <a:latin typeface="Georgia"/>
              </a:rPr>
              <a:t>15 Mbps of capac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thin a typical cell radius deployment of up to </a:t>
            </a:r>
            <a:r>
              <a:rPr b="0" lang="en-US" sz="2400" spc="-1" strike="noStrike">
                <a:solidFill>
                  <a:srgbClr val="cc662b"/>
                </a:solidFill>
                <a:latin typeface="Georgia"/>
              </a:rPr>
              <a:t>three kilometer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Why is WiMAX Necessary?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SL and Cable Mode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 mobility suppor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uge infrastructure investment necessary outside of developed world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ellular system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undamentally designed for voice. (Circuit switched, small bandwidth)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or spectral efficiency (0.3 – 0.8 bps/Hz for HSDPA/HSUPA and EVDO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Wi-Fi/802.1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 mobility suppor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hort ran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t a broadband technique on its ow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esh Wi-Fi has debatable throughput (and still will require backhaul/wired connectio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WiMAX Enablers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ariable and potentially large bandwid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fficient exploitation of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ime (scheduling, adaptive modulatio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quency (scheduling, adaptive modulation, coding/interleaving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ace (space-time codes, MIMO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cket-switched architect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n standard allows more room for innovation, lower consumer costs from compet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ey Point: WiMAX provides a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entury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platform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for wireless broadband acces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WiMAX: Key Technical Features (1)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5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thogonal frequency division multiplexing (OFDM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Divide wideband channel into flat-fading subcarri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nter-symbol interference (ISI) is mitig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Low-complexity, proven architecture (compare to cellular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FDMA: Orth. Freq. Division Multiple Acc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Smart allocation of subcarrier blocks to us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mproved frequency and time divers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Reduced peak power and PAR in uplin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30360" y="4781520"/>
          <a:ext cx="640728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4781520"/>
                    <a:ext cx="640728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WiMAX: Key Technical Features (2)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ery Scalable Bandwidth and Data R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ndwidths vary from 1.5 – 20 MHz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ata rates vary from 1 – 75 Mbp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lows for flexible range, quality of service, bandwidth alloca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daptive Modulation and Cod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milar to Wi-Fi in this respec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dulation types: QPSK, 16QAM, 64QAM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ding types: variable rate Conv. codes, turbo codes, LDPC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theory, 52 different modulation/coding “burst profiles”. In practice, only a fraction supported by WiMAX (turbo code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14:29:13Z</dcterms:created>
  <dc:creator>Arunabha Ghosh</dc:creator>
  <dc:description/>
  <dc:language>en-US</dc:language>
  <cp:lastModifiedBy>bevans</cp:lastModifiedBy>
  <dcterms:modified xsi:type="dcterms:W3CDTF">2007-04-30T22:56:29Z</dcterms:modified>
  <cp:revision>272</cp:revision>
  <dc:subject/>
  <dc:title>Performance of MIMO Variants of 802.16(d) System for Fixed Wireless Access</dc:title>
</cp:coreProperties>
</file>