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231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11B8-1B65-4AEE-A3D2-BE657923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5474-E959-4159-9032-A92C3BCD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0D1B-1ACA-43E7-ADD5-F16BBCE5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247C-6ADA-4D94-B562-AAD33226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660C-30F9-456A-96B3-02367C92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4E6F-F980-4150-8BAF-625BB5D1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FE63-00AA-4892-B363-EB913A09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4D40-D6D7-49FA-B85A-372AD6F1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D37E-151C-4D02-A6EA-4F0A0BB6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E9C7-0AFB-45C8-A3D7-7CD92251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C22D-6342-42EA-A90F-84941A39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006E-2171-4143-87F1-B5713285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C9F4-8963-4813-A325-7911A9CC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1EC3-69B8-4B92-917E-1FA9794E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C7AD-B98E-40C1-A830-41153248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597B-F45A-4DAC-B1FF-1DA7C4AF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2403-35F9-481A-9B82-6745E57F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692-3D42-4A40-8761-257A2B55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9D4B-2D1D-48F7-A8F3-DF50B2BD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8213-2C11-41C3-8DC2-589FFA5C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E5C7-FB4D-4EF5-96CF-29DE92B4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B536-EDA7-422A-A9C5-1FD7A8CA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B68C-141A-49DF-9AEA-56E1747A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B71A-E9B6-407D-9C85-1218A330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2 - </a:t>
            </a:r>
            <a:fld id="{A31B26F1-CCB8-440B-B15F-AE19E7A66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640" y="1904760"/>
            <a:ext cx="822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FF47-B459-4015-9633-495EED67E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8640" y="3429000"/>
            <a:ext cx="822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Prof. Brian L. Ev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Dept. of Electrical and Computer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The University of Texas at Aus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594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22                                                       http://courses.utexas.edu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8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 345S Real-Time Digital Signal Processing Lab           Sprin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6600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6600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eminar2.techonline.com/~adi/jun2001/" TargetMode="External"/><Relationship Id="rId2" Type="http://schemas.openxmlformats.org/officeDocument/2006/relationships/hyperlink" Target="http://seminar2.techonline.com/~adi/jun2001/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dti.com/" TargetMode="External"/><Relationship Id="rId2" Type="http://schemas.openxmlformats.org/officeDocument/2006/relationships/hyperlink" Target="http://www.eembc.org/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dti.com/pocket/pocket.htm" TargetMode="External"/><Relationship Id="rId2" Type="http://schemas.openxmlformats.org/officeDocument/2006/relationships/hyperlink" Target="http://www.ti.com/" TargetMode="External"/><Relationship Id="rId3" Type="http://schemas.openxmlformats.org/officeDocument/2006/relationships/hyperlink" Target="http://www.ti.com/sc/docs/dsps/dsphome.htm" TargetMode="External"/><Relationship Id="rId4" Type="http://schemas.openxmlformats.org/officeDocument/2006/relationships/hyperlink" Target="http://www.ti.com/sc/docs/dsps/dsphome.htm" TargetMode="External"/><Relationship Id="rId5" Type="http://schemas.openxmlformats.org/officeDocument/2006/relationships/hyperlink" Target="http://www.ti.com/sc/docs/dsps/develop/3party.htm" TargetMode="External"/><Relationship Id="rId6" Type="http://schemas.openxmlformats.org/officeDocument/2006/relationships/hyperlink" Target="http://www.agere.com/" TargetMode="External"/><Relationship Id="rId7" Type="http://schemas.openxmlformats.org/officeDocument/2006/relationships/hyperlink" Target="http://www.agere.com/" TargetMode="External"/><Relationship Id="rId8" Type="http://schemas.openxmlformats.org/officeDocument/2006/relationships/hyperlink" Target="http://www.lucent.com/micro/dsp/" TargetMode="External"/><Relationship Id="rId9" Type="http://schemas.openxmlformats.org/officeDocument/2006/relationships/hyperlink" Target="http://www.mot.com/" TargetMode="External"/><Relationship Id="rId10" Type="http://schemas.openxmlformats.org/officeDocument/2006/relationships/hyperlink" Target="http://www.mot.com/" TargetMode="External"/><Relationship Id="rId11" Type="http://schemas.openxmlformats.org/officeDocument/2006/relationships/hyperlink" Target="http://www.mot.com/" TargetMode="External"/><Relationship Id="rId12" Type="http://schemas.openxmlformats.org/officeDocument/2006/relationships/hyperlink" Target="http://www.mot.com/SPS/DSP/" TargetMode="External"/><Relationship Id="rId13" Type="http://schemas.openxmlformats.org/officeDocument/2006/relationships/hyperlink" Target="http://www.mot.com/SPS/DSP/developers/thirdparty.html" TargetMode="External"/><Relationship Id="rId14" Type="http://schemas.openxmlformats.org/officeDocument/2006/relationships/hyperlink" Target="http://www.analog.com/" TargetMode="External"/><Relationship Id="rId15" Type="http://schemas.openxmlformats.org/officeDocument/2006/relationships/hyperlink" Target="http://www.analog.com/SHARC_2154" TargetMode="External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8640" y="1904760"/>
            <a:ext cx="822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odern Digital Signal Processors 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6700 Floating Point VLIW DSP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32-bit floating-point VLIW DSP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ed in 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ds C6000 instruction set for floating point arithm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ight functional units: single cycle throughpu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LUs are fixed-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ALUs support fixed-point and floating-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multipliers support fixed-point and floating-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pplications include professional audio, home entertainment, wireless base stations, medical imaging, sonar imaging, and robotic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CA0D-E5BE-417A-8FD0-B9ED9128C0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6712 vs. C6713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6712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150 MHz clock,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900 MFLOPS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4 kB/4kB of L1 program/data memor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64 kB of L2 cach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1200 MB/s on-chip data bus bandwidth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$13.50 each in volum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6713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225 MHz clock,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1350 MFLOPS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4 kB/4kB of L1 program/data memor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256 kB of L2 cach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1800 MB/s on-chip data bus bandwidth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$26.85 each in volum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6019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ormation as of December 3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F594-C1FA-437F-8775-035408F1F2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TMS320C6200 vs. Pentiu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8640" y="1290600"/>
          <a:ext cx="8126640" cy="40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1290600"/>
                    <a:ext cx="8126640" cy="40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697320" y="5178600"/>
            <a:ext cx="773352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BDTImarks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: Berkeley Design Technology Inc. DSP benchmar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results (larger means better) </a:t>
            </a:r>
            <a:r>
              <a:rPr b="0" lang="en-US" sz="1600" spc="-1" strike="noStrike">
                <a:solidFill>
                  <a:srgbClr val="0000ff"/>
                </a:solidFill>
                <a:latin typeface="NewCenturySchlbk"/>
              </a:rPr>
              <a:t>http://www.bdti.com/bdtimark/results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NewCenturySchlbk"/>
              </a:rPr>
              <a:t>http://www.ece.utexas.edu/~bevans/courses/ee382c/lectures/processors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E44B-379C-4B73-ABFF-FA9B01B326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tarcor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tartup company with two major investo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orola (Semiconductor Product Sector, Austin, T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re Systems (formerly Lucent Technologies Microelectronics Group, Allentown, 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Has developed 16-bit VLIW DSPs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1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300 MHz, 1200 MMACS or 3000 RISC MIPS at 0.2mW/ MMAC at 1.5V or 0.07 mW/MMAC at 0.9V (Jan. 2001 figur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1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300 MHz, 300 MMACs or 1200 RISC MIPS, one-half of the peak power consumption of SC140. (Jan. 2001 figur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D62A-3B65-4435-9A95-3207C2607D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TMS320C6200 vs. StarCore S140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74840" y="1292400"/>
          <a:ext cx="6502320" cy="452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1292400"/>
                    <a:ext cx="650232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604080" y="5744520"/>
            <a:ext cx="7936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*   Does not count equivalent RISC operations for modulo address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** On the C62x, there is a performance penalty for 40-bit accumulatio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EA5F-528E-48D7-92B6-707B15BFFA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tarcor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39800"/>
          <a:ext cx="8076960" cy="3922560"/>
        </p:xfrm>
        <a:graphic>
          <a:graphicData uri="http://schemas.openxmlformats.org/drawingml/2006/table">
            <a:tbl>
              <a:tblPr/>
              <a:tblGrid>
                <a:gridCol w="1980720"/>
                <a:gridCol w="1295640"/>
                <a:gridCol w="4800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Lucent StarPro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3 SC140 co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ers and cellular infra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Motorola MSC8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1 SC140 c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rd-generation wireless systems, IP telephony, modem banks, multi-channel DSL mode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Motorola MSC8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4 SC140 co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-density multi-channel multi-standard applications, e.g. in central offices of telephone companies and third-generation wireless basest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1447920" y="57913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does Motorola’s DigitalDNA slogan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B802-8CD4-4BCA-B459-82ED5751BB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nalog Devices ADSP-21161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32-bit floating-point Super Harvard Architecture (SHARC) DSP based on SIMD core (Sept. 6, 2000)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ngle-cycle throughput for fixed-point and floating-point arithmetic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100 MHz clock, 600 MFLOPS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1 Mbit dual-ported memory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800 Mbyte/s of on-chip data bus bandwidth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$35 each in volumes of 1,000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pplications include high-end audio systems, wireless basestations, medical imaging, sonar imaging, and robotic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440-FC98-4FA6-818C-22C3227115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tel/Analog Devices Blackfin DSP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llaboration begun in Dec. 1999 in Austin, TX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rst member ADSP-21535 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Times New Roman"/>
                <a:hlinkClick r:id="rId1"/>
              </a:rPr>
              <a:t>June 20, 2001,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Times New Roman"/>
                <a:hlinkClick r:id="rId2"/>
              </a:rPr>
              <a:t>Webcast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) 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16-bit fixed-point cor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performance: 1.5V, 300 MHz, 350 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power: 0.9V, 100 MHz, 50 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2.4 GB on-chip I/O bandwidth at 300 MHz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ual multiply-accumulate uni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-bit x 16-bit multipl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-bit accumul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 million MACs/second at 300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93A6-99F4-4DC9-AC6C-3815F7EA68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tel/Analog Devices Blackfin DSP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8 video ALUs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16-bit and 32-bit instructions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gisters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32-bit address regis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32-bit data regis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ddressability: 8, 16, and 32 bit data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n-core peripherals: PCI, USB, 2 UARTs (one IrDA), A/D and LCD drivers, 3 timers, etc.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terlocked, eight-stage pipelin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ABD1-ACB1-47FC-9DC1-411DBD7DC9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LSI Logic (Dallas, TX)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SI Logic LSI401Z (Formerly ZSP164xx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-way, in-order superscalar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-bit DSP (16-bit instructions, 16-bit or 32-bit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2520" y="2903400"/>
          <a:ext cx="3967200" cy="34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2903400"/>
                    <a:ext cx="3967200" cy="34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4724280" y="2897280"/>
          <a:ext cx="3932280" cy="3503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97280"/>
                    <a:ext cx="393228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0167-D8EF-420F-8120-77B7204726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gital Signal Processor Marke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ost rapidly expanding sector of semiconductor market (30% growth rate 1990-2001)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600 million cell phone subscribers worldwide (June 2001)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Ps in more than 60% of existing cell ph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.7 million cell phone subscribers in 1Q00 in China, the single largest market (30%) in Asia/Pacific (Dataques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How many digital signal processors (DSPs) are in each PC? Where are they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6215-9BC0-44B3-ABFE-47BA269257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Benchmark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Times New Roman"/>
                <a:hlinkClick r:id="rId1"/>
              </a:rPr>
              <a:t>Berkeley Design Technology Inc.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BDTImark2000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DSP kernels in hand-optimized assembly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single number (higher means faster) per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nly on-chip memory (memory bandwidth is the major bottleneck in performance of embedded applic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Times New Roman"/>
                <a:hlinkClick r:id="rId2"/>
              </a:rPr>
              <a:t>EDN Embedded Microprocessor Benchmark Consortiu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(EEMBC pronounced “embassy”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companies formed by Electronic Data News (ED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chmark evaluates compiled C code on a variety of embedded processors (microcontrollers, DSP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domains: automotive-industrial, consumer, office automation, networking and tele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CAF6-3711-44C4-B819-FC2E8FDD11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Battery Technology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Key limiting factor in handheld embedded system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MH is Nickel/metal-hydroxide. Used in electric vehicles (s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EEE Spectr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ec. 1997, p. 69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d, NiMH, and Li+ used in cellular ph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: Larry Hayes, Motorola Semiconductor Product Sector in Phoenix, Arizona, 199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990720" y="1981080"/>
          <a:ext cx="7315200" cy="232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73152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59CF-72F0-4F75-8637-5088328FF8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SPs on the Market Today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erkeley Design Tech. Inc. Pocket Guide to DSP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50021"/>
                </a:solidFill>
                <a:uFillTx/>
                <a:latin typeface="Times New Roman"/>
                <a:hlinkClick r:id="rId1"/>
              </a:rPr>
              <a:t>http://www.bdti.com/pocket/pocket.ht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ee hand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3200400"/>
          <a:ext cx="8534520" cy="3097080"/>
        </p:xfrm>
        <a:graphic>
          <a:graphicData uri="http://schemas.openxmlformats.org/drawingml/2006/table">
            <a:tbl>
              <a:tblPr/>
              <a:tblGrid>
                <a:gridCol w="1066680"/>
                <a:gridCol w="5867640"/>
                <a:gridCol w="1143000"/>
                <a:gridCol w="457200"/>
              </a:tblGrid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a50021"/>
                          </a:solidFill>
                          <a:uFillTx/>
                          <a:latin typeface="Times New Roman"/>
                          <a:hlinkClick r:id="rId2"/>
                        </a:rPr>
                        <a:t>Texas Ins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a50021"/>
                          </a:solidFill>
                          <a:uFillTx/>
                          <a:latin typeface="Courier New"/>
                          <a:hlinkClick r:id="rId3"/>
                        </a:rPr>
                        <a:t>www.ti.com/sc/docs/dsps/dsphome.</a:t>
                      </a:r>
                      <a:r>
                        <a:rPr b="1" lang="en-US" sz="1600" spc="-1" strike="noStrike" u="sng">
                          <a:solidFill>
                            <a:srgbClr val="a50021"/>
                          </a:solidFill>
                          <a:uFillTx/>
                          <a:latin typeface="Courier New"/>
                          <a:hlinkClick r:id="rId4"/>
                        </a:rPr>
                        <a:t>h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a50021"/>
                          </a:solidFill>
                          <a:uFillTx/>
                          <a:latin typeface="Courier New"/>
                          <a:hlinkClick r:id="rId5"/>
                        </a:rPr>
                        <a:t>www.ti.com/sc/docs/dsps/develop/3party.ht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allas/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Hous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75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a50021"/>
                          </a:solidFill>
                          <a:uFillTx/>
                          <a:latin typeface="Times New Roman"/>
                          <a:hlinkClick r:id="rId6"/>
                        </a:rPr>
                        <a:t>Agere</a:t>
                      </a:r>
                      <a:r>
                        <a:rPr b="1" lang="en-US" sz="2000" spc="-1" strike="noStrike" u="sng">
                          <a:solidFill>
                            <a:srgbClr val="a50021"/>
                          </a:solidFill>
                          <a:uFillTx/>
                          <a:latin typeface="Times New Roman"/>
                          <a:hlinkClick r:id="rId7"/>
                        </a:rPr>
                        <a:t> 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a50021"/>
                          </a:solidFill>
                          <a:uFillTx/>
                          <a:latin typeface="Courier New"/>
                          <a:hlinkClick r:id="rId8"/>
                        </a:rPr>
                        <a:t>www.lucent.com/micro/dsp/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 third-party support lis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llen-t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a50021"/>
                          </a:solidFill>
                          <a:uFillTx/>
                          <a:latin typeface="Times New Roman"/>
                          <a:hlinkClick r:id="rId9"/>
                        </a:rPr>
                        <a:t>Moto</a:t>
                      </a:r>
                      <a:r>
                        <a:rPr b="1" lang="en-US" sz="2000" spc="-1" strike="noStrike" u="sng">
                          <a:solidFill>
                            <a:srgbClr val="a50021"/>
                          </a:solidFill>
                          <a:uFillTx/>
                          <a:latin typeface="Times New Roman"/>
                          <a:hlinkClick r:id="rId10"/>
                        </a:rPr>
                        <a:t>-</a:t>
                      </a:r>
                      <a:r>
                        <a:rPr b="1" lang="en-US" sz="2000" spc="-1" strike="noStrike" u="sng">
                          <a:solidFill>
                            <a:srgbClr val="a50021"/>
                          </a:solidFill>
                          <a:uFillTx/>
                          <a:latin typeface="Times New Roman"/>
                          <a:hlinkClick r:id="rId11"/>
                        </a:rPr>
                        <a:t>r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a50021"/>
                          </a:solidFill>
                          <a:uFillTx/>
                          <a:latin typeface="Courier New"/>
                          <a:hlinkClick r:id="rId12"/>
                        </a:rPr>
                        <a:t>www.mot.com/SPS/DSP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a50021"/>
                          </a:solidFill>
                          <a:uFillTx/>
                          <a:latin typeface="Courier New"/>
                          <a:hlinkClick r:id="rId13"/>
                        </a:rPr>
                        <a:t>www.mot.com/SPS/DSP/developers/thirdparty.html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ust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a50021"/>
                          </a:solidFill>
                          <a:uFillTx/>
                          <a:latin typeface="Times New Roman"/>
                          <a:hlinkClick r:id="rId14"/>
                        </a:rPr>
                        <a:t>Analog De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a50021"/>
                          </a:solidFill>
                          <a:uFillTx/>
                          <a:latin typeface="Courier New"/>
                          <a:hlinkClick r:id="rId15"/>
                        </a:rPr>
                        <a:t>www.analog.com/SHARC_2154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ww.analog.com/publications/press/products/3rd_party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Boston/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ust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7696080" y="237816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101"/>
                </a:solidFill>
                <a:latin typeface="Times New Roman"/>
              </a:rPr>
              <a:t>Market</a:t>
            </a:r>
            <a:br>
              <a:rPr sz="2400"/>
            </a:br>
            <a:r>
              <a:rPr b="1" lang="en-US" sz="2400" spc="-1" strike="noStrike">
                <a:solidFill>
                  <a:srgbClr val="ff0101"/>
                </a:solidFill>
                <a:latin typeface="Times New Roman"/>
              </a:rPr>
              <a:t>Share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1598760" y="43419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g Four Producers of DS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26668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DSP Information / Third-Party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630864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ere Systems was formerly the Lucent Tech. Microelectronic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FE8B-0146-49D4-8939-9349067F11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Texas Instrument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rst commercially successful DSP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as Instruments TMS32010 in 19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vey Cragon (UT Austin) was a key part of design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SP processors shippe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50 million in 1999 (estim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SP processor revenu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.1 Billion of $4.4 Billion total (48% share) in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.7 Billion of $6.1 Billion total (44% share)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odern DSP family is TMS 320C6000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-bit instructions: Very Long Instruction Word (VLI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SL modems, 3G basestations, video code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D602-C913-44A0-AF11-3345E2BD0B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8120" y="1600200"/>
            <a:ext cx="5029200" cy="441972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1828800"/>
            <a:ext cx="1524240" cy="685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828800"/>
            <a:ext cx="1523880" cy="685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5257800"/>
            <a:ext cx="114300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1905480"/>
            <a:ext cx="160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Program 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1980720"/>
            <a:ext cx="125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Data 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0800" y="2133360"/>
            <a:ext cx="10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or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251460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24816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27432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27432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248520" y="2971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429000" y="29718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590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200040" y="25909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30481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2514600"/>
            <a:ext cx="75960" cy="228600"/>
          </a:xfrm>
          <a:prstGeom prst="upDownArrow">
            <a:avLst>
              <a:gd name="adj1" fmla="val 50000"/>
              <a:gd name="adj2" fmla="val 5991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6553080" y="289548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819520"/>
            <a:ext cx="114300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276720"/>
            <a:ext cx="114300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14300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4267080"/>
            <a:ext cx="114300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4724280"/>
            <a:ext cx="114300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6553080" y="335268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6553080" y="380988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6553080" y="441936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6553080" y="487656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6553080" y="533376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50000" y="2666520"/>
            <a:ext cx="155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Internal B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3200400"/>
            <a:ext cx="2286000" cy="2209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502920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3200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3200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320040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41148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36576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11920" y="502884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Control Re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 rot="16200000">
            <a:off x="4983480" y="3947040"/>
            <a:ext cx="14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Regs (B0-B1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 rot="16200000">
            <a:off x="3079800" y="394704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Regs (A0-A1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20200" y="3199320"/>
            <a:ext cx="5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9480" y="3656520"/>
            <a:ext cx="6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32440" y="41137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24520" y="457092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81960" y="3199320"/>
            <a:ext cx="5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D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81600" y="3656520"/>
            <a:ext cx="6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94560" y="41137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86640" y="457092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297180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297180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26640" y="5485320"/>
            <a:ext cx="68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47920" y="27432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2743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3429000"/>
            <a:ext cx="1371600" cy="1676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2971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438280" y="26668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12920" y="23612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438280" y="2895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16520" y="304704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41760" y="3735000"/>
            <a:ext cx="977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Exte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-Sy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-Asy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28400" y="2824560"/>
            <a:ext cx="1162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D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Serial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Host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Boot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Ti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Pwr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6000 Instruction Set Architectur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1370520"/>
            <a:ext cx="1743120" cy="703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Simplified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5200" y="5341680"/>
            <a:ext cx="235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C6200 fixed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C6400 fixed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C6700 floating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5BA2-B196-4E2F-B432-1877342805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6000 Instruction Set Architectur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ddress 8/16/32 bit data + 64 bit data on C67x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oad-store RISC architecture with 2 data path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32-bit registers per data path (A0-15 and B0-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 instructions (C62x) and 79 instructions (C67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wo parallel data paths with 32-bit RISC uni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unit - 32-bit address calculations (modulo, linea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er unit - 16 bit x 16 bit with 32-bi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 unit - 40-bit (saturation) arithmetic &amp; comp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fter unit - 32-bit integer ALU and 40-bit shi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ly executed based on registers A1-2 &amp; B0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with two 16-bit halfwords packed into 32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B0B0-BEE3-42AA-978B-C3B0C270D9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6000 Functional Unit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.M multiplication unit</a:t>
            </a:r>
            <a:endParaRPr b="1" lang="en-US" sz="32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bit x 16 bit signed/unsigned packed/unpa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.L arithmetic logic unit</a:t>
            </a:r>
            <a:endParaRPr b="1" lang="en-US" sz="32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sons and logic operations (and, or, and x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uration arithmetic and absolut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.S shifter uni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manipulation (set, get, shift, rotate) and bran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 and packed 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.D data unit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/store to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 and pointer arithm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7AA6-E6AE-4E73-9A99-4F71A12552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6000 Register Accesses Restriction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ach function unit has read/write por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ath 1 (2) units read/write A (B)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ath 2 (1) can read one A (B) register per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40 bit words stored in adjacent even/odd registe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extended precision accu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40-bit result can be written per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40-bit read cannot occur in same cycle as 40-bit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wo simultaneous memory accesses cannot use registers of same register file as address pointe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o more than four reads per register per cycl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867A-CADE-474F-80D9-84C43E0FE3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6000 Disadvantage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o acceleration for variable length decod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of computation for MPEG-2 decoding on C6x i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ion available in C6400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Very deep pipelin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branch is in the pipeline, interrupts are disabled: avoid branches by using conditional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hardware protection against pipeline hazards: programmer and software tools must guard agains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o hardware looping or bit-reversed address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40-bit accumulation incurs performance penalt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o status register: must emulate status bits other than saturation bit (.L unit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F984-3618-4569-9863-8E124DD853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01:42:33Z</dcterms:created>
  <dc:creator>Brian L. Evans</dc:creator>
  <dc:description/>
  <dc:language>en-US</dc:language>
  <cp:lastModifiedBy>bevans</cp:lastModifiedBy>
  <cp:lastPrinted>2001-01-11T04:38:15Z</cp:lastPrinted>
  <dcterms:modified xsi:type="dcterms:W3CDTF">2003-12-16T20:49:54Z</dcterms:modified>
  <cp:revision>235</cp:revision>
  <dc:subject/>
  <dc:title>Linear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ece.utexas.ed/~bevans</vt:lpwstr>
  </property>
  <property fmtid="{D5CDD505-2E9C-101B-9397-08002B2CF9AE}" pid="9" name="LinkColor">
    <vt:r8>16711782</vt:r8>
  </property>
  <property fmtid="{D5CDD505-2E9C-101B-9397-08002B2CF9AE}" pid="10" name="MailAddress">
    <vt:lpwstr>bevans@ece.utexa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bevans\ee313s01\07_Discrete_Time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