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151-530A-4B7C-B608-051B2067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30A-B4F7-4803-8167-CBBB76AC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A81-0527-4D99-B366-8E2D2D8A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127-E0E7-4E4E-BDCD-6E9AD292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B0C-FACA-4A17-93A7-1EDBED71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009-CC3A-4435-9510-9470B9E7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E19-4796-4B7A-8078-3EDECF38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4CD-3147-46A4-AE81-7E9AA314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B90-3F9B-4C51-9B43-D977DFF5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600-5A94-48FD-8AC7-2DD31A1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4D9-4DF9-46D8-8372-73A7C20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D78-067F-4177-A670-28897649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 - </a:t>
            </a:r>
            <a:fld id="{987DCB4F-8E61-42C7-833C-302F180B9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ative Signal Processing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vi Bharg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atory of Comput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and Computer Engineering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2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0F8-04D4-4EEA-84AB-DB9326EE07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lternative Dot-Product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n certain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DOTPROD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77320" cy="37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2F2-FFE2-440C-9BE2-C122A4C3E06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lternative Dot-Product (cont.)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eaving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DOTPROD4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458200" cy="32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BBE-3D79-4F7D-BCC3-BEE58BA49B4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Support for NSP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type of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 speed for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do too much, but getting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macros, annotations, and “intrinsic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know about any new registers an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know about any new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4C0-1C57-4F09-A0F4-95F864A9A8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ommon Concer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ing SIM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ing and unpacking SIMD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uffling data within th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zzling”, “scatter and gath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ut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load and store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data types in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ding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3C7-5481-4EC8-89A4-CBADF41749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ew Instru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d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d maximum,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d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d Sum of absolute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-accum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: signed, data length,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s: reciprocal, reciprocal squar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f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1AA-0480-438A-A34A-6162A4AA9C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volution of NSP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Instruction Set (V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NSP extension found on Sun’s UltraSP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x86 NSP extensions, created for Intel’s Pen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N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of FP SIMD instructions on AMD’s K6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iv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CPU State for Motorola’s G4 Power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ing SIMD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x86 FP SIMD for Intel’s Pentium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4FC-B673-4CED-BC70-1352AC83F99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VIS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64-bit floating point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ormats “tailored for graphic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aturation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8-bit x 16-bit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assumptions about rounding &amp; number of significant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% increase in di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Macros and “MediaLib”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4F1-36A9-4B24-8822-E2C8251AF7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VIS Tailored for Graphic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pixels will be most commo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vispixels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334040" cy="1306800"/>
          </a:xfrm>
          <a:prstGeom prst="rect">
            <a:avLst/>
          </a:prstGeom>
          <a:ln w="0">
            <a:noFill/>
          </a:ln>
        </p:spPr>
      </p:pic>
      <p:pic>
        <p:nvPicPr>
          <p:cNvPr id="83" name="vispack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4743360" cy="180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1C2-593A-48B0-A420-2C01C35BF9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UltraSPARC with VI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85" name="vispipes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86728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32E-0906-4BAD-92AD-C6CA16C1C1C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3DNow! on K6-I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new SIMD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floating point SIMD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TCH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 and intra-element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32-bit FP instructions in one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3DNow! instructions possible p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cy of two cycles, throughput of on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ased to the FP registers (like MM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0A8-7E7C-430A-B396-EC95431AB30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new ways to support emerg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pplications have similar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tream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ht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centage of compu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omputations (e.g. 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303-6BF7-469A-9208-9401B6962D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3DNow! on the K6-I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89" name="k6pipe" descr=""/>
          <p:cNvPicPr/>
          <p:nvPr/>
        </p:nvPicPr>
        <p:blipFill>
          <a:blip r:embed="rId1"/>
          <a:stretch/>
        </p:blipFill>
        <p:spPr>
          <a:xfrm>
            <a:off x="1143000" y="1467000"/>
            <a:ext cx="7086600" cy="40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A23-686A-4F69-BCD6-76485623B5A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Streaming SIMD Extensi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 new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new 128-bit SSE registers (OS sup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wo SSE instructions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-cycle through existing 64-bi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icro-ops per SS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cy often two cycles or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scalar SSE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tch to various levels of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allocating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increase in di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691-DEB9-4490-AD47-E7B1D25918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entium II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3" name="p3-architecture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29400" cy="480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8C2-8FD6-48FD-8AC2-AB90D621E32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3DNow! on the Athl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switching overhead back to F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nstructions have one cycle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more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more integer SIMD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more data manipulation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“unique” DSP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FP to Integer word conversion with sign ext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FP negative accu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FP mixed negative-positive accu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integer word to FP co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swap double-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98F-96A4-4E4A-9B3E-008B0CCBE5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thl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7" name="k7-architecture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065-3795-4B98-96FA-D2ABA901CBF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ltivec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2 new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a-element: rotate, shift, max, min, sum a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: log2, 2 raised to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plicit SAD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32-entry, 128-bit vector register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-point and fixed-point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s have three source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B37-55A5-4F96-91C3-4E4BEA858D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ltivec (cont.)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ute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uffle data from any of the 32 byte locations in two operands to any of 16 byte locations in 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ute instructions - on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sub-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fixed-point - on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fixed-point - thre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-point - four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A33-6557-46EA-AD50-B3F2A29672E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pplications using 3DNow!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games and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t 4, Diablo 2, Quake III, Unre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video card d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ox, Diamond, ATI, nVidia, 3DLabs, 3df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s A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GL, DirectX, G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ly Speaking, LiveArt98, WinAMP, PicVideo, PC-Doctor, QuickTech, XingM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F79-331C-4940-B288-5CF05EEDD6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dditional Informati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X talk and additional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ce.utexas.edu/~ravib/mmxds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P talk outline and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ce.utexas.edu/~ravib/ns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90A-BA28-4A56-8298-76CA1E7113A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arget Applica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telephony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channel mod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process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cance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and video process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fic array process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private network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D8C-5F4A-47C8-A2F5-45EA0E2DC3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capabilities of general-purpose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s to the instruction set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s to the CPU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it Data Paralle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Instruction Multiple Data (SIM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operations using one function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81D-F734-4350-A133-8ED819BC3E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SIMD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e register to store many piece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imd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419720" cy="28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7D7-31C3-4430-B161-4AC5F36D94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acked Arithmetic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igned Packed Add with S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ddusw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029200" cy="21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1FD-039C-4B8D-8296-06BF3720BB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acked Arithmetic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Accum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maddwd" descr=""/>
          <p:cNvPicPr/>
          <p:nvPr/>
        </p:nvPicPr>
        <p:blipFill>
          <a:blip r:embed="rId1"/>
          <a:stretch/>
        </p:blipFill>
        <p:spPr>
          <a:xfrm>
            <a:off x="2133720" y="2238480"/>
            <a:ext cx="492444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3F3-0171-4F27-A3F7-F75AFBD075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MX Example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Vector Dot-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OTPROD1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83818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43A-1605-4DD4-AA6C-769BFA603C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Dot-Product (cont.)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3" name="DOTPROD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5808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90A-BBD7-4238-9351-80082D8A637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00:43:10Z</dcterms:created>
  <dc:creator>Ravi Bhargava</dc:creator>
  <dc:description/>
  <dc:language>en-US</dc:language>
  <cp:lastModifiedBy>bevans</cp:lastModifiedBy>
  <cp:lastPrinted>1999-11-22T06:05:31Z</cp:lastPrinted>
  <dcterms:modified xsi:type="dcterms:W3CDTF">2002-06-15T23:40:00Z</dcterms:modified>
  <cp:revision>12</cp:revision>
  <dc:subject/>
  <dc:title>Native Signal Processing</dc:title>
</cp:coreProperties>
</file>