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58013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3AC9-6106-462B-AB54-0D1688E48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7C6B-28BE-4ACD-B477-9AF374CBB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69D7-DA8D-47EF-9AFA-B7651E4D8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879E-0C2F-41D6-B87C-C0B808E3A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9C916-F007-4E82-997F-500BB5C92B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04CF0-DE50-416F-BC84-3A933D15DD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DDD4-98C2-4601-97B9-7655320281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E1112-3296-4313-9B8A-0FF6CD0CC0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A2858-4069-4157-A37B-BB16B0D33C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F9DCD-753A-4628-83CC-FE012EAB0A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B9F51-1E1E-462D-AC7E-5E8F29979A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4E0F-081D-41BD-A105-BBD31D4A3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2B7D-24C7-4D92-8180-B19D0FF297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3427B-E8E2-4781-8784-C8F0A0BAE6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F8976-E901-4AD4-8043-E9D8A6BC0D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ECCDB-082D-4BA5-B221-4D95B86650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6180-5966-4A70-9D56-B9F62DE139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152D-FE13-44C8-AC73-3A32E2256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F924-77D7-4533-BF38-6B9CBA526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76A4-6A5C-429E-B310-4C5478641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460C-091D-49C7-AB5F-5DF3F2280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97BD-6FC0-4C23-B431-99BFE45B0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BAA4-88D6-4D6C-9DF2-218317F17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A302-D606-4435-9A11-C2E1380CC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88920">
            <a:solidFill>
              <a:srgbClr val="c66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19320" y="1219320"/>
            <a:ext cx="6781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1722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lecommunications and Signal Processing Semi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 - </a:t>
            </a:r>
            <a:fld id="{6DAA7A42-242A-4B0D-BC76-51CC3D7C8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88920">
            <a:solidFill>
              <a:srgbClr val="c66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lecommunications and Signal Processing Semi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 - </a:t>
            </a:r>
            <a:fld id="{B3C99A32-B2BB-4CB3-AD07-F9747D01C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13372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6300"/>
                </a:solidFill>
                <a:latin typeface="Times New Roman"/>
              </a:rPr>
              <a:t>Ravi Bhargava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6300"/>
                </a:solidFill>
                <a:latin typeface="Times New Roman"/>
              </a:rPr>
              <a:t>Lizy K. John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6300"/>
                </a:solidFill>
                <a:latin typeface="Times New Roman"/>
              </a:rPr>
              <a:t>Brian L. Ev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6300"/>
                </a:solidFill>
                <a:latin typeface="Times New Roman"/>
              </a:rPr>
              <a:t>Ramesh Radhakrishnan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343400"/>
            <a:ext cx="76960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6300"/>
                </a:solidFill>
                <a:latin typeface="Times New Roman"/>
              </a:rPr>
              <a:t>The University of Texas at Au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6300"/>
                </a:solidFill>
                <a:latin typeface="Times New Roman"/>
              </a:rPr>
              <a:t>Department of Electrical and Computer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6300"/>
                </a:solidFill>
                <a:latin typeface="Times New Roman"/>
              </a:rPr>
              <a:t>* Laboratory of Computer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762120"/>
            <a:ext cx="792504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valuating MMX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Using DSP and Multimedia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3581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vember 22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E3465-E936-409A-AADC-451B1BF61E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 performance profiling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for “hot spo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e sections of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ntium with MM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U penal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ion m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performance cou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52680" y="762120"/>
            <a:ext cx="2286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VTune 2.5.1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5416-B384-415D-A1BC-ACA63DC9B7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54864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 of non-MMX to MMX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95480" y="762120"/>
            <a:ext cx="3429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Overall Results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5680" y="1398600"/>
          <a:ext cx="609732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398600"/>
                    <a:ext cx="60973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990720" y="1554120"/>
          <a:ext cx="7086600" cy="370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554120"/>
                    <a:ext cx="708660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16C4-F765-4B1E-87F0-7ACD747406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PEG and G722 show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lowd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linear speedup in MatV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-bit data, 6.6X speed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un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X related over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, Radar, JPEG, G7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X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unp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95480" y="762120"/>
            <a:ext cx="3429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Overall Results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F7E8-F073-4376-9F60-19268F6585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533412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MMX Instructions and MMX Instruction Mix. Speedup increasing from left to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14600" y="762120"/>
            <a:ext cx="4343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MX Instruction Mix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90720" y="1554120"/>
          <a:ext cx="7086600" cy="37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54120"/>
                    <a:ext cx="708660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9601-9A2A-4AB5-BF0E-0356725829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set s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: FIR, Radar, G722, JP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: IIR, Image, MatVec, F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ects MMX %, speed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” P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 50% MMX arithme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s to F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 version: 40% MMX, less speed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14600" y="762120"/>
            <a:ext cx="4343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MX Instruction Mix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7E68-0D9D-439A-955A-70F2D2AFBF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5334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 of Non-MMX Assembly to MM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3720" y="76212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Versus Optimized Code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90720" y="1554120"/>
          <a:ext cx="7086600" cy="37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54120"/>
                    <a:ext cx="708660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C603-3FF4-4CEA-8CE8-8952B29D47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MMX version 1.98X f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ut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erted MMX code 1.6X f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call overhe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8X more in MMX 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X Maintenance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ing for pr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sequential data ac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0" y="762120"/>
            <a:ext cx="4648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loser Look at JPEG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0C0C-93CE-4EA6-95C5-A62DC1B8CC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lowdown 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PEG and G7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, contiguou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 to 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able at a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ary function call over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-coded assembly, inl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19520" y="762120"/>
            <a:ext cx="3504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ome Problems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BFD7-963F-4DBA-BB20-55C4B0E447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dup available with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s: 1.25 to 6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: 1.21 to 5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us optimized FP: 1.25 to 1.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Characteristics of MM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tatic instruction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dynamic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memory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than 50% of MMX is arithm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438280" y="762120"/>
            <a:ext cx="4343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ummary of Results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DB2B-F51D-4012-92D4-29835707F9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concludes this portion of the talk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slides provide further information on: methodology, benchmarks, results, and additional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C7C4-F396-40F7-A1A8-A61590982D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133720"/>
            <a:ext cx="792504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talk is a condensed version of a presentation given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6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31st International Symposium on Micro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MICRO-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llas,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vember 30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ece.utexas.edu/~ravib/mmxds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762120"/>
            <a:ext cx="792504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valuating MMX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Using DSP and Multimedia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E290A-BE67-47FC-9F6B-DB6B689B7B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real 1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om-lik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-line MMX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Performance Cou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8% MMX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-time. What is speedu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34X more frame/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rends as bench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D0E9-1277-4FD1-B2A0-AB99FA2E3C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“Important”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 Inputs and Out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S Effects Meas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-tim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057400" y="762120"/>
            <a:ext cx="5029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SP-like Environment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C596-F47D-4D0C-B438-A5915BD055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unctions use MM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-bit and 16-bi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in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-specific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Processing Library 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tion Primitives Library 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Processing Library 2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828800" y="762120"/>
            <a:ext cx="5486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ntel Assembly Libraries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2CA9-5010-4DEB-A1FB-D17B6EF237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MMX SNR: 31.05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X SNR: 31.04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: No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72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MMX SNR: 5.46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X SNR: 5.18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pler R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than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78CD-51B6-429E-A8C7-4D93D4E57E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ed Progra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D D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4%  of executio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Block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x8 blocks of pix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362320" y="762120"/>
            <a:ext cx="4419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n Example: JPEG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BF58-F134-4317-8F20-EDD3EB74C8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D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 only has 1D D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n different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enough data paralle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con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d fill 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057400" y="762120"/>
            <a:ext cx="5257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JPEG: Inserting MMX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1995-788B-4B40-851C-53B7DB0877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 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te Impulse Response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ing averages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one input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MMX: 32-bit 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X: 16-bit fixed-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length is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E0F8-2D54-407E-950B-2932D28E4B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Fourier 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s discrete Fourier 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96-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-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le FFT to MMX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MMX: 32-bit 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X: 16-bit fixed-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E79C-B306-4F37-AA1F-56E098AA40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V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&amp; Vector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12x512 matrix times 512-entry v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t product of two 512-entry 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versions: 16-bi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2B84-1386-4183-A8CB-E3EAC43AD7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inite Impulse Response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terworth coeffic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orm, Bandp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 length of 8, 17 coeffic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high pr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versions un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7D77-8AE7-4A58-AC6E-42C5D3CA1C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9072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7 New assembly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regi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ased to FP regi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MS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mpil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9880" y="762120"/>
            <a:ext cx="1447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MX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E939-DFB1-4497-A5AC-9A3C2F1649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ppler Radar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ract complex echo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ing stationary tar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s power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inant frequency from peak of F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-point, in-place F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7C61-1190-4C57-9472-EB4AE7C2A8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.722 Speech En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signal: 16-bit, 16 k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signal: 8-bit, 8 k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kb speech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6E0D-27EF-4758-8B1D-725D60E534A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, 16, 32, 64-bit fixed-point 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ing, unpacking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d 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-bit multiply-accumu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ation arithmet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9880" y="762120"/>
            <a:ext cx="1447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MX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D091-8B5C-4FFA-ABD3-96CF59A578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evaluation of MM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speedup is pos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radeoffs are involv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, complexity, performance, pr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zation of MMX worklo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ion mix, memory access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429000" y="762120"/>
            <a:ext cx="2362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otivation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3CD0-A8B0-46B4-A354-69EAB12C88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907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te Impulse Response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, general fil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Fourier 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EG, spectral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&amp;Vector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inite Impulse Response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o, L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733920" y="762120"/>
            <a:ext cx="1752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Kernels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056E-9E33-4143-B521-4F54FFEE5B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PEG Image 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map Image to JPEG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D D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.722 Speech En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ssion, Encoding of Spe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P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Process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 Color Manip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rithm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pler Radar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rithmetic, F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00400" y="685800"/>
            <a:ext cx="2743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pplications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766B-1354-44EF-AB05-D723B4D90D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 non-MMX bench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P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MMX 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up like non-MM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Intel Assembly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Visual C++ 5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e with VTune 2.5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8120" y="76212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ethodology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998A-420A-4F80-828B-1FC7A02DA1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t just function sw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input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-point versus floating-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-bit versus 32-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dering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Arrangement of filter coeffic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w-order versus column-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800" y="762120"/>
            <a:ext cx="5486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reating MMX Benchmarks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62AE-7821-4EC9-ADDE-0733C44D0F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8T23:36:37Z</dcterms:created>
  <dc:creator>Ravi Bhargava</dc:creator>
  <dc:description/>
  <dc:language>en-US</dc:language>
  <cp:lastModifiedBy>bevans</cp:lastModifiedBy>
  <cp:lastPrinted>1998-11-20T06:31:48Z</cp:lastPrinted>
  <dcterms:modified xsi:type="dcterms:W3CDTF">2002-06-15T23:51:26Z</dcterms:modified>
  <cp:revision>2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Users\ravi\micro\docs\present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