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30280" y="6205680"/>
            <a:ext cx="177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Milos Milosev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958160" y="5648400"/>
            <a:ext cx="1030320" cy="10303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554040" y="6100920"/>
            <a:ext cx="71056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54040" y="1109520"/>
            <a:ext cx="71056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990720"/>
            <a:ext cx="7697880" cy="1143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 with DMT Mod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46400" y="2590920"/>
            <a:ext cx="4647960" cy="13716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50000">
                <a:srgbClr val="ffffff"/>
              </a:gs>
              <a:gs pos="100000">
                <a:srgbClr val="009900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os Milosev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versity of Texas at Aus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14840" y="419112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314880" y="60958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tober 1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667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Times New Roman"/>
              </a:rPr>
              <a:t>Frequency Offset Cor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6280" y="1394280"/>
            <a:ext cx="798192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 that the induced del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one sample period T a sample is skipped/duplicated in the cyclic pre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djusted according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19200" y="3022200"/>
            <a:ext cx="6543720" cy="2890080"/>
            <a:chOff x="619200" y="3022200"/>
            <a:chExt cx="6543720" cy="2890080"/>
          </a:xfrm>
        </p:grpSpPr>
        <p:sp>
          <p:nvSpPr>
            <p:cNvPr id="294" name=""/>
            <p:cNvSpPr/>
            <p:nvPr/>
          </p:nvSpPr>
          <p:spPr>
            <a:xfrm>
              <a:off x="2104920" y="3600360"/>
              <a:ext cx="1685880" cy="36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N s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04920" y="3600360"/>
              <a:ext cx="381240" cy="36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04920" y="4610160"/>
              <a:ext cx="381240" cy="36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790800" y="3962520"/>
              <a:ext cx="381240" cy="3618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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477040" y="3962520"/>
              <a:ext cx="380880" cy="36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90800" y="4971960"/>
              <a:ext cx="381240" cy="3621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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77040" y="4971960"/>
              <a:ext cx="380880" cy="36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04920" y="4610160"/>
              <a:ext cx="1685880" cy="36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N s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0800" y="3962520"/>
              <a:ext cx="1686240" cy="36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N s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477040" y="3962520"/>
              <a:ext cx="1685880" cy="36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N s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90800" y="4971960"/>
              <a:ext cx="1686240" cy="36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N s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77040" y="4971960"/>
              <a:ext cx="1685880" cy="36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N sa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90800" y="4610160"/>
              <a:ext cx="74880" cy="72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16280" y="3600360"/>
              <a:ext cx="74520" cy="72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7640" y="3429720"/>
              <a:ext cx="1486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uplicate 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9200" y="4574160"/>
              <a:ext cx="148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kip 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62440" y="3022200"/>
              <a:ext cx="177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uplicated s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124080" y="5574960"/>
              <a:ext cx="177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kipped s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754440" y="3349800"/>
              <a:ext cx="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838680" y="5390640"/>
              <a:ext cx="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667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Times New Roman"/>
              </a:rPr>
              <a:t>Ad Hoc Symbol Synchro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0000" y="920160"/>
            <a:ext cx="8664480" cy="26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L criterion not optimal; optimal max. capacity criterion -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minimizing average ICI + ISI power V(D) </a:t>
            </a:r>
            <a:r>
              <a:rPr b="0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(n)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(n+D)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window w(n) that will satisfy the desired criter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knowledge of h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824360" y="2468520"/>
            <a:ext cx="3467160" cy="1510560"/>
            <a:chOff x="4824360" y="2468520"/>
            <a:chExt cx="3467160" cy="1510560"/>
          </a:xfrm>
        </p:grpSpPr>
        <p:sp>
          <p:nvSpPr>
            <p:cNvPr id="317" name=""/>
            <p:cNvSpPr/>
            <p:nvPr/>
          </p:nvSpPr>
          <p:spPr>
            <a:xfrm>
              <a:off x="6365880" y="2651040"/>
              <a:ext cx="468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29040" y="3527280"/>
              <a:ext cx="34052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67320" y="28591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48200" y="2851200"/>
              <a:ext cx="1424160" cy="671400"/>
            </a:xfrm>
            <a:custGeom>
              <a:avLst/>
              <a:gdLst/>
              <a:ahLst/>
              <a:rect l="l" t="t" r="r" b="b"/>
              <a:pathLst>
                <a:path w="897" h="423">
                  <a:moveTo>
                    <a:pt x="897" y="0"/>
                  </a:moveTo>
                  <a:cubicBezTo>
                    <a:pt x="865" y="46"/>
                    <a:pt x="851" y="204"/>
                    <a:pt x="701" y="274"/>
                  </a:cubicBezTo>
                  <a:cubicBezTo>
                    <a:pt x="551" y="344"/>
                    <a:pt x="146" y="392"/>
                    <a:pt x="0" y="42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676920" y="2855880"/>
              <a:ext cx="1424160" cy="671400"/>
            </a:xfrm>
            <a:custGeom>
              <a:avLst/>
              <a:gdLst/>
              <a:ahLst/>
              <a:rect l="l" t="t" r="r" b="b"/>
              <a:pathLst>
                <a:path w="897" h="423">
                  <a:moveTo>
                    <a:pt x="897" y="0"/>
                  </a:moveTo>
                  <a:cubicBezTo>
                    <a:pt x="865" y="46"/>
                    <a:pt x="851" y="204"/>
                    <a:pt x="701" y="274"/>
                  </a:cubicBezTo>
                  <a:cubicBezTo>
                    <a:pt x="551" y="344"/>
                    <a:pt x="146" y="392"/>
                    <a:pt x="0" y="42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00880" y="2468520"/>
              <a:ext cx="419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(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662880" y="2851200"/>
              <a:ext cx="0" cy="666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10360" y="3735360"/>
              <a:ext cx="2171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indow for min ICI+I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24360" y="3125880"/>
              <a:ext cx="257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786800" y="3125880"/>
              <a:ext cx="504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N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29720" y="3602160"/>
              <a:ext cx="17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908600" y="4246560"/>
            <a:ext cx="3486240" cy="1630080"/>
            <a:chOff x="4908600" y="4246560"/>
            <a:chExt cx="3486240" cy="1630080"/>
          </a:xfrm>
        </p:grpSpPr>
        <p:sp>
          <p:nvSpPr>
            <p:cNvPr id="329" name=""/>
            <p:cNvSpPr/>
            <p:nvPr/>
          </p:nvSpPr>
          <p:spPr>
            <a:xfrm flipH="1">
              <a:off x="6440400" y="4419360"/>
              <a:ext cx="504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08600" y="5295600"/>
              <a:ext cx="34052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6880" y="46274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75560" y="4246560"/>
              <a:ext cx="419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(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51520" y="5389560"/>
              <a:ext cx="30481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indow for ad-hoc low-complexity esti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46760" y="4638600"/>
              <a:ext cx="0" cy="6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70600" y="4903560"/>
              <a:ext cx="171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23120" y="5379840"/>
              <a:ext cx="171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1155600" y="4405320"/>
            <a:ext cx="3454200" cy="1234080"/>
            <a:chOff x="1155600" y="4405320"/>
            <a:chExt cx="3454200" cy="1234080"/>
          </a:xfrm>
        </p:grpSpPr>
        <p:sp>
          <p:nvSpPr>
            <p:cNvPr id="338" name=""/>
            <p:cNvSpPr/>
            <p:nvPr/>
          </p:nvSpPr>
          <p:spPr>
            <a:xfrm>
              <a:off x="2692080" y="4421160"/>
              <a:ext cx="468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55600" y="5297400"/>
              <a:ext cx="339552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2413800" y="4740120"/>
              <a:ext cx="273240" cy="5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92080" y="4744800"/>
              <a:ext cx="273240" cy="5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28520" y="4405320"/>
              <a:ext cx="41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(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419120" y="5395680"/>
              <a:ext cx="27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indow for NDA ML estim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38440" y="5386320"/>
              <a:ext cx="17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09600" y="4995720"/>
              <a:ext cx="17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19040" y="4995720"/>
              <a:ext cx="17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27160" y="3294000"/>
            <a:ext cx="2192040" cy="1711440"/>
            <a:chOff x="227160" y="3294000"/>
            <a:chExt cx="2192040" cy="1711440"/>
          </a:xfrm>
        </p:grpSpPr>
        <p:grpSp>
          <p:nvGrpSpPr>
            <p:cNvPr id="348" name=""/>
            <p:cNvGrpSpPr/>
            <p:nvPr/>
          </p:nvGrpSpPr>
          <p:grpSpPr>
            <a:xfrm>
              <a:off x="227160" y="3387960"/>
              <a:ext cx="2192040" cy="1617480"/>
              <a:chOff x="227160" y="3387960"/>
              <a:chExt cx="2192040" cy="1617480"/>
            </a:xfrm>
          </p:grpSpPr>
          <p:sp>
            <p:nvSpPr>
              <p:cNvPr id="349" name=""/>
              <p:cNvSpPr/>
              <p:nvPr/>
            </p:nvSpPr>
            <p:spPr>
              <a:xfrm>
                <a:off x="227160" y="4229280"/>
                <a:ext cx="21920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55360" y="3387960"/>
                <a:ext cx="1377720" cy="1617480"/>
              </a:xfrm>
              <a:custGeom>
                <a:avLst/>
                <a:gdLst/>
                <a:ahLst/>
                <a:rect l="l" t="t" r="r" b="b"/>
                <a:pathLst>
                  <a:path w="868" h="1019">
                    <a:moveTo>
                      <a:pt x="0" y="531"/>
                    </a:moveTo>
                    <a:cubicBezTo>
                      <a:pt x="26" y="527"/>
                      <a:pt x="114" y="530"/>
                      <a:pt x="158" y="501"/>
                    </a:cubicBezTo>
                    <a:cubicBezTo>
                      <a:pt x="202" y="472"/>
                      <a:pt x="229" y="277"/>
                      <a:pt x="262" y="356"/>
                    </a:cubicBezTo>
                    <a:cubicBezTo>
                      <a:pt x="295" y="435"/>
                      <a:pt x="335" y="1019"/>
                      <a:pt x="356" y="973"/>
                    </a:cubicBezTo>
                    <a:cubicBezTo>
                      <a:pt x="377" y="927"/>
                      <a:pt x="374" y="164"/>
                      <a:pt x="391" y="82"/>
                    </a:cubicBezTo>
                    <a:cubicBezTo>
                      <a:pt x="408" y="0"/>
                      <a:pt x="381" y="407"/>
                      <a:pt x="460" y="482"/>
                    </a:cubicBezTo>
                    <a:cubicBezTo>
                      <a:pt x="539" y="557"/>
                      <a:pt x="783" y="521"/>
                      <a:pt x="868" y="53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6360" y="4186440"/>
                <a:ext cx="7416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42960" y="4191120"/>
                <a:ext cx="7416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979200" y="417708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428480" y="361656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23720" y="461988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197000" y="3884760"/>
                <a:ext cx="7416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598400" y="4129200"/>
                <a:ext cx="7416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876320" y="4194360"/>
                <a:ext cx="7416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44560" y="3733920"/>
                <a:ext cx="323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h(t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419040" y="3672000"/>
              <a:ext cx="185040" cy="438120"/>
            </a:xfrm>
            <a:prstGeom prst="downArrow">
              <a:avLst>
                <a:gd name="adj1" fmla="val 50000"/>
                <a:gd name="adj2" fmla="val 59193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3880" y="32940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977760" y="2776680"/>
            <a:ext cx="6944040" cy="376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2776680"/>
            <a:ext cx="323640" cy="37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35480" y="2776680"/>
            <a:ext cx="323640" cy="37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78600" y="2776680"/>
            <a:ext cx="323640" cy="37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921360" y="2776680"/>
            <a:ext cx="324000" cy="37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92360" y="3252960"/>
            <a:ext cx="323640" cy="9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35480" y="3252960"/>
            <a:ext cx="323640" cy="9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78600" y="3252960"/>
            <a:ext cx="323640" cy="9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11480" y="3252960"/>
            <a:ext cx="324000" cy="9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54600" y="3252960"/>
            <a:ext cx="324000" cy="9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97720" y="3252960"/>
            <a:ext cx="323640" cy="9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387520" y="3503520"/>
            <a:ext cx="352440" cy="211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30640" y="3503520"/>
            <a:ext cx="352440" cy="211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73760" y="3503520"/>
            <a:ext cx="352440" cy="211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30640" y="4051440"/>
            <a:ext cx="352440" cy="210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63720" y="3351240"/>
            <a:ext cx="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97120" y="3351240"/>
            <a:ext cx="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49960" y="3351240"/>
            <a:ext cx="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40640" y="3351240"/>
            <a:ext cx="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97520" y="3351240"/>
            <a:ext cx="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54400" y="3351240"/>
            <a:ext cx="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63720" y="3621240"/>
            <a:ext cx="52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06840" y="3621240"/>
            <a:ext cx="52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49960" y="3621240"/>
            <a:ext cx="52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739600" y="3629160"/>
            <a:ext cx="51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482720" y="3629160"/>
            <a:ext cx="51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225840" y="3621240"/>
            <a:ext cx="51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65360" y="3714840"/>
            <a:ext cx="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65360" y="39369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222800" y="393696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394160" y="3714840"/>
            <a:ext cx="1657440" cy="336240"/>
            <a:chOff x="4394160" y="3714840"/>
            <a:chExt cx="1657440" cy="336240"/>
          </a:xfrm>
        </p:grpSpPr>
        <p:sp>
          <p:nvSpPr>
            <p:cNvPr id="393" name=""/>
            <p:cNvSpPr/>
            <p:nvPr/>
          </p:nvSpPr>
          <p:spPr>
            <a:xfrm>
              <a:off x="6051600" y="3714840"/>
              <a:ext cx="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94160" y="3936960"/>
              <a:ext cx="16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94160" y="393696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4299120" y="3714840"/>
            <a:ext cx="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1692360" y="248580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3435480" y="248580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178600" y="248580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6921360" y="248580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92360" y="2604960"/>
            <a:ext cx="1743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35480" y="2604960"/>
            <a:ext cx="1743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78600" y="2604960"/>
            <a:ext cx="1742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25520" y="2274840"/>
            <a:ext cx="70200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49560" y="2274840"/>
            <a:ext cx="7016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73600" y="2274840"/>
            <a:ext cx="7016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7245360" y="248580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7245000" y="260496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21360" y="2274840"/>
            <a:ext cx="32400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77000" y="2882880"/>
            <a:ext cx="781200" cy="138240"/>
          </a:xfrm>
          <a:custGeom>
            <a:avLst/>
            <a:gdLst>
              <a:gd name="textAreaLeft" fmla="*/ 122040 w 781200"/>
              <a:gd name="textAreaRight" fmla="*/ 683640 w 781200"/>
              <a:gd name="textAreaTop" fmla="*/ 34560 h 138240"/>
              <a:gd name="textAreaBottom" fmla="*/ 103680 h 138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00240" y="1785960"/>
            <a:ext cx="0" cy="2476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00240" y="4262400"/>
            <a:ext cx="49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00240" y="1785960"/>
            <a:ext cx="49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14360" y="1892160"/>
            <a:ext cx="7016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483080" y="4149720"/>
            <a:ext cx="51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97520" y="4051440"/>
            <a:ext cx="7016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977760" y="4738680"/>
            <a:ext cx="746136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an AWGN likelihood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produces the function max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useful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667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Times New Roman"/>
              </a:rPr>
              <a:t>Maximum Likelihood Symbol Synchro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667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Times New Roman"/>
              </a:rPr>
              <a:t>Sync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6400" y="1359360"/>
            <a:ext cx="80362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 symbols embedded in the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determine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he symbo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trans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SL they occur every 6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 (T1.4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d by pseudorandom binary signals mapped to 4-bit conste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determined using correlation max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98400" y="254160"/>
            <a:ext cx="7696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Times New Roman"/>
              </a:rPr>
              <a:t>Discrete Multitone Mod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90520" y="1981080"/>
            <a:ext cx="8564040" cy="2362320"/>
            <a:chOff x="290520" y="1981080"/>
            <a:chExt cx="8564040" cy="2362320"/>
          </a:xfrm>
        </p:grpSpPr>
        <p:sp>
          <p:nvSpPr>
            <p:cNvPr id="49" name=""/>
            <p:cNvSpPr/>
            <p:nvPr/>
          </p:nvSpPr>
          <p:spPr>
            <a:xfrm>
              <a:off x="1169640" y="2057400"/>
              <a:ext cx="609480" cy="2286000"/>
            </a:xfrm>
            <a:prstGeom prst="rect">
              <a:avLst/>
            </a:prstGeom>
            <a:solidFill>
              <a:srgbClr val="99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85920" y="2057400"/>
              <a:ext cx="609120" cy="2286000"/>
            </a:xfrm>
            <a:prstGeom prst="rect">
              <a:avLst/>
            </a:prstGeom>
            <a:solidFill>
              <a:srgbClr val="99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/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792400" y="1981080"/>
              <a:ext cx="609480" cy="228600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/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08680" y="1981080"/>
              <a:ext cx="609120" cy="228600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11200" y="3027240"/>
              <a:ext cx="456840" cy="381240"/>
            </a:xfrm>
            <a:prstGeom prst="rect">
              <a:avLst/>
            </a:prstGeom>
            <a:solidFill>
              <a:srgbClr val="99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74840" y="3027240"/>
              <a:ext cx="45684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Times New Roman"/>
                </a:rPr>
                <a:t>h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38480" y="3027240"/>
              <a:ext cx="456840" cy="3812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79480" y="3218040"/>
              <a:ext cx="40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95400" y="3218040"/>
              <a:ext cx="40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59040" y="3218040"/>
              <a:ext cx="40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22680" y="3218040"/>
              <a:ext cx="40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86320" y="3218040"/>
              <a:ext cx="40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02240" y="3218040"/>
              <a:ext cx="40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8280" y="3218040"/>
              <a:ext cx="44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18160" y="3218040"/>
              <a:ext cx="33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3465360" y="3408480"/>
              <a:ext cx="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181480" y="3408480"/>
              <a:ext cx="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47920" y="3956040"/>
              <a:ext cx="45684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98960" y="3960720"/>
              <a:ext cx="4568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56200" y="2938320"/>
              <a:ext cx="374400" cy="5860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E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0520" y="3044880"/>
              <a:ext cx="45684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Times New Roman"/>
                </a:rPr>
                <a:t>s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97720" y="3043080"/>
              <a:ext cx="4568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6600"/>
                  </a:solidFill>
                  <a:uFillTx/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0066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30960" y="3218040"/>
              <a:ext cx="30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387600" y="48736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MT Trans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5133960"/>
            <a:ext cx="1685880" cy="361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432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N s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5133960"/>
            <a:ext cx="380880" cy="361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14560" y="4667400"/>
            <a:ext cx="1685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5648400"/>
            <a:ext cx="1685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yclic pref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371600" y="550548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9800" y="1701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l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ger p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ractional p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ample synchron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alignment of RX and TX sampling c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s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ymbol synchro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res that proper symbols are fed to the F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03040"/>
            <a:ext cx="7696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Times New Roman"/>
              </a:rPr>
              <a:t>Delay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25760" y="216000"/>
            <a:ext cx="60069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Times New Roman"/>
              </a:rPr>
              <a:t>The Effect of </a:t>
            </a:r>
            <a:r>
              <a:rPr b="0" i="1" lang="en-US" sz="3200" spc="-1" strike="noStrike">
                <a:solidFill>
                  <a:srgbClr val="663300"/>
                </a:solidFill>
                <a:latin typeface="Symbol"/>
                <a:ea typeface="Symbol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79680" y="5052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9800" y="5064120"/>
            <a:ext cx="801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 synchronizer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ela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X symbol clock 2 samples w/r to                                    TX symbol 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16080" y="1439640"/>
            <a:ext cx="8537400" cy="3561120"/>
            <a:chOff x="316080" y="1439640"/>
            <a:chExt cx="8537400" cy="3561120"/>
          </a:xfrm>
        </p:grpSpPr>
        <p:sp>
          <p:nvSpPr>
            <p:cNvPr id="84" name=""/>
            <p:cNvSpPr/>
            <p:nvPr/>
          </p:nvSpPr>
          <p:spPr>
            <a:xfrm flipV="1">
              <a:off x="6208560" y="1439640"/>
              <a:ext cx="0" cy="13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479920" y="2181240"/>
              <a:ext cx="33735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08560" y="1662120"/>
              <a:ext cx="2486160" cy="969840"/>
            </a:xfrm>
            <a:custGeom>
              <a:avLst/>
              <a:gdLst/>
              <a:ahLst/>
              <a:rect l="l" t="t" r="r" b="b"/>
              <a:pathLst>
                <a:path w="1566" h="611">
                  <a:moveTo>
                    <a:pt x="0" y="320"/>
                  </a:moveTo>
                  <a:cubicBezTo>
                    <a:pt x="37" y="306"/>
                    <a:pt x="126" y="192"/>
                    <a:pt x="225" y="235"/>
                  </a:cubicBezTo>
                  <a:cubicBezTo>
                    <a:pt x="324" y="278"/>
                    <a:pt x="475" y="611"/>
                    <a:pt x="594" y="576"/>
                  </a:cubicBezTo>
                  <a:cubicBezTo>
                    <a:pt x="713" y="541"/>
                    <a:pt x="822" y="50"/>
                    <a:pt x="941" y="25"/>
                  </a:cubicBezTo>
                  <a:cubicBezTo>
                    <a:pt x="1060" y="0"/>
                    <a:pt x="1204" y="383"/>
                    <a:pt x="1308" y="427"/>
                  </a:cubicBezTo>
                  <a:cubicBezTo>
                    <a:pt x="1412" y="471"/>
                    <a:pt x="1512" y="319"/>
                    <a:pt x="1566" y="29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80120" y="213372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78480" y="199692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03840" y="204804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75560" y="22575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46920" y="24573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55000" y="25160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29600" y="22590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58120" y="19749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86720" y="16668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912080" y="184932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21398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23280" y="22845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7192800" y="143964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08560" y="2716200"/>
              <a:ext cx="9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99320" y="21398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14920" y="21398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336920" y="1989000"/>
              <a:ext cx="536400" cy="517680"/>
              <a:chOff x="4336920" y="1989000"/>
              <a:chExt cx="536400" cy="517680"/>
            </a:xfrm>
          </p:grpSpPr>
          <p:sp>
            <p:nvSpPr>
              <p:cNvPr id="104" name=""/>
              <p:cNvSpPr/>
              <p:nvPr/>
            </p:nvSpPr>
            <p:spPr>
              <a:xfrm>
                <a:off x="4336920" y="1989000"/>
                <a:ext cx="536400" cy="517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03520" y="2149560"/>
                <a:ext cx="43668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3828960" y="2087640"/>
              <a:ext cx="416160" cy="285840"/>
            </a:xfrm>
            <a:prstGeom prst="rightArrow">
              <a:avLst>
                <a:gd name="adj1" fmla="val 50000"/>
                <a:gd name="adj2" fmla="val 36398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6200000">
              <a:off x="4397400" y="2660400"/>
              <a:ext cx="415800" cy="285480"/>
            </a:xfrm>
            <a:prstGeom prst="rightArrow">
              <a:avLst>
                <a:gd name="adj1" fmla="val 50000"/>
                <a:gd name="adj2" fmla="val 36412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70520" y="2087640"/>
              <a:ext cx="415800" cy="285840"/>
            </a:xfrm>
            <a:prstGeom prst="rightArrow">
              <a:avLst>
                <a:gd name="adj1" fmla="val 50000"/>
                <a:gd name="adj2" fmla="val 36366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65440" y="3762360"/>
              <a:ext cx="21924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94000" y="2921040"/>
              <a:ext cx="1378080" cy="1617480"/>
            </a:xfrm>
            <a:custGeom>
              <a:avLst/>
              <a:gdLst/>
              <a:ahLst/>
              <a:rect l="l" t="t" r="r" b="b"/>
              <a:pathLst>
                <a:path w="868" h="1019">
                  <a:moveTo>
                    <a:pt x="0" y="531"/>
                  </a:moveTo>
                  <a:cubicBezTo>
                    <a:pt x="26" y="527"/>
                    <a:pt x="114" y="530"/>
                    <a:pt x="158" y="501"/>
                  </a:cubicBezTo>
                  <a:cubicBezTo>
                    <a:pt x="202" y="472"/>
                    <a:pt x="229" y="277"/>
                    <a:pt x="262" y="356"/>
                  </a:cubicBezTo>
                  <a:cubicBezTo>
                    <a:pt x="295" y="435"/>
                    <a:pt x="335" y="1019"/>
                    <a:pt x="356" y="973"/>
                  </a:cubicBezTo>
                  <a:cubicBezTo>
                    <a:pt x="377" y="927"/>
                    <a:pt x="374" y="164"/>
                    <a:pt x="391" y="82"/>
                  </a:cubicBezTo>
                  <a:cubicBezTo>
                    <a:pt x="408" y="0"/>
                    <a:pt x="381" y="407"/>
                    <a:pt x="460" y="482"/>
                  </a:cubicBezTo>
                  <a:cubicBezTo>
                    <a:pt x="539" y="557"/>
                    <a:pt x="783" y="521"/>
                    <a:pt x="868" y="5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45000" y="371952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81600" y="37242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17840" y="371016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67120" y="314964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62360" y="415296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35640" y="34178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37040" y="3662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14960" y="37274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83200" y="3267000"/>
              <a:ext cx="32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092240" y="1472760"/>
              <a:ext cx="0" cy="13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92240" y="2259000"/>
              <a:ext cx="264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92240" y="1838160"/>
              <a:ext cx="2486160" cy="812880"/>
            </a:xfrm>
            <a:custGeom>
              <a:avLst/>
              <a:gdLst/>
              <a:ahLst/>
              <a:rect l="l" t="t" r="r" b="b"/>
              <a:pathLst>
                <a:path w="1566" h="512">
                  <a:moveTo>
                    <a:pt x="0" y="253"/>
                  </a:moveTo>
                  <a:cubicBezTo>
                    <a:pt x="69" y="126"/>
                    <a:pt x="139" y="0"/>
                    <a:pt x="238" y="43"/>
                  </a:cubicBezTo>
                  <a:cubicBezTo>
                    <a:pt x="337" y="86"/>
                    <a:pt x="474" y="506"/>
                    <a:pt x="594" y="509"/>
                  </a:cubicBezTo>
                  <a:cubicBezTo>
                    <a:pt x="714" y="512"/>
                    <a:pt x="845" y="67"/>
                    <a:pt x="961" y="61"/>
                  </a:cubicBezTo>
                  <a:cubicBezTo>
                    <a:pt x="1077" y="55"/>
                    <a:pt x="1192" y="447"/>
                    <a:pt x="1293" y="474"/>
                  </a:cubicBezTo>
                  <a:cubicBezTo>
                    <a:pt x="1394" y="501"/>
                    <a:pt x="1521" y="267"/>
                    <a:pt x="1566" y="2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3800" y="2184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30480" y="19382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19200" y="19335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79400" y="221616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46440" y="24908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46320" y="25020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05080" y="220968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75000" y="19940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25560" y="198756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74960" y="22240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33720" y="24782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97240" y="24750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178000" y="14727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80960" y="2490840"/>
              <a:ext cx="465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6080" y="210024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ne 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5240" y="20098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52560" y="20098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58880" y="2905200"/>
              <a:ext cx="12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76680" y="3753000"/>
              <a:ext cx="0" cy="12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48440" y="3753000"/>
              <a:ext cx="0" cy="12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76680" y="4848120"/>
              <a:ext cx="157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17840" y="4538520"/>
              <a:ext cx="32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92240" y="2808360"/>
              <a:ext cx="10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53360" y="2373480"/>
              <a:ext cx="4651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14240" y="39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Times New Roman"/>
              </a:rPr>
              <a:t>The Effect of </a:t>
            </a:r>
            <a:r>
              <a:rPr b="0" i="1" lang="en-US" sz="3200" spc="-1" strike="noStrike">
                <a:solidFill>
                  <a:srgbClr val="6633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39400" y="1212840"/>
            <a:ext cx="6068520" cy="3606840"/>
            <a:chOff x="1139400" y="1212840"/>
            <a:chExt cx="6068520" cy="3606840"/>
          </a:xfrm>
        </p:grpSpPr>
        <p:grpSp>
          <p:nvGrpSpPr>
            <p:cNvPr id="149" name=""/>
            <p:cNvGrpSpPr/>
            <p:nvPr/>
          </p:nvGrpSpPr>
          <p:grpSpPr>
            <a:xfrm>
              <a:off x="1139400" y="1212840"/>
              <a:ext cx="1507320" cy="3606840"/>
              <a:chOff x="1139400" y="1212840"/>
              <a:chExt cx="1507320" cy="360684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139400" y="1212840"/>
                <a:ext cx="864360" cy="864360"/>
                <a:chOff x="1139400" y="1212840"/>
                <a:chExt cx="864360" cy="8643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49000" y="1212840"/>
                  <a:ext cx="0" cy="86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1139400" y="1769040"/>
                  <a:ext cx="86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139400" y="3954960"/>
                <a:ext cx="864360" cy="864360"/>
                <a:chOff x="1139400" y="3954960"/>
                <a:chExt cx="864360" cy="8643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449000" y="3954960"/>
                  <a:ext cx="0" cy="86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1139400" y="4511160"/>
                  <a:ext cx="86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1139400" y="2583360"/>
                <a:ext cx="864360" cy="864000"/>
                <a:chOff x="1139400" y="2583360"/>
                <a:chExt cx="864360" cy="864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449000" y="2583360"/>
                  <a:ext cx="0" cy="86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1139400" y="3139200"/>
                  <a:ext cx="86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2152080" y="1212840"/>
                <a:ext cx="494640" cy="3606840"/>
              </a:xfrm>
              <a:custGeom>
                <a:avLst/>
                <a:gdLst>
                  <a:gd name="textAreaLeft" fmla="*/ 0 w 494640"/>
                  <a:gd name="textAreaRight" fmla="*/ 178560 w 494640"/>
                  <a:gd name="textAreaTop" fmla="*/ 93960 h 3606840"/>
                  <a:gd name="textAreaBottom" fmla="*/ 3512880 h 360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681560" y="141552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681560" y="3297240"/>
                <a:ext cx="60480" cy="60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92400" y="42800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449360" y="1475640"/>
                <a:ext cx="232200" cy="29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449360" y="3139560"/>
                <a:ext cx="232200" cy="15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352520" y="4340520"/>
                <a:ext cx="96120" cy="17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972880" y="1629000"/>
              <a:ext cx="2431440" cy="2546640"/>
              <a:chOff x="2972880" y="1629000"/>
              <a:chExt cx="2431440" cy="2546640"/>
            </a:xfrm>
          </p:grpSpPr>
          <p:sp>
            <p:nvSpPr>
              <p:cNvPr id="167" name=""/>
              <p:cNvSpPr/>
              <p:nvPr/>
            </p:nvSpPr>
            <p:spPr>
              <a:xfrm>
                <a:off x="3155040" y="189720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168800" y="189720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182200" y="190620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282480" y="1897200"/>
                <a:ext cx="0" cy="20574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305680" y="1897200"/>
                <a:ext cx="0" cy="20574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282480" y="3849480"/>
                <a:ext cx="88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168800" y="3849480"/>
                <a:ext cx="113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70520" y="2016720"/>
                <a:ext cx="202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155040" y="2160720"/>
                <a:ext cx="2249280" cy="1478160"/>
              </a:xfrm>
              <a:custGeom>
                <a:avLst/>
                <a:gdLst/>
                <a:ahLst/>
                <a:rect l="l" t="t" r="r" b="b"/>
                <a:pathLst>
                  <a:path w="1751" h="1151">
                    <a:moveTo>
                      <a:pt x="0" y="587"/>
                    </a:moveTo>
                    <a:cubicBezTo>
                      <a:pt x="45" y="869"/>
                      <a:pt x="91" y="1151"/>
                      <a:pt x="151" y="1082"/>
                    </a:cubicBezTo>
                    <a:cubicBezTo>
                      <a:pt x="211" y="1013"/>
                      <a:pt x="293" y="210"/>
                      <a:pt x="361" y="173"/>
                    </a:cubicBezTo>
                    <a:cubicBezTo>
                      <a:pt x="429" y="136"/>
                      <a:pt x="480" y="805"/>
                      <a:pt x="559" y="861"/>
                    </a:cubicBezTo>
                    <a:cubicBezTo>
                      <a:pt x="638" y="917"/>
                      <a:pt x="740" y="574"/>
                      <a:pt x="833" y="511"/>
                    </a:cubicBezTo>
                    <a:cubicBezTo>
                      <a:pt x="926" y="448"/>
                      <a:pt x="1046" y="405"/>
                      <a:pt x="1118" y="482"/>
                    </a:cubicBezTo>
                    <a:cubicBezTo>
                      <a:pt x="1190" y="559"/>
                      <a:pt x="1211" y="1046"/>
                      <a:pt x="1264" y="971"/>
                    </a:cubicBezTo>
                    <a:cubicBezTo>
                      <a:pt x="1317" y="896"/>
                      <a:pt x="1359" y="68"/>
                      <a:pt x="1433" y="34"/>
                    </a:cubicBezTo>
                    <a:cubicBezTo>
                      <a:pt x="1507" y="0"/>
                      <a:pt x="1661" y="645"/>
                      <a:pt x="1706" y="767"/>
                    </a:cubicBezTo>
                    <a:cubicBezTo>
                      <a:pt x="1751" y="889"/>
                      <a:pt x="1704" y="767"/>
                      <a:pt x="1706" y="767"/>
                    </a:cubicBezTo>
                    <a:cubicBezTo>
                      <a:pt x="1708" y="767"/>
                      <a:pt x="1716" y="767"/>
                      <a:pt x="1718" y="76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585240" y="3868560"/>
                <a:ext cx="273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31880" y="3868560"/>
                <a:ext cx="72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o FF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70320" y="1629000"/>
                <a:ext cx="1619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ransmitted symb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972880" y="2258280"/>
                <a:ext cx="19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3273480" y="2258280"/>
                <a:ext cx="19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465720" y="2144520"/>
                <a:ext cx="432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=.5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133080" y="294408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52600" y="3494880"/>
                <a:ext cx="60480" cy="604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404520" y="317772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49280" y="1212840"/>
              <a:ext cx="1358640" cy="3606840"/>
              <a:chOff x="5849280" y="1212840"/>
              <a:chExt cx="1358640" cy="360684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6343560" y="1212840"/>
                <a:ext cx="864360" cy="864360"/>
                <a:chOff x="6343560" y="1212840"/>
                <a:chExt cx="864360" cy="86436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653160" y="1212840"/>
                  <a:ext cx="0" cy="86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6343560" y="1769040"/>
                  <a:ext cx="86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343560" y="3954960"/>
                <a:ext cx="864360" cy="864360"/>
                <a:chOff x="6343560" y="3954960"/>
                <a:chExt cx="864360" cy="8643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653160" y="3954960"/>
                  <a:ext cx="0" cy="86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>
                  <a:off x="6343560" y="4511160"/>
                  <a:ext cx="86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6343560" y="2583360"/>
                <a:ext cx="864360" cy="864000"/>
                <a:chOff x="6343560" y="2583360"/>
                <a:chExt cx="864360" cy="8640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653160" y="2583360"/>
                  <a:ext cx="0" cy="86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>
                  <a:off x="6343560" y="3139200"/>
                  <a:ext cx="86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 flipH="1">
                <a:off x="5848920" y="1212840"/>
                <a:ext cx="494280" cy="3606840"/>
              </a:xfrm>
              <a:custGeom>
                <a:avLst/>
                <a:gdLst>
                  <a:gd name="textAreaLeft" fmla="*/ -360 w 494280"/>
                  <a:gd name="textAreaRight" fmla="*/ 178200 w 494280"/>
                  <a:gd name="textAreaTop" fmla="*/ 93960 h 3606840"/>
                  <a:gd name="textAreaBottom" fmla="*/ 3512880 h 360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96080" y="135540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856560" y="3297240"/>
                <a:ext cx="60120" cy="60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856560" y="2914560"/>
                <a:ext cx="60120" cy="601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919560" y="1478520"/>
                <a:ext cx="60120" cy="601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474960" y="42800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35600" y="4280040"/>
                <a:ext cx="60120" cy="601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6653160" y="1415520"/>
                <a:ext cx="142200" cy="35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6653520" y="1539000"/>
                <a:ext cx="265680" cy="23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6653520" y="2975040"/>
                <a:ext cx="203040" cy="16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653520" y="3139560"/>
                <a:ext cx="203040" cy="15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535080" y="4340520"/>
                <a:ext cx="118080" cy="17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6653520" y="4340520"/>
                <a:ext cx="82080" cy="17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801400">
                <a:off x="6526800" y="2990160"/>
                <a:ext cx="348480" cy="27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 rot="13134000">
                <a:off x="6565320" y="4374000"/>
                <a:ext cx="163440" cy="15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722400">
                <a:off x="6687000" y="1526040"/>
                <a:ext cx="1414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582" y="230"/>
                    </a:moveTo>
                    <a:arcTo wR="10800" hR="10800" stAng="-6110956" swAng="672560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582" y="230"/>
                    </a:moveTo>
                    <a:arcTo wR="10800" hR="10800" stAng="-6110956" swAng="6725605"/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884640" y="1212840"/>
                <a:ext cx="27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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930720" y="3171600"/>
                <a:ext cx="27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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76200" y="4017960"/>
                <a:ext cx="27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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466560" y="5086440"/>
            <a:ext cx="801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phase shift 0 </a:t>
            </a:r>
            <a:r>
              <a:rPr b="0" lang="en-US" sz="2400" spc="-1" strike="noStrike">
                <a:solidFill>
                  <a:srgbClr val="000000"/>
                </a:solidFill>
                <a:latin typeface="MS LineDraw"/>
                <a:ea typeface="MS LineDraw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000000"/>
                </a:solidFill>
                <a:latin typeface="MS LineDraw"/>
                <a:ea typeface="MS LineDraw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 =&gt; rotation of FFT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-roto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667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Times New Roman"/>
              </a:rPr>
              <a:t>The Effect of Frequency Off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1360" y="1134360"/>
            <a:ext cx="83786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X cl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X cl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S LineDraw"/>
                <a:ea typeface="MS LineDraw"/>
              </a:rPr>
              <a:t>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 =&gt; frequency 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iming error increases linear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tercarrier interference (ICI) i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er DMT symbols are more sensitive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t minimized the TX and RX clocks will desynchron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838600" y="3413160"/>
            <a:ext cx="3114000" cy="2126520"/>
            <a:chOff x="2838600" y="3413160"/>
            <a:chExt cx="3114000" cy="2126520"/>
          </a:xfrm>
        </p:grpSpPr>
        <p:sp>
          <p:nvSpPr>
            <p:cNvPr id="218" name=""/>
            <p:cNvSpPr/>
            <p:nvPr/>
          </p:nvSpPr>
          <p:spPr>
            <a:xfrm flipV="1">
              <a:off x="3105000" y="3600360"/>
              <a:ext cx="0" cy="16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95280" y="4476600"/>
              <a:ext cx="253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3095280" y="3657240"/>
              <a:ext cx="2285640" cy="819000"/>
              <a:chOff x="3095280" y="3657240"/>
              <a:chExt cx="2285640" cy="819000"/>
            </a:xfrm>
          </p:grpSpPr>
          <p:sp>
            <p:nvSpPr>
              <p:cNvPr id="221" name=""/>
              <p:cNvSpPr/>
              <p:nvPr/>
            </p:nvSpPr>
            <p:spPr>
              <a:xfrm flipV="1">
                <a:off x="3095280" y="3657240"/>
                <a:ext cx="2009520" cy="81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95280" y="3857400"/>
                <a:ext cx="228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3095280" y="4477320"/>
              <a:ext cx="2285640" cy="819000"/>
              <a:chOff x="3095280" y="4477320"/>
              <a:chExt cx="2285640" cy="819000"/>
            </a:xfrm>
          </p:grpSpPr>
          <p:sp>
            <p:nvSpPr>
              <p:cNvPr id="224" name=""/>
              <p:cNvSpPr/>
              <p:nvPr/>
            </p:nvSpPr>
            <p:spPr>
              <a:xfrm>
                <a:off x="3095280" y="4477320"/>
                <a:ext cx="2009520" cy="81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95280" y="5096160"/>
                <a:ext cx="228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5495760" y="4600440"/>
              <a:ext cx="456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81280" y="5295960"/>
              <a:ext cx="57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&gt;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81280" y="3413160"/>
              <a:ext cx="57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38600" y="3413160"/>
              <a:ext cx="266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38600" y="3809880"/>
              <a:ext cx="266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38600" y="5051160"/>
              <a:ext cx="266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4880" y="43527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47560" y="4476600"/>
              <a:ext cx="942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m</a:t>
              </a:r>
              <a:r>
                <a:rPr b="0" lang="en-US" sz="1600" spc="-1" strike="noStrike" baseline="30000">
                  <a:solidFill>
                    <a:srgbClr val="808080"/>
                  </a:solidFill>
                  <a:latin typeface="Times New Roman"/>
                </a:rPr>
                <a:t>th</a:t>
              </a: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 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86120" y="4476600"/>
              <a:ext cx="532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m 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667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Times New Roman"/>
              </a:rPr>
              <a:t>Basic PLL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1998720"/>
            <a:ext cx="876600" cy="66672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ase det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00640" y="3551400"/>
            <a:ext cx="1114200" cy="39024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14840" y="1646280"/>
            <a:ext cx="1295640" cy="1752480"/>
          </a:xfrm>
          <a:prstGeom prst="rect">
            <a:avLst/>
          </a:prstGeom>
          <a:solidFill>
            <a:srgbClr val="66ff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171600" y="37512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171960" y="265428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48240" y="2322360"/>
            <a:ext cx="21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772240" y="199836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72240" y="1998720"/>
            <a:ext cx="74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15280" y="1998720"/>
            <a:ext cx="0" cy="19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391440" y="2190600"/>
            <a:ext cx="257040" cy="276480"/>
            <a:chOff x="6391440" y="2190600"/>
            <a:chExt cx="257040" cy="276480"/>
          </a:xfrm>
        </p:grpSpPr>
        <p:sp>
          <p:nvSpPr>
            <p:cNvPr id="246" name=""/>
            <p:cNvSpPr/>
            <p:nvPr/>
          </p:nvSpPr>
          <p:spPr>
            <a:xfrm>
              <a:off x="6419880" y="2219400"/>
              <a:ext cx="200160" cy="190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91440" y="21906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657760" y="2674800"/>
            <a:ext cx="257040" cy="276480"/>
            <a:chOff x="5657760" y="2674800"/>
            <a:chExt cx="257040" cy="276480"/>
          </a:xfrm>
        </p:grpSpPr>
        <p:sp>
          <p:nvSpPr>
            <p:cNvPr id="249" name=""/>
            <p:cNvSpPr/>
            <p:nvPr/>
          </p:nvSpPr>
          <p:spPr>
            <a:xfrm>
              <a:off x="5686200" y="2703600"/>
              <a:ext cx="200160" cy="190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57760" y="2674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72240" y="2322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14960" y="2978280"/>
            <a:ext cx="247680" cy="29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05440" y="2789280"/>
            <a:ext cx="62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534000" y="2381040"/>
            <a:ext cx="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34000" y="278928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6362640" y="3112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772240" y="31129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772240" y="2894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20040" y="232236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429680" y="232236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514480" y="3751200"/>
            <a:ext cx="191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04920" y="231300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72240" y="2409840"/>
            <a:ext cx="4474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15160" y="1646280"/>
            <a:ext cx="247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28960" y="1833120"/>
            <a:ext cx="1228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19200" y="3751200"/>
            <a:ext cx="2210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+ 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vco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57480" y="2894040"/>
            <a:ext cx="2209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lo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T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57320" y="1819440"/>
            <a:ext cx="1962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lo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T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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67000" y="4685760"/>
            <a:ext cx="5343480" cy="12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requency 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- phase inc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has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667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Times New Roman"/>
              </a:rPr>
              <a:t>Single Pilot Synchro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1360" y="1107360"/>
            <a:ext cx="849312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il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sinusoid of a known mid-band frequency (ADSL ~ 64K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pass filtering achieved using the F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s a very accurate PLL reference input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X modem samples at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expe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ero-crossings =&gt; phase err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riance of the timing error can be estimated 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546880" y="4124160"/>
            <a:ext cx="2304360" cy="777240"/>
            <a:chOff x="5546880" y="4124160"/>
            <a:chExt cx="2304360" cy="777240"/>
          </a:xfrm>
        </p:grpSpPr>
        <p:sp>
          <p:nvSpPr>
            <p:cNvPr id="273" name=""/>
            <p:cNvSpPr/>
            <p:nvPr/>
          </p:nvSpPr>
          <p:spPr>
            <a:xfrm>
              <a:off x="6346800" y="4460760"/>
              <a:ext cx="150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N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46800" y="4460760"/>
              <a:ext cx="136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80320" y="4124160"/>
              <a:ext cx="2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27760" y="4276440"/>
              <a:ext cx="41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l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46880" y="4216320"/>
              <a:ext cx="50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441360" y="5263200"/>
            <a:ext cx="79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ck accuracy from 1-2% for ISDN down to 0.1% for AD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292400" y="3736800"/>
            <a:ext cx="2961720" cy="1527480"/>
            <a:chOff x="1292400" y="3736800"/>
            <a:chExt cx="2961720" cy="1527480"/>
          </a:xfrm>
        </p:grpSpPr>
        <p:sp>
          <p:nvSpPr>
            <p:cNvPr id="280" name=""/>
            <p:cNvSpPr/>
            <p:nvPr/>
          </p:nvSpPr>
          <p:spPr>
            <a:xfrm>
              <a:off x="1863720" y="3736800"/>
              <a:ext cx="0" cy="128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63720" y="5019840"/>
              <a:ext cx="208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68480" y="3952800"/>
              <a:ext cx="1666440" cy="965160"/>
            </a:xfrm>
            <a:custGeom>
              <a:avLst/>
              <a:gdLst/>
              <a:ahLst/>
              <a:rect l="l" t="t" r="r" b="b"/>
              <a:pathLst>
                <a:path w="1050" h="608">
                  <a:moveTo>
                    <a:pt x="0" y="608"/>
                  </a:moveTo>
                  <a:cubicBezTo>
                    <a:pt x="34" y="515"/>
                    <a:pt x="29" y="88"/>
                    <a:pt x="204" y="44"/>
                  </a:cubicBezTo>
                  <a:cubicBezTo>
                    <a:pt x="379" y="0"/>
                    <a:pt x="874" y="282"/>
                    <a:pt x="1050" y="3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06640" y="4917960"/>
              <a:ext cx="44748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92400" y="3736800"/>
              <a:ext cx="44748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N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92280" y="4013280"/>
              <a:ext cx="74160" cy="1006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11880" y="4608360"/>
              <a:ext cx="42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ilo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68440" y="4917960"/>
              <a:ext cx="44748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46520" y="3875040"/>
              <a:ext cx="84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ectr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667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Times New Roman"/>
              </a:rPr>
              <a:t>Phase Offset Cor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1225800"/>
            <a:ext cx="746136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L produces a sampling phase offset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gnal with timing err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+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&gt; V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j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complex rotation of (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car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, but not correct entirely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&gt; all samples have      different phase offset (wide-band sig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average of all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; more accurate for a shorter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18:56:57Z</dcterms:created>
  <dc:creator>Preferred Customer</dc:creator>
  <dc:description/>
  <dc:language>en-US</dc:language>
  <cp:lastModifiedBy>evansbl</cp:lastModifiedBy>
  <cp:lastPrinted>1999-10-01T15:24:38Z</cp:lastPrinted>
  <dcterms:modified xsi:type="dcterms:W3CDTF">2006-08-21T03:58:09Z</dcterms:modified>
  <cp:revision>92</cp:revision>
  <dc:subject/>
  <dc:title>No Slide Title</dc:title>
</cp:coreProperties>
</file>