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2B8-A1E5-486D-9570-71F1487A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9DE-E9FE-497E-855D-26FB2A2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7F4-56F5-4B2A-91BE-A59A0A22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766-9824-41F9-B771-A90BFB79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4E-B18A-4A9C-8165-647EF8A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592-B6DE-4E3B-9F61-AB6FE52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FA9-379D-42AC-9C80-4A52693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C3A-0F91-4675-9C7B-C98BCABA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FB2-F51D-4D4D-AB26-2B9B25D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1AB-0A92-4D04-AA32-B992B31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0D1-DA3E-469E-9572-F5ED30D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B4A-DCA6-48DA-B067-16BE1A56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7A12-4414-460D-84A6-FD643DE43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015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276360" cy="71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usoidal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to Digital Signal 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s an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ing and 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te Impulse Respon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ite Impulse Respon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on and Pulse Sh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S320C6000 Digital Signal Processors (DS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version – Par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Conversion – Par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Impair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Pulse Amplitude Modulation (P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ature Amplitude Modulation (QAM) 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M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SL 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alog Sinusoidal M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6240" y="1523520"/>
            <a:ext cx="33717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reless OFDM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pread Spectrum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dern D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tive 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gorithm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ystem-leve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for Midterm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ructional Staff/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rning Resour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olu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Theorem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sed Cosine 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ion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-Shaped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Quiz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Sequence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 Timing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pped Delay Line on C6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-Pass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AM vs. 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 Ways To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 to Fourier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ng Random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505320" y="3981600"/>
            <a:ext cx="3124080" cy="447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09600" y="8715240"/>
            <a:ext cx="28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talics means available on Web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228600" y="874224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1:25:50Z</dcterms:created>
  <dc:creator>bevans</dc:creator>
  <dc:description/>
  <dc:language>en-US</dc:language>
  <cp:lastModifiedBy>Brian Evans</cp:lastModifiedBy>
  <dcterms:modified xsi:type="dcterms:W3CDTF">2014-01-10T12:01:37Z</dcterms:modified>
  <cp:revision>40</cp:revision>
  <dc:subject/>
  <dc:title>Linear Systems and Signals</dc:title>
</cp:coreProperties>
</file>