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FC8-D43E-405C-A04E-AB0B04B7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01B-5CFC-4417-98B3-9C2D11B0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397-182C-48DC-8874-7646035C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326-704D-402B-9070-EDF50E7F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5CB-3286-46F3-A440-EB0A719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59C-4C3B-48D6-BFCE-A8B4AEA8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277-61CC-43D6-A954-411E294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1B8-31CB-4852-9AA9-1B26FA66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6F9-AA20-4E36-BE5B-25259E2B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6E7-E314-463F-AF2E-1E4A6C1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1CB-21B5-4FA3-A51E-01550D4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B64-BB38-4C05-A198-F1F5175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3EA-A77F-470F-85C0-76853584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3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Digital Signal Processing Labor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Electrical and Computer Enginee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in, TX 78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00200" y="489276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ans@ece.utexas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b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0040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76720" y="457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 445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0T21:25:50Z</dcterms:created>
  <dc:creator>bevans</dc:creator>
  <dc:description/>
  <dc:language>en-US</dc:language>
  <cp:lastModifiedBy>Brian Evans</cp:lastModifiedBy>
  <dcterms:modified xsi:type="dcterms:W3CDTF">2014-01-06T17:25:06Z</dcterms:modified>
  <cp:revision>27</cp:revision>
  <dc:subject/>
  <dc:title>Linear Systems and Signals</dc:title>
</cp:coreProperties>
</file>