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3968280"/>
            <a:ext cx="75182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137124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396828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396828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24206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4840" y="1371240"/>
            <a:ext cx="24206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7160" y="1371240"/>
            <a:ext cx="24206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3968280"/>
            <a:ext cx="24206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4840" y="3968280"/>
            <a:ext cx="24206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7160" y="3968280"/>
            <a:ext cx="24206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366876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1371240"/>
            <a:ext cx="366876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1444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1371240"/>
            <a:ext cx="366876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396828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366876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137124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396828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137124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3968280"/>
            <a:ext cx="75182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152280"/>
            <a:ext cx="8534160" cy="647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1360" y="514440"/>
            <a:ext cx="772128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lick to edit the outline text format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econd Outline Level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NewCenturySchl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Fourth Outline Level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NewCenturySchlb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Fifth Outline Level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NewCenturySchlb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ixth Outline Level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NewCenturySchlb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eventh Outline Level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026560" y="6324480"/>
            <a:ext cx="812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9-</a:t>
            </a:r>
            <a:fld id="{EC5C1E51-7605-40A9-9E8B-B8E5F2C679A8}" type="slidenum"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52280"/>
            <a:ext cx="8534160" cy="65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1360" y="800280"/>
            <a:ext cx="4622760" cy="177156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1000" y="799920"/>
            <a:ext cx="4927320" cy="1771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RODUCTION TO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TMS320C6000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LIW DSP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3124080"/>
            <a:ext cx="5105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CenturySchlbk"/>
              </a:rPr>
              <a:t>Prof. Brian L. Evan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NewCenturySchlbk"/>
              </a:rPr>
              <a:t>in collaboration with</a:t>
            </a:r>
            <a:br>
              <a:rPr sz="2000"/>
            </a:br>
            <a:r>
              <a:rPr b="0" lang="en-US" sz="2000" spc="-1" strike="noStrike">
                <a:solidFill>
                  <a:srgbClr val="cc00ff"/>
                </a:solidFill>
                <a:latin typeface="NewCenturySchlbk"/>
              </a:rPr>
              <a:t>Dr. Niranjan Damera-Venkata and</a:t>
            </a:r>
            <a:br>
              <a:rPr sz="2000"/>
            </a:br>
            <a:r>
              <a:rPr b="0" lang="en-US" sz="2000" spc="-1" strike="noStrike">
                <a:solidFill>
                  <a:srgbClr val="cc00ff"/>
                </a:solidFill>
                <a:latin typeface="NewCenturySchlbk"/>
              </a:rPr>
              <a:t>Mr. Magesh Valliappan</a:t>
            </a:r>
            <a:endParaRPr b="0" lang="en-US" sz="2000" spc="-1" strike="noStrike">
              <a:solidFill>
                <a:srgbClr val="0000ff"/>
              </a:solidFill>
              <a:latin typeface="NewCenturySchlbk"/>
            </a:endParaRPr>
          </a:p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Embedded Signal Processing Laboratory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The University of Texas at Austin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Austin, TX 78712-1084</a:t>
            </a:r>
            <a:endParaRPr b="0" lang="en-US" sz="2000" spc="-1" strike="noStrike">
              <a:solidFill>
                <a:srgbClr val="0000ff"/>
              </a:solidFill>
              <a:latin typeface="NewCenturySchlbk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NewCenturySchlbk"/>
              </a:rPr>
              <a:t>http://signal.ece.utexas.edu/</a:t>
            </a:r>
            <a:endParaRPr b="0" lang="en-US" sz="18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213372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19920" y="190512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00800" y="1523520"/>
            <a:ext cx="0" cy="381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97560" y="2131920"/>
            <a:ext cx="0" cy="384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251460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7467480" y="213372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077320" y="213372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2514600"/>
            <a:ext cx="6098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67480" y="2438280"/>
            <a:ext cx="6098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2362320"/>
            <a:ext cx="6098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2286000"/>
            <a:ext cx="6098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2209680"/>
            <a:ext cx="6098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010280" y="182844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10280" y="205740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238880" y="2133360"/>
            <a:ext cx="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1828800"/>
            <a:ext cx="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2920" y="1981080"/>
            <a:ext cx="75960" cy="76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2057400"/>
            <a:ext cx="75960" cy="76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57640" y="2057400"/>
            <a:ext cx="1522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238520" y="220968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1523880"/>
            <a:ext cx="1219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1523880"/>
            <a:ext cx="0" cy="381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238520" y="1905120"/>
            <a:ext cx="3812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3429000"/>
            <a:ext cx="838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477120" y="30481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543800" y="365760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8153280" y="365760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403848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43800" y="396252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388620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380988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43800" y="373392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086600" y="335232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358128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315200" y="3657240"/>
            <a:ext cx="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3352680"/>
            <a:ext cx="0" cy="152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238880" y="3504960"/>
            <a:ext cx="763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8880" y="3581280"/>
            <a:ext cx="76320" cy="76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933960" y="3581280"/>
            <a:ext cx="1522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314840" y="373392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3048120"/>
            <a:ext cx="12189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96080" y="30481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403848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933960" y="396252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358128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373392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388620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403848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5105520"/>
            <a:ext cx="8380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53080" y="4723920"/>
            <a:ext cx="0" cy="381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620120" y="533412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8229600" y="533412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571500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563868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556272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548640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541008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162920" y="495252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518148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5040" y="5262480"/>
            <a:ext cx="6480" cy="147600"/>
          </a:xfrm>
          <a:custGeom>
            <a:avLst/>
            <a:gdLst/>
            <a:ahLst/>
            <a:rect l="l" t="t" r="r" b="b"/>
            <a:pathLst>
              <a:path w="4" h="93">
                <a:moveTo>
                  <a:pt x="4" y="9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4952880"/>
            <a:ext cx="0" cy="152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315200" y="5105160"/>
            <a:ext cx="763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5181480"/>
            <a:ext cx="76320" cy="76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010280" y="5181480"/>
            <a:ext cx="1526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010280" y="5638680"/>
            <a:ext cx="6098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4724280"/>
            <a:ext cx="1219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4724280"/>
            <a:ext cx="0" cy="381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7391520" y="510552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5715000"/>
            <a:ext cx="6098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5257800"/>
            <a:ext cx="838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5410080"/>
            <a:ext cx="838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5562720"/>
            <a:ext cx="838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5715000"/>
            <a:ext cx="838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1141920"/>
            <a:ext cx="24382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NewCenturySchlbk"/>
              </a:rPr>
              <a:t>Accumulator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97400" y="4342320"/>
            <a:ext cx="20246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NewCenturySchlbk"/>
              </a:rPr>
              <a:t>Load-store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17240" y="2665800"/>
            <a:ext cx="24926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NewCenturySchlbk"/>
              </a:rPr>
              <a:t>Memory-register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548640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543800" y="5333760"/>
            <a:ext cx="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391160" y="5334120"/>
            <a:ext cx="1522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Vector Dot Product (Unoptimized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12520" y="1371600"/>
            <a:ext cx="7645320" cy="502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500"/>
              </a:spcBef>
              <a:spcAft>
                <a:spcPts val="6749"/>
              </a:spcAft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A vector dot product is common in filtering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tore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into an array of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 element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6000 peaks at 8 RISC instructions/cycl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or 300-MHz C6000, RISC instructions per sampl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2" marL="114300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300,000 for speech (sampling rate 8 kHz)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2" marL="114300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54,421 for audio CD (sampling rate 44.1 kHz)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2" marL="114300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230 for luminance NTSC digital vide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          (sampling rate 10,368 kHz)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Generally requires hand coding for peak performanc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352680" y="1981080"/>
                <a:ext cx="19749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Vector Dot Product (Unoptimized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73920" cy="502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Prologu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Initialize pointers: A5 for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, A6 for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, and A7 for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ove number of times to loop 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into A2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et accumulator (A4) to zero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Inner loop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Put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into A0 and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into A1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ultiply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ccumulate multiplication result into A4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Decrement loop counter (A2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ontinue inner loop if counter is not zero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Epilogu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tore the result into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6616800" y="3613320"/>
          <a:ext cx="1841400" cy="293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16800" y="3613320"/>
                    <a:ext cx="1841400" cy="29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6553080" y="2209680"/>
            <a:ext cx="198144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NewCenturySchlbk"/>
              </a:rPr>
              <a:t>Assuming coefficients &amp; data are 16 bits 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Vector Dot Product (Unoptimized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144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3913560"/>
            <a:ext cx="7315200" cy="2562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clear A4 and initialize pointers A5, A6, and A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VK  .S1  40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2 = 40 (loop cou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H  .D1  *A5++,A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0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, H = half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H  .D1  *A6++,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1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, H = half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PY  .M1  A0,A1,A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3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 *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.L1  A3,A4,A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+ 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 .L1  A2,1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decrement loop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[A2]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B    .S1  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if A2 != 0, then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H  .D1  A4,*A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*A7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2057400"/>
            <a:ext cx="0" cy="533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2590920"/>
            <a:ext cx="304560" cy="3045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123720" y="274320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95480" y="2666880"/>
            <a:ext cx="152640" cy="152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895480" y="2666880"/>
            <a:ext cx="152640" cy="152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437920" y="2743200"/>
            <a:ext cx="3812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33720" y="2590920"/>
            <a:ext cx="304560" cy="3045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0" y="2666880"/>
            <a:ext cx="0" cy="152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2743200"/>
            <a:ext cx="152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752120" y="2743200"/>
            <a:ext cx="3812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2590920"/>
            <a:ext cx="30456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600200" y="228564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00200" y="228600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0" y="228600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286000" y="1828800"/>
            <a:ext cx="1371600" cy="228600"/>
            <a:chOff x="2286000" y="1828800"/>
            <a:chExt cx="1371600" cy="228600"/>
          </a:xfrm>
        </p:grpSpPr>
        <p:sp>
          <p:nvSpPr>
            <p:cNvPr id="341" name=""/>
            <p:cNvSpPr/>
            <p:nvPr/>
          </p:nvSpPr>
          <p:spPr>
            <a:xfrm>
              <a:off x="2286000" y="1828800"/>
              <a:ext cx="137160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14600" y="182880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182880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71800" y="182880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00400" y="1828800"/>
              <a:ext cx="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29000" y="182880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809880" y="2057400"/>
            <a:ext cx="228600" cy="1371600"/>
            <a:chOff x="3809880" y="2057400"/>
            <a:chExt cx="228600" cy="1371600"/>
          </a:xfrm>
        </p:grpSpPr>
        <p:sp>
          <p:nvSpPr>
            <p:cNvPr id="348" name=""/>
            <p:cNvSpPr/>
            <p:nvPr/>
          </p:nvSpPr>
          <p:spPr>
            <a:xfrm rot="16200000">
              <a:off x="3238200" y="2628720"/>
              <a:ext cx="137160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809880" y="3198960"/>
              <a:ext cx="2286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09880" y="297180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809880" y="2741760"/>
              <a:ext cx="2286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09880" y="251460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3809880" y="2284560"/>
              <a:ext cx="2286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828800" y="1370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NewCenturySchlbk"/>
              </a:rPr>
              <a:t>Coefficients a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50800" y="251388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NewCenturySchlbk"/>
              </a:rPr>
              <a:t>Data 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19520" y="220968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57600" y="2590920"/>
            <a:ext cx="0" cy="30456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8080" y="335196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NewCenturySchlbk"/>
              </a:rPr>
              <a:t>Using A data path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324480" y="1073160"/>
          <a:ext cx="1851120" cy="304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073160"/>
                    <a:ext cx="185112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Vector Dot Product (Unoptimiz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12520" y="1371240"/>
            <a:ext cx="7721640" cy="497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MoVeKonstant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VK  .S 40,A2 ; A2 = 40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ower 16 bits of A2 are loaded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onditional branch 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[condition]  B   .S  loop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[A2] means to execute instruction if A2 != 0 (same as C language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Only A1, A2, B0, B1, and B2 can be used (not symmetric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Loading register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  .D  *A5, A0  ;Loads half-word into A0 from memory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Registers may be used as pointers (*A1++)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Implementation not efficient due to pipeline effect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PU operation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etch instruction from (on-chip) program memory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ecode instruction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xecute instruction including reading data values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Overlap operations to increase performanc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Pipeline CPU operations to increase clock speed over a sequential implementation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eparate parallel functional unit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Peripheral interfaces for I/O do not burden CPU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1714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14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14400" y="371484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14400" y="3600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2680" y="3600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43200" y="3600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33720" y="3600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3600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52680" y="20001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5268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1886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3880" y="42861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23880" y="4172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2520" y="4172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352680" y="4172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43200" y="4172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33720" y="4172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14400" y="4000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144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3526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7432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337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238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45720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6252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526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4320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372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14400" y="257184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14400" y="245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52680" y="245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43200" y="245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245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523880" y="245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3880" y="28195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238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625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4320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337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932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14400" y="5486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1440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4320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3372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2388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2880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3828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812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2388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219320" y="577224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1932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5760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4812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82880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3372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74320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5268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2880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23880" y="6058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526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4320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13372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4382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812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65760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05520" y="3429000"/>
            <a:ext cx="3429000" cy="276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NewCenturySchlbk"/>
              </a:rPr>
              <a:t>Managing Pip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NewCenturySchl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compiler or programmer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  (TMS320C6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NewCenturySchl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pipeline interlocking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  in processor (TMS320C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NewCenturySchl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hardware instruction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 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1360" y="1219320"/>
            <a:ext cx="35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equential</a:t>
            </a:r>
            <a:r>
              <a:rPr b="0" lang="en-US" sz="24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NewCenturySchlbk"/>
              </a:rPr>
              <a:t>(Motorola 56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3920" y="2057400"/>
            <a:ext cx="51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Pipelined</a:t>
            </a:r>
            <a:r>
              <a:rPr b="0" lang="en-US" sz="24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NewCenturySchlbk"/>
              </a:rPr>
              <a:t>(Most conventional DSP process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81560" y="320040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uperscalar</a:t>
            </a:r>
            <a:r>
              <a:rPr b="0" lang="en-US" sz="24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NewCenturySchlbk"/>
              </a:rPr>
              <a:t>(Pentium, MI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54560" y="4884840"/>
            <a:ext cx="40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uperpipelined</a:t>
            </a:r>
            <a:r>
              <a:rPr b="0" lang="en-US" sz="2400" spc="-1" strike="noStrike">
                <a:solidFill>
                  <a:srgbClr val="cc00ff"/>
                </a:solidFill>
                <a:latin typeface="NewCenturySchlbk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NewCenturySchlbk"/>
              </a:rPr>
              <a:t>(TMS320C6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31440" y="297108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NewCenturySchlbk"/>
              </a:rPr>
              <a:t>Fe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162880" y="2970720"/>
            <a:ext cx="3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743200" y="2971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NewCenturySchlbk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3240" y="297108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0" lang="en-US" sz="1200" spc="-1" strike="noStrike">
                <a:solidFill>
                  <a:srgbClr val="cc9900"/>
                </a:solidFill>
                <a:latin typeface="NewCenturySchlbk"/>
              </a:rPr>
              <a:t>Exe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29710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NewCenturySchlbk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531440" y="617148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NewCenturySchlbk"/>
              </a:rPr>
              <a:t>Fe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61714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NewCenturySchlbk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904840" y="617148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CenturySchlbk"/>
              </a:rPr>
              <a:t>   </a:t>
            </a:r>
            <a:r>
              <a:rPr b="0" lang="en-US" sz="1200" spc="-1" strike="noStrike">
                <a:solidFill>
                  <a:srgbClr val="cc9900"/>
                </a:solidFill>
                <a:latin typeface="NewCenturySchlbk"/>
              </a:rPr>
              <a:t>Exe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45640" y="182808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NewCenturySchlbk"/>
              </a:rPr>
              <a:t>Fe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057400" y="1828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NewCenturySchlbk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557440" y="182808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0" lang="en-US" sz="1200" spc="-1" strike="noStrike">
                <a:solidFill>
                  <a:srgbClr val="cc9900"/>
                </a:solidFill>
                <a:latin typeface="NewCenturySchlbk"/>
              </a:rPr>
              <a:t>Exe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95280" y="18280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NewCenturySchlbk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531440" y="472356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NewCenturySchlbk"/>
              </a:rPr>
              <a:t>Fe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743200" y="47235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NewCenturySchlbk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243240" y="472356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0" lang="en-US" sz="1200" spc="-1" strike="noStrike">
                <a:solidFill>
                  <a:srgbClr val="cc9900"/>
                </a:solidFill>
                <a:latin typeface="NewCenturySchlbk"/>
              </a:rPr>
              <a:t>Exe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057400" y="47235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NewCenturySchlbk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MS320C6000 Pipelin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One instruction cycle every clock cycl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Deep pipelin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7-11 stages in C62x: fetch 4, decode 2, execute 1-5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7-16 stages in C67x: fetch 4, decode 2, execute 1-10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If a branch is in the pipeline, interrupts are disabled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void branches by using conditional execution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No hardware protection against pipeline hazard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35480" indent="-28296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ompiler and assembler must prevent pipeline hazard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Dispatches instructions in packet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gram Fetch (F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400800" y="2057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18600" cy="4972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Program fetching consists of 4 phase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Generate fetch address (FG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end address to memory (FS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Wait for data ready (FW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Read opcode (FR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Fetch packet consists of 8 32-bit instruction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465" name=""/>
          <p:cNvSpPr/>
          <p:nvPr/>
        </p:nvSpPr>
        <p:spPr>
          <a:xfrm>
            <a:off x="4648320" y="4343400"/>
            <a:ext cx="121896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6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5334120"/>
            <a:ext cx="121932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276720" y="5562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144756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1447920" y="4800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447920" y="4800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48320" y="54100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87840" y="556164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13000" y="5866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95440" y="434232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e Stage (D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057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518240" cy="4972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Decode stage consists of two phase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Dispatch instruction to functional unit (DP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Instruction decoded at functional unit (DC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478" name=""/>
          <p:cNvSpPr/>
          <p:nvPr/>
        </p:nvSpPr>
        <p:spPr>
          <a:xfrm>
            <a:off x="4648320" y="4343400"/>
            <a:ext cx="121896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6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57400" y="5334120"/>
            <a:ext cx="121932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276720" y="5562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44756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447920" y="4800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4800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8320" y="54100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87840" y="556164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13000" y="5866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95440" y="434232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81480" y="434340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4800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87120" y="44186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ecute Stage (E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400800" y="2057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905120" y="1370160"/>
          <a:ext cx="5297400" cy="180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370160"/>
                    <a:ext cx="5297400" cy="18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1905120" y="3174840"/>
          <a:ext cx="5197320" cy="3192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174840"/>
                    <a:ext cx="519732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6000 instruction set architecture review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Vector dot product exampl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Pipelining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Finite impulse response filtering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Vector dot product exampl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onclusion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ctor Dot Product with Pipeline Effec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5144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62520" y="5181480"/>
            <a:ext cx="10666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962520" y="54864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4495680" y="54100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95680" y="4038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1371960"/>
            <a:ext cx="7315200" cy="2562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clear A4 and initialize pointers A5, A6, and A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VK  .S1  40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2 = 40 (loop cou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H  .D1  *A5++,A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0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, H = half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H  .D1  *A6++,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1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, H = half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PY  .M1  A0,A1,A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3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 *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.L1  A3,A4,A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+ 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 .L1  A2,1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decrement loop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A2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.S1  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if A2 != 0, then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H  .D1  A4,*A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*A7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6480" y="515088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NewCenturySchlbk"/>
              </a:rPr>
              <a:t>Load has a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NewCenturySchlbk"/>
              </a:rPr>
              <a:t>delay of four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66960" y="4465080"/>
            <a:ext cx="22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NewCenturySchlbk"/>
              </a:rPr>
              <a:t>Multiplication has a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NewCenturySchlbk"/>
              </a:rPr>
              <a:t>delay of 1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7200" y="2362320"/>
            <a:ext cx="60948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57200" y="2361960"/>
            <a:ext cx="0" cy="29718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457200" y="5334120"/>
            <a:ext cx="4572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85800" y="2590920"/>
            <a:ext cx="0" cy="2133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472428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259092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etch packe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65040" y="31543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2039760"/>
            <a:ext cx="838440" cy="3785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V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NewCenturySchlbk"/>
              </a:rPr>
              <a:t>1-4</a:t>
            </a: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520" y="159912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NewCenturySchlbk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52680" y="1599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54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7010280" y="1523520"/>
            <a:ext cx="4572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19320" y="2055960"/>
            <a:ext cx="1066680" cy="3722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68520" y="159912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86000" y="2041200"/>
            <a:ext cx="914400" cy="3753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693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3600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2744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1888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26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0040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114800" y="2046240"/>
            <a:ext cx="99072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105520" y="2046240"/>
            <a:ext cx="99036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343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8487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28800" y="6095160"/>
            <a:ext cx="29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ime (t) = 4 clock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65040" y="31543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0880" y="2035080"/>
            <a:ext cx="838440" cy="3794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(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NewCenturySchlbk"/>
              </a:rPr>
              <a:t>2-5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3520" y="159912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NewCenturySchlbk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52680" y="1599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454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7010280" y="1523520"/>
            <a:ext cx="4572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219320" y="2040120"/>
            <a:ext cx="1066680" cy="375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V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68520" y="159912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86000" y="2041200"/>
            <a:ext cx="914400" cy="3753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3693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600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2744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1888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026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0040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14800" y="2046240"/>
            <a:ext cx="99072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2046240"/>
            <a:ext cx="99036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199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9343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8487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28800" y="6095160"/>
            <a:ext cx="29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ime (t) = 5 clock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65040" y="31543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0880" y="2035080"/>
            <a:ext cx="838440" cy="3794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(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NewCenturySchlbk"/>
              </a:rPr>
              <a:t>2-5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159912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NewCenturySchlbk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52680" y="1599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454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7010280" y="1523520"/>
            <a:ext cx="4572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219320" y="2040120"/>
            <a:ext cx="1066680" cy="375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468520" y="159912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286000" y="2041200"/>
            <a:ext cx="914400" cy="3753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V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693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600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2744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1888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026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0040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114800" y="2046240"/>
            <a:ext cx="99072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05520" y="2046240"/>
            <a:ext cx="99036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199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9343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8487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928800" y="6095160"/>
            <a:ext cx="29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ime (t) = 6 clock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ecute (E1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65040" y="31543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0880" y="2035080"/>
            <a:ext cx="838440" cy="3794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(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NewCenturySchlbk"/>
              </a:rPr>
              <a:t>2-5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3520" y="159912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NewCenturySchlbk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552680" y="1599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454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010280" y="1523520"/>
            <a:ext cx="4572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2040120"/>
            <a:ext cx="1066680" cy="375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68520" y="159912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86000" y="2041200"/>
            <a:ext cx="914400" cy="3753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3693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600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744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1888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026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0040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V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14800" y="2046240"/>
            <a:ext cx="99072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05520" y="2046240"/>
            <a:ext cx="99036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199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9343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8487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28800" y="6095160"/>
            <a:ext cx="29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ime (t) = 7 clock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ecute (MVK done LDH in E1)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5040" y="31543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2035080"/>
            <a:ext cx="838440" cy="3794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(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NewCenturySchlbk"/>
              </a:rPr>
              <a:t>2-5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3520" y="159912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NewCenturySchlbk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52680" y="1599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54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7010280" y="1523520"/>
            <a:ext cx="4572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219320" y="2040120"/>
            <a:ext cx="1066680" cy="375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68520" y="159912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86000" y="2041200"/>
            <a:ext cx="914400" cy="3753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3693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600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2744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1888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026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0040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14800" y="2046240"/>
            <a:ext cx="99072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5520" y="2046240"/>
            <a:ext cx="99036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0199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9343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487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28800" y="6095160"/>
            <a:ext cx="29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ime (t) = 8 clock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91120" y="251460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078880" y="21628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VK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ctor Dot Product with Pipeline Effec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8080" y="1524960"/>
            <a:ext cx="7315200" cy="3385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clear A4 and initialize pointers A5, A6, and A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VK  .S1  40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2 = 40 (loop cou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H  .D1  *A5++,A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0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H  .D1  *A6++,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1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NOP 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PY  .M1  A0,A1,A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3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 *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.L1  A3,A4,A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+ 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 .L1  A2,1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decrement loop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A2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.S1  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if A2 != 0, then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NOP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H  .D1  A4,*A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*A7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257840" y="5180760"/>
            <a:ext cx="64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Assembler will automatically insert NOP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29560" y="5637960"/>
            <a:ext cx="610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Assembler can also make sequential code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ptimized Vector Dot Product on the C600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972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plit summation into two summation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Prologu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Initialize pointers: A5 for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, B6 for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, A7 for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ove number of times to loop 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divided by 2 into A2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Inner loop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Put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in A0 an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+1) in A1 (</a:t>
            </a:r>
            <a:r>
              <a:rPr b="1" i="1" lang="en-US" sz="2000" spc="-1" strike="noStrike">
                <a:solidFill>
                  <a:srgbClr val="cc00ff"/>
                </a:solidFill>
                <a:latin typeface="NewCenturySchlbk"/>
              </a:rPr>
              <a:t>packed dat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ultiply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ccumulate even (odd) index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erms in A4 (B4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Decrement loop counter (A2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tore result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5943600" y="3048120"/>
          <a:ext cx="2629080" cy="35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3048120"/>
                    <a:ext cx="262908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"/>
          <p:cNvSpPr/>
          <p:nvPr/>
        </p:nvSpPr>
        <p:spPr>
          <a:xfrm>
            <a:off x="6629400" y="1440000"/>
            <a:ext cx="175248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NewCenturySchlbk"/>
              </a:rPr>
              <a:t>16-bit data/ coeffic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 Filter Implementation on the C600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38080" y="1377720"/>
            <a:ext cx="7543800" cy="448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VK  .S1 0x0001,AM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modulo block size 2^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VKH .S1 0x4000,AMR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modulo addr register B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VK  .S2 2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2 = 2 (four-tap fil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ERO .L1 A4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initialize accum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ERO .L2 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initialize pointers A5, B6, and A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W  .D1  *A5++,A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load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 and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+1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LDW  .D2  *B6++,B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load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 and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+1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PY  .M1X A0,B1,A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3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 *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MPYH .M2X A0,B1,B3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B3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+1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 *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+1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.L1  A3,A4,A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even(n)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+= 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DD  .L2  B3,B4,B4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odd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n) += 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A2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 .S1  A2,1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decrement loop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[A2]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B    .S2  fi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if A2 != 0, then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.L1  A4,B4,A4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odd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+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e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H  .D1  A4,*A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*A7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55720" y="5942520"/>
            <a:ext cx="75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NewCenturySchlbk"/>
              </a:rPr>
              <a:t>Throughput of two multiply-accumulates per instruction cycle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00800" y="2057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onventional digital signal processor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High performance vs. power consumption/cost/volum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Excel at one-dimensional processing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Have instructions tailored to specific application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TMS320C6000 VLIW DSP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High performance vs. cost/volum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Excel at multidimensional signal processing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aximum of 8 RISC instructions per cycl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8120" y="1600200"/>
            <a:ext cx="5029200" cy="441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1828800"/>
            <a:ext cx="152424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1828800"/>
            <a:ext cx="152388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5257800"/>
            <a:ext cx="11430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905480"/>
            <a:ext cx="160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Program 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1980720"/>
            <a:ext cx="125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Data 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0800" y="2133360"/>
            <a:ext cx="10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or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251460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24816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27432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27432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248520" y="2971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9000" y="29718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2590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200040" y="2590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3048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2514600"/>
            <a:ext cx="75960" cy="228600"/>
          </a:xfrm>
          <a:prstGeom prst="upDownArrow">
            <a:avLst>
              <a:gd name="adj1" fmla="val 50000"/>
              <a:gd name="adj2" fmla="val 5991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6553080" y="289548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2819520"/>
            <a:ext cx="11430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3276720"/>
            <a:ext cx="11430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3733920"/>
            <a:ext cx="11430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4267080"/>
            <a:ext cx="114300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4724280"/>
            <a:ext cx="114300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6553080" y="335268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6553080" y="380988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6553080" y="441936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6553080" y="487656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6553080" y="533376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50000" y="2666520"/>
            <a:ext cx="15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Internal 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3200400"/>
            <a:ext cx="2286000" cy="22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502920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200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3200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20040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41148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3657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2640" y="502884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Control Re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6200000">
            <a:off x="4983480" y="394704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Regs (B0-B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 rot="16200000">
            <a:off x="3079800" y="394704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Regs (A0-A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20200" y="319932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9480" y="365652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32440" y="41137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24520" y="457092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81960" y="319932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D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81600" y="365652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94560" y="41137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6640" y="457092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297180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97180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26640" y="5485320"/>
            <a:ext cx="6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447920" y="2743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743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3429000"/>
            <a:ext cx="137160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971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438280" y="26668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13640" y="23612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438280" y="2895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16520" y="304704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07280" y="3735000"/>
            <a:ext cx="977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Ex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-Sy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-Asy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28400" y="2824560"/>
            <a:ext cx="1162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Seria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Host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Boot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Ti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Pwr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I TMS320C6000 DSP Architecture (Review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370520"/>
            <a:ext cx="1743120" cy="703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Simplified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6960" y="5499720"/>
            <a:ext cx="21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C6200 fixed 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C6400 fixed 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C6700 floating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Web resource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comp.dsp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 news group: FAQ </a:t>
            </a: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www.bdti.com/faq/dsp_faq.html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embedded processors and systems:</a:t>
            </a: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 www.eg3.com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on-line courses and DSP boards:</a:t>
            </a: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 www.techonline.com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Reference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R. Bhargava, R. Radhakrishnan, B. L. Evans, and L. K. John, “Evaluating MMX  Technology Using DSP and Multimedia Applications,” </a:t>
            </a:r>
            <a:r>
              <a:rPr b="0" i="1" lang="en-US" sz="1800" spc="-1" strike="noStrike">
                <a:solidFill>
                  <a:srgbClr val="000000"/>
                </a:solidFill>
                <a:latin typeface="NewCenturySchlbk"/>
              </a:rPr>
              <a:t>Proc. IEEE Sym. Microarchitecture</a:t>
            </a: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, pp. 37-46, 1998.</a:t>
            </a:r>
            <a:r>
              <a:rPr b="0" lang="en-US" sz="1800" spc="-1" strike="noStrike">
                <a:solidFill>
                  <a:srgbClr val="0000ff"/>
                </a:solidFill>
                <a:latin typeface="NewCenturySchlbk"/>
              </a:rPr>
              <a:t>http://www.ece.utexas.edu/~ravib/mmxdsp/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B. L. Evans, “EE345S Real-Time DSP Laboratory,” UT Austin. </a:t>
            </a:r>
            <a:r>
              <a:rPr b="0" lang="en-US" sz="1800" spc="-1" strike="noStrike">
                <a:solidFill>
                  <a:srgbClr val="0000ff"/>
                </a:solidFill>
                <a:latin typeface="NewCenturySchlbk"/>
              </a:rPr>
              <a:t>http://www.ece.utexas.edu/~bevans/courses/realtime/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B. L. Evans, “EE382C Embedded Software Systems,” UT Austin.</a:t>
            </a:r>
            <a:r>
              <a:rPr b="0" lang="en-US" sz="1800" spc="-1" strike="noStrike">
                <a:solidFill>
                  <a:srgbClr val="0000ff"/>
                </a:solidFill>
                <a:latin typeface="NewCenturySchlbk"/>
              </a:rPr>
              <a:t>http://www.ece.utexas.edu/~bevans/courses/ee382c/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85800" y="5144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 Filter on a TMS320C5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9480" y="3277080"/>
            <a:ext cx="8001000" cy="2837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EFFP .set 02000h       ; Program mem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     .set 037Fh        ; Newest data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AP .set 037FH        ; Oldest data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R AR3, #LASTAP    ; Point to oldest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PT #127            ; Repeat next inst. 126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CD COEFFP, *-     ; Compute one tap of F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A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CH Y,1            ; Store result -- note shif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038480" y="1523880"/>
            <a:ext cx="0" cy="533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86200" y="2057400"/>
            <a:ext cx="304920" cy="3049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190760" y="220968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62520" y="2133720"/>
            <a:ext cx="15228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962520" y="2133360"/>
            <a:ext cx="15228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3505320" y="220968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200400" y="2057400"/>
            <a:ext cx="304920" cy="3049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352680" y="2133720"/>
            <a:ext cx="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276720" y="2209680"/>
            <a:ext cx="1522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2819520" y="220968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514600" y="2057400"/>
            <a:ext cx="3049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2666880" y="175212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666880" y="175248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352680" y="175248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3352680" y="1295280"/>
            <a:ext cx="1371600" cy="228600"/>
            <a:chOff x="3352680" y="1295280"/>
            <a:chExt cx="1371600" cy="228600"/>
          </a:xfrm>
        </p:grpSpPr>
        <p:sp>
          <p:nvSpPr>
            <p:cNvPr id="659" name=""/>
            <p:cNvSpPr/>
            <p:nvPr/>
          </p:nvSpPr>
          <p:spPr>
            <a:xfrm>
              <a:off x="3352680" y="1295280"/>
              <a:ext cx="137160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81280" y="129528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09880" y="129528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38480" y="129528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67080" y="1295280"/>
              <a:ext cx="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95680" y="129528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4876920" y="1523880"/>
            <a:ext cx="228600" cy="1371600"/>
            <a:chOff x="4876920" y="1523880"/>
            <a:chExt cx="228600" cy="1371600"/>
          </a:xfrm>
        </p:grpSpPr>
        <p:sp>
          <p:nvSpPr>
            <p:cNvPr id="666" name=""/>
            <p:cNvSpPr/>
            <p:nvPr/>
          </p:nvSpPr>
          <p:spPr>
            <a:xfrm rot="16200000">
              <a:off x="4305240" y="2095200"/>
              <a:ext cx="137160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4876920" y="2665440"/>
              <a:ext cx="2286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876920" y="243828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876920" y="2208240"/>
              <a:ext cx="2286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76920" y="198108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4876920" y="1751040"/>
              <a:ext cx="2286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867320" y="12186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NewCenturySchlbk"/>
              </a:rPr>
              <a:t>Coeffic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200560" y="175176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NewCenturySchlbk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34120" y="2438280"/>
            <a:ext cx="304560" cy="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5638680" y="2133720"/>
            <a:ext cx="0" cy="30456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5334120" y="2133720"/>
            <a:ext cx="304560" cy="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86200" y="167652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724280" y="205740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90920" y="15228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NewCenturySchlbk"/>
              </a:rPr>
              <a:t>Supplemental Slides</a:t>
            </a: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MS320C6200 vs. StarCore S14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1374840" y="1292400"/>
          <a:ext cx="6502320" cy="452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1292400"/>
                    <a:ext cx="650232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"/>
          <p:cNvSpPr/>
          <p:nvPr/>
        </p:nvSpPr>
        <p:spPr>
          <a:xfrm>
            <a:off x="990720" y="5638320"/>
            <a:ext cx="7619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*   Does not count equivalent RISC operations for modulo addres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** On the C6200, there is a performance penalty for 40-bit accumulatio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90920" y="15228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NewCenturySchlbk"/>
              </a:rPr>
              <a:t>Supplemental Slides</a:t>
            </a: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I TMS320C6000 DSP Architecture (Review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Address 8/16/32 bit data + 64-bit data on C67x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Load-store RISC architecture with 2 data path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16 32-bit registers per data path (A0-A15 and B0-B15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48 instructions (C6200) and 79 instructions (C6700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Two parallel data paths with 32-bit RISC unit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ta unit - 32-bit address calculations (modulo, linear)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ultiplier unit - 16 bit x 16 bit with 32-bit result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ogical unit - 40-bit (saturation) arithmetic &amp; compare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hifter unit - 32-bit integer ALU and 40-bit shifter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onditionally executed based on registers A1-2 &amp; B0-2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an work with two 16-bit halfwords packed into 32 bit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I TMS320C6000 DSP Architecture (Review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.M multiplication unit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16 bit x 16 bit signed/unsigned packed/unpacked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.L arithmetic logic unit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omparisons and logic operations (and, or, and xor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aturation arithmetic and absolute value calculation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.S shifter unit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Bit manipulation (set, get, shift, rotate) and branching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ddition and packed addition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.D data unit 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oad/store to memory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ddition and pointer arithmetic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6000 Restrictions on Register Accesse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Function unit access to register file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Data path 1 (2) units read/write A (B) register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Data path 2 (1) can read one A (B) register per instruction cycle with one-cycle latency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wo simultaneous memory accesses cannot use registers of same register file as address pointer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imit of four 32-bit reads per register per inst. cycl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40-bit longs stored in adjacent even/odd register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Extended precision accumulation of 32-bit number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Only one 40-bit result can be written per cycle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40-bit read cannot occur in same cycle as 40-bit writ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4:1 performance penalty using 40-bit mod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ther C6000 Disadvantage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No ALU acceleration for bit stream manipulation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50% computation in MPEG-2 decoder spent on variable length decoding on C6200 in C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6400 direct memory access controllers shred bit streams (for video conferencing &amp; wireless basestations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Branch in pipeline disables interrupts: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Avoid branches by using conditional execution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No hardware protection against pipeline hazards: 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Programmer and tools must guard against it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Must emulate many conventional DSP feature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No hardware looping: use register/conditional branch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No bit-reversed addressing: use fast algorithm by Elster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No status register: only saturation bit given by .L unit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 Filter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219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NewCenturySchlbk"/>
              </a:rPr>
              <a:t>Difference equation (vector dot product)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y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) = 2 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) + 3 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 - 1) + 4 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 - 2) + 5 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 - 3)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203" name=""/>
          <p:cNvSpPr/>
          <p:nvPr/>
        </p:nvSpPr>
        <p:spPr>
          <a:xfrm>
            <a:off x="6943680" y="4587840"/>
            <a:ext cx="60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24320" y="3505320"/>
            <a:ext cx="49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63680" y="43434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83000" y="43434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295280" y="3962520"/>
            <a:ext cx="1233360" cy="0"/>
            <a:chOff x="1295280" y="3962520"/>
            <a:chExt cx="1233360" cy="0"/>
          </a:xfrm>
        </p:grpSpPr>
        <p:sp>
          <p:nvSpPr>
            <p:cNvPr id="208" name=""/>
            <p:cNvSpPr/>
            <p:nvPr/>
          </p:nvSpPr>
          <p:spPr>
            <a:xfrm>
              <a:off x="1295280" y="3962520"/>
              <a:ext cx="12333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88480" y="3962520"/>
              <a:ext cx="246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752560" y="43434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86120" y="43434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23960" y="388620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38560" y="388620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334120"/>
            <a:ext cx="769608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5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NewCenturySchlbk"/>
              </a:rPr>
              <a:t>Dot product of inputs vector and coefficien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NewCenturySchlbk"/>
              </a:rPr>
              <a:t>Store input in circular buffer, coefficients in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17960" y="3580920"/>
            <a:ext cx="12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NewCenturySchlbk"/>
              </a:rPr>
              <a:t>Tapped</a:t>
            </a:r>
            <a:br>
              <a:rPr sz="1800"/>
            </a:br>
            <a:r>
              <a:rPr b="1" i="1" lang="en-US" sz="1800" spc="-1" strike="noStrike">
                <a:solidFill>
                  <a:srgbClr val="cc0000"/>
                </a:solidFill>
                <a:latin typeface="NewCenturySchlbk"/>
              </a:rPr>
              <a:t>delay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211640" y="2743200"/>
                <a:ext cx="279864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685800" y="2819520"/>
            <a:ext cx="335268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NewCenturySchlbk"/>
              </a:rPr>
              <a:t>Signal flow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388620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590920" y="5103720"/>
            <a:ext cx="1143000" cy="0"/>
            <a:chOff x="2590920" y="5103720"/>
            <a:chExt cx="1143000" cy="0"/>
          </a:xfrm>
        </p:grpSpPr>
        <p:sp>
          <p:nvSpPr>
            <p:cNvPr id="220" name=""/>
            <p:cNvSpPr/>
            <p:nvPr/>
          </p:nvSpPr>
          <p:spPr>
            <a:xfrm>
              <a:off x="2590920" y="5103720"/>
              <a:ext cx="1143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8120" y="5103720"/>
              <a:ext cx="228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462720" y="5105520"/>
            <a:ext cx="1233000" cy="0"/>
            <a:chOff x="6462720" y="5105520"/>
            <a:chExt cx="1233000" cy="0"/>
          </a:xfrm>
        </p:grpSpPr>
        <p:sp>
          <p:nvSpPr>
            <p:cNvPr id="223" name=""/>
            <p:cNvSpPr/>
            <p:nvPr/>
          </p:nvSpPr>
          <p:spPr>
            <a:xfrm>
              <a:off x="6462720" y="5105520"/>
              <a:ext cx="1233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55920" y="5105520"/>
              <a:ext cx="246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57800" y="5105520"/>
            <a:ext cx="914400" cy="0"/>
            <a:chOff x="5257800" y="5105520"/>
            <a:chExt cx="914400" cy="0"/>
          </a:xfrm>
        </p:grpSpPr>
        <p:sp>
          <p:nvSpPr>
            <p:cNvPr id="226" name=""/>
            <p:cNvSpPr/>
            <p:nvPr/>
          </p:nvSpPr>
          <p:spPr>
            <a:xfrm>
              <a:off x="5257800" y="5105520"/>
              <a:ext cx="9144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23560" y="5105520"/>
              <a:ext cx="1828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038480" y="5105520"/>
            <a:ext cx="914400" cy="0"/>
            <a:chOff x="4038480" y="5105520"/>
            <a:chExt cx="914400" cy="0"/>
          </a:xfrm>
        </p:grpSpPr>
        <p:sp>
          <p:nvSpPr>
            <p:cNvPr id="229" name=""/>
            <p:cNvSpPr/>
            <p:nvPr/>
          </p:nvSpPr>
          <p:spPr>
            <a:xfrm>
              <a:off x="4038480" y="5105520"/>
              <a:ext cx="9144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04240" y="5105520"/>
              <a:ext cx="1828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181480" y="3962520"/>
            <a:ext cx="304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19920" y="3962520"/>
            <a:ext cx="304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3733920"/>
            <a:ext cx="533520" cy="4838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0" lang="en-US" sz="2400" spc="-1" strike="noStrike" baseline="50000">
                <a:solidFill>
                  <a:srgbClr val="0000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66880" y="3733920"/>
            <a:ext cx="1143000" cy="483840"/>
            <a:chOff x="2666880" y="3733920"/>
            <a:chExt cx="1143000" cy="483840"/>
          </a:xfrm>
        </p:grpSpPr>
        <p:sp>
          <p:nvSpPr>
            <p:cNvPr id="235" name=""/>
            <p:cNvSpPr/>
            <p:nvPr/>
          </p:nvSpPr>
          <p:spPr>
            <a:xfrm>
              <a:off x="2666880" y="3962160"/>
              <a:ext cx="304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04960" y="3962160"/>
              <a:ext cx="304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1440" y="3733920"/>
              <a:ext cx="533520" cy="48384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z</a:t>
              </a:r>
              <a:r>
                <a:rPr b="0" lang="en-US" sz="2400" spc="-1" strike="noStrike" baseline="50000">
                  <a:solidFill>
                    <a:srgbClr val="0000ff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962520" y="3962520"/>
            <a:ext cx="304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3962520"/>
            <a:ext cx="2286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3733920"/>
            <a:ext cx="533520" cy="4838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0" lang="en-US" sz="2400" spc="-1" strike="noStrike" baseline="50000">
                <a:solidFill>
                  <a:srgbClr val="0000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3962520"/>
            <a:ext cx="0" cy="3808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172200" y="4343400"/>
            <a:ext cx="304920" cy="457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24480" y="4723560"/>
            <a:ext cx="0" cy="2286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4037760"/>
            <a:ext cx="0" cy="3049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438280" y="4343400"/>
            <a:ext cx="304920" cy="457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4723560"/>
            <a:ext cx="0" cy="381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3962520"/>
            <a:ext cx="0" cy="3808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733920" y="4343400"/>
            <a:ext cx="304560" cy="457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723560"/>
            <a:ext cx="0" cy="2286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520" y="3962520"/>
            <a:ext cx="0" cy="3808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952880" y="4343400"/>
            <a:ext cx="304920" cy="457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4723560"/>
            <a:ext cx="0" cy="2286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733920" y="4952880"/>
            <a:ext cx="304560" cy="304560"/>
            <a:chOff x="3733920" y="4952880"/>
            <a:chExt cx="304560" cy="304560"/>
          </a:xfrm>
        </p:grpSpPr>
        <p:sp>
          <p:nvSpPr>
            <p:cNvPr id="254" name=""/>
            <p:cNvSpPr/>
            <p:nvPr/>
          </p:nvSpPr>
          <p:spPr>
            <a:xfrm>
              <a:off x="3733920" y="4952880"/>
              <a:ext cx="304560" cy="3045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85840" y="5028840"/>
              <a:ext cx="0" cy="1526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09880" y="5105160"/>
              <a:ext cx="151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952880" y="4952880"/>
            <a:ext cx="304920" cy="304560"/>
            <a:chOff x="4952880" y="4952880"/>
            <a:chExt cx="304920" cy="304560"/>
          </a:xfrm>
        </p:grpSpPr>
        <p:sp>
          <p:nvSpPr>
            <p:cNvPr id="258" name=""/>
            <p:cNvSpPr/>
            <p:nvPr/>
          </p:nvSpPr>
          <p:spPr>
            <a:xfrm>
              <a:off x="4952880" y="4952880"/>
              <a:ext cx="304920" cy="3045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05160" y="5028840"/>
              <a:ext cx="0" cy="1526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29200" y="5105160"/>
              <a:ext cx="1522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172200" y="4952880"/>
            <a:ext cx="304920" cy="304560"/>
            <a:chOff x="6172200" y="4952880"/>
            <a:chExt cx="304920" cy="304560"/>
          </a:xfrm>
        </p:grpSpPr>
        <p:sp>
          <p:nvSpPr>
            <p:cNvPr id="262" name=""/>
            <p:cNvSpPr/>
            <p:nvPr/>
          </p:nvSpPr>
          <p:spPr>
            <a:xfrm>
              <a:off x="6172200" y="4952880"/>
              <a:ext cx="304920" cy="3045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24480" y="5028840"/>
              <a:ext cx="0" cy="1526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48520" y="5105160"/>
              <a:ext cx="1522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 Filter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Each tap require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etching data sampl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etching coefficient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etching operand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ultiplying two number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ccumulating multiplication result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Possibly updating delay line (see below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4419720"/>
            <a:ext cx="8153640" cy="1828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omputing an FIR tap in one instructio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wo data memory and one program memory ac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uto-increment or auto-decrement addressing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odulo addressing to implement delay line as circular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648320" y="1523160"/>
            <a:ext cx="4038480" cy="1296360"/>
            <a:chOff x="4648320" y="1523160"/>
            <a:chExt cx="4038480" cy="1296360"/>
          </a:xfrm>
        </p:grpSpPr>
        <p:sp>
          <p:nvSpPr>
            <p:cNvPr id="269" name=""/>
            <p:cNvSpPr/>
            <p:nvPr/>
          </p:nvSpPr>
          <p:spPr>
            <a:xfrm>
              <a:off x="4648320" y="1752480"/>
              <a:ext cx="6858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05520" y="1752480"/>
              <a:ext cx="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52880" y="1981080"/>
              <a:ext cx="304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105160" y="1981080"/>
              <a:ext cx="15228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52880" y="1981080"/>
              <a:ext cx="15264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34120" y="1523880"/>
              <a:ext cx="533160" cy="4572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05520" y="2286000"/>
              <a:ext cx="0" cy="380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67280" y="1752480"/>
              <a:ext cx="4572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95880" y="1752480"/>
              <a:ext cx="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43600" y="1981080"/>
              <a:ext cx="304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095880" y="1981080"/>
              <a:ext cx="15264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43600" y="1981080"/>
              <a:ext cx="15228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24480" y="1523880"/>
              <a:ext cx="533520" cy="4572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43600" y="2514600"/>
              <a:ext cx="304920" cy="3049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05520" y="2666880"/>
              <a:ext cx="838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95880" y="2590920"/>
              <a:ext cx="0" cy="152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19920" y="2666880"/>
              <a:ext cx="1522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58000" y="1752480"/>
              <a:ext cx="4572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1752480"/>
              <a:ext cx="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34320" y="1981080"/>
              <a:ext cx="3045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086240" y="1981080"/>
              <a:ext cx="15228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34320" y="1981080"/>
              <a:ext cx="15228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15200" y="1523880"/>
              <a:ext cx="533520" cy="4572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77320" y="1752480"/>
              <a:ext cx="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24680" y="1981080"/>
              <a:ext cx="304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076960" y="1981080"/>
              <a:ext cx="15228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24680" y="1981080"/>
              <a:ext cx="15264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77320" y="2286000"/>
              <a:ext cx="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4680" y="2514600"/>
              <a:ext cx="304920" cy="3049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77320" y="2590920"/>
              <a:ext cx="0" cy="152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01000" y="2666880"/>
              <a:ext cx="1522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86600" y="2286000"/>
              <a:ext cx="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2514600"/>
              <a:ext cx="304560" cy="3049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86600" y="2590920"/>
              <a:ext cx="0" cy="152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10280" y="2666880"/>
              <a:ext cx="1526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48520" y="2666880"/>
              <a:ext cx="6858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38880" y="2666880"/>
              <a:ext cx="6858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48720" y="1752480"/>
              <a:ext cx="2286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29600" y="2666880"/>
              <a:ext cx="4572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14480" y="1523160"/>
              <a:ext cx="4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NewCenturySchlbk"/>
                </a:rPr>
                <a:t>z</a:t>
              </a:r>
              <a:r>
                <a:rPr b="0" lang="en-US" sz="2000" spc="-1" strike="noStrike" baseline="30000">
                  <a:solidFill>
                    <a:srgbClr val="0000ff"/>
                  </a:solidFill>
                  <a:latin typeface="NewCenturySchlbk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24120" y="1523160"/>
              <a:ext cx="4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NewCenturySchlbk"/>
                </a:rPr>
                <a:t>z</a:t>
              </a:r>
              <a:r>
                <a:rPr b="0" lang="en-US" sz="2000" spc="-1" strike="noStrike" baseline="30000">
                  <a:solidFill>
                    <a:srgbClr val="0000ff"/>
                  </a:solidFill>
                  <a:latin typeface="NewCenturySchlbk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05200" y="1523160"/>
              <a:ext cx="4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NewCenturySchlbk"/>
                </a:rPr>
                <a:t>z</a:t>
              </a:r>
              <a:r>
                <a:rPr b="0" lang="en-US" sz="2000" spc="-1" strike="noStrike" baseline="30000">
                  <a:solidFill>
                    <a:srgbClr val="0000ff"/>
                  </a:solidFill>
                  <a:latin typeface="NewCenturySchlbk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858000" y="1066680"/>
            <a:ext cx="1066680" cy="2700000"/>
            <a:chOff x="6858000" y="1066680"/>
            <a:chExt cx="1066680" cy="2700000"/>
          </a:xfrm>
        </p:grpSpPr>
        <p:sp>
          <p:nvSpPr>
            <p:cNvPr id="313" name=""/>
            <p:cNvSpPr/>
            <p:nvPr/>
          </p:nvSpPr>
          <p:spPr>
            <a:xfrm>
              <a:off x="6858000" y="1066680"/>
              <a:ext cx="1066680" cy="2057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0" y="312408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NewCenturySchlbk"/>
                </a:rPr>
                <a:t>One t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5T16:57:09Z</dcterms:created>
  <dc:creator>cdi.ditc</dc:creator>
  <dc:description/>
  <dc:language>en-US</dc:language>
  <cp:lastModifiedBy>Brian L. Evans</cp:lastModifiedBy>
  <cp:lastPrinted>1999-02-18T05:07:20Z</cp:lastPrinted>
  <dcterms:modified xsi:type="dcterms:W3CDTF">2009-07-11T20:14:39Z</dcterms:modified>
  <cp:revision>481</cp:revision>
  <dc:subject/>
  <dc:title>DESIGN AND QUALITY ASSESSMENT OF FORWARD AND INVERSE ERROR DIFFUSION HALFTONING ALGORITHMS</dc:title>
</cp:coreProperties>
</file>